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Ave%20Mar%C3%ADa2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8D1-EAA7-47BB-86D2-A87DA5CF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3C9-0065-4BC6-9AF2-A88DF36E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1A6-5002-4F77-9F0F-58A5F429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0A1-AFBB-4BFF-9126-0479A274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41A-EC3D-4CBE-8206-CF49DE5A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819-E2E1-4E63-98B0-0280F924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0AC-0B96-49D1-9032-20CB59B2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DD9-5CCE-4DF2-B824-F250E5E7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E1B-5BC1-4912-B2DA-F043AA68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FE2-9D38-495F-BE7B-ED2814C7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74A-96D7-4BDC-8A0D-01F7532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CBF-3E2F-4673-AA27-B35A7BDA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72BE-6264-4408-AFC2-DF4B848B6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laser.wav" TargetMode="External"/><Relationship Id="rId3" Type="http://schemas.microsoft.com/office/2007/relationships/media" Target="file:///usr/lib/libreoffice/share/gallery/sounds/laser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Ave%20Mar&#237;a2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ff"/>
                </a:solidFill>
                <a:latin typeface="Garamond"/>
              </a:rPr>
              <a:t>Tal vez, éste sea un buen m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5" name="Ave%20Mar%C3%ADa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Garamond"/>
                <a:ea typeface="Times New Roman"/>
              </a:rPr>
              <a:t>Dios te salve Marí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llena eres de Graci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Garamond"/>
                <a:ea typeface="Times New Roman"/>
              </a:rPr>
              <a:t>el Señor está contig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Bendita tú eres entre todas las mujere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Garamond"/>
                <a:ea typeface="Times New Roman"/>
              </a:rPr>
              <a:t>y Bendito es el fruto de tu vientre, Jesús</a:t>
            </a:r>
            <a:r>
              <a:rPr b="0" i="1" lang="pt-BR" sz="4000" spc="-1" strike="noStrike">
                <a:solidFill>
                  <a:srgbClr val="ff3300"/>
                </a:solidFill>
                <a:latin typeface="Garamond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Santa María, Madre de Dio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Ruega por nosotros pecadores,</a:t>
            </a:r>
            <a:r>
              <a:rPr b="0" i="1" lang="pt-BR" sz="4000" spc="-1" strike="noStrike">
                <a:solidFill>
                  <a:srgbClr val="ff3300"/>
                </a:solidFill>
                <a:latin typeface="Garamond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ahora y en la hora de nuestra muer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Amén.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Rezar nos hace bie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Garamond"/>
                <a:ea typeface="Times New Roman"/>
              </a:rPr>
              <a:t>Escoge bien “a las” perso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66"/>
                </a:solidFill>
                <a:latin typeface="Garamond"/>
                <a:ea typeface="Times New Roman"/>
              </a:rPr>
              <a:t>para enviar esta nove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Ellas recibirán Luz y Fuerza divina!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35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Esta es una novena de la Madre Teres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que comenzó en 1952 y  nunca se ha ro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El día en que la recibas,  reza un Ave María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haz una petición espe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Verás que ocurre en cuatro días después de hacerla con fe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cc0000"/>
                </a:solidFill>
                <a:uFillTx/>
                <a:latin typeface="Garamond"/>
                <a:ea typeface="Times New Roman"/>
              </a:rPr>
              <a:t>Por favor</a:t>
            </a: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No rompas esta </a:t>
            </a:r>
            <a:r>
              <a:rPr b="1" i="1" lang="pt-BR" sz="4000" spc="-1" strike="noStrike">
                <a:solidFill>
                  <a:srgbClr val="cc0000"/>
                </a:solidFill>
                <a:latin typeface="Garamond"/>
                <a:ea typeface="Times New Roman"/>
              </a:rPr>
              <a:t>novena</a:t>
            </a:r>
            <a:r>
              <a:rPr b="0" i="1" lang="pt-BR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Garamond"/>
                <a:ea typeface="Times New Roman"/>
              </a:rPr>
              <a:t>Envíala a cuantas personas piensas que merecen recibirla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Garamond"/>
              </a:rPr>
              <a:t>QUE DIOS TE BENDIGA</a:t>
            </a:r>
            <a:r>
              <a:rPr b="0" i="1" lang="en-US" sz="4800" spc="-1" strike="noStrike">
                <a:solidFill>
                  <a:srgbClr val="cc0000"/>
                </a:solidFill>
                <a:latin typeface="Garamond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04920" y="58669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p:transition spd="slow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0:31:53Z</dcterms:created>
  <dc:creator>Cristian Ortiz</dc:creator>
  <dc:description/>
  <dc:language>en-US</dc:language>
  <cp:lastModifiedBy>Cecinas San Jorge S.A.</cp:lastModifiedBy>
  <dcterms:modified xsi:type="dcterms:W3CDTF">2007-11-14T12:05:28Z</dcterms:modified>
  <cp:revision>5</cp:revision>
  <dc:subject/>
  <dc:title>TAL VEZ SEA UN BUEN MOMENTO</dc:title>
</cp:coreProperties>
</file>