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Ave%20Mar%C3%ADa2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A1F-E4ED-4C02-96FC-1518CCB5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47B-0E43-4EE4-9270-4D1CD96C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BCC-E209-4D36-A834-F7D20919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455-8A4B-4346-BD3F-E3464436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8CE-2EDE-48B2-8B96-B681E3AC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CB7-1F5E-42EA-81CA-627FCCE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BC3-23FE-4EEA-B551-A0E44EFB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FE6-3CAC-4A8A-A164-320B6B1C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C94-FFD3-44BD-9A7F-823D9AB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06D-339C-486C-B7DA-6ABDE3D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ED2-DBF3-4600-A32D-B6BE9DD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578-351D-4D53-98B0-0E856667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D42B-5714-4FBD-A4AB-D13D1AE66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Ave%20Mar&#237;a2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Garamond"/>
              </a:rPr>
              <a:t>Tal vez, éste sea un buen m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5" name="Ave%20Mar%C3%ADa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Dios te salve Marí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llena eres de Graci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el Señor está contig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Bendita tú eres entre todas las mujer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y Bendito es el fruto de tu vientre, Jesús</a:t>
            </a:r>
            <a:r>
              <a:rPr b="0" i="1" lang="pt-BR" sz="4000" spc="-1" strike="noStrike">
                <a:solidFill>
                  <a:srgbClr val="ff3300"/>
                </a:solidFill>
                <a:latin typeface="Garamond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Santa María, Madre de Dio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Ruega por nosotros pecadores,</a:t>
            </a:r>
            <a:r>
              <a:rPr b="0" i="1" lang="pt-BR" sz="4000" spc="-1" strike="noStrike">
                <a:solidFill>
                  <a:srgbClr val="ff3300"/>
                </a:solidFill>
                <a:latin typeface="Garamond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ahora y en la hora de nuestra muer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Amén.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Rezar nos hace bie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Escoge bien “a las” perso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para enviar esta nove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Ellas recibirán Luz y Fuerza divina!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35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Esta es una novena de la Madre Teres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que comenzó en 1952 y  nunca se ha ro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El día en que la recibas,  reza un Ave María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haz una petición espe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Verás que ocurre en cuatro días después de hacerla con fe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cc0000"/>
                </a:solidFill>
                <a:uFillTx/>
                <a:latin typeface="Garamond"/>
                <a:ea typeface="Times New Roman"/>
              </a:rPr>
              <a:t>Por favor</a:t>
            </a: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No rompas esta </a:t>
            </a:r>
            <a:r>
              <a:rPr b="1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novena</a:t>
            </a: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Envíala a cuantas personas piensas que merecen recibirla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Garamond"/>
              </a:rPr>
              <a:t>QUE DIOS TE BENDIGA</a:t>
            </a:r>
            <a:r>
              <a:rPr b="0" i="1" lang="en-US" sz="4800" spc="-1" strike="noStrike">
                <a:solidFill>
                  <a:srgbClr val="cc0000"/>
                </a:solidFill>
                <a:latin typeface="Garamond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4920" y="5866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0:31:53Z</dcterms:created>
  <dc:creator>Cristian Ortiz</dc:creator>
  <dc:description/>
  <dc:language>en-US</dc:language>
  <cp:lastModifiedBy>Cecinas San Jorge S.A.</cp:lastModifiedBy>
  <dcterms:modified xsi:type="dcterms:W3CDTF">2007-11-14T12:05:28Z</dcterms:modified>
  <cp:revision>5</cp:revision>
  <dc:subject/>
  <dc:title>TAL VEZ SEA UN BUEN MOMENTO</dc:title>
</cp:coreProperties>
</file>