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ernesto-cortazar_-_italia.wav" ContentType="audio/x-wav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97D-2F1C-4428-9DA7-21EF583C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834-B411-4138-BA9C-060BA86E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91C3-9A21-4315-8DEB-6EEA7480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FB5-BE1C-4DE0-A337-4BFB98A9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670-436A-44E4-BF80-532D0D8B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5211-33EE-48A1-85C4-4D1CBE23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F5F4-09E2-49EF-9203-0AFC31E7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174-A721-4B68-BC23-FEA413C1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B354-1BE3-4F56-8BAC-E473F93C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C67-AEA4-4AE4-AA41-82F47EDA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D23E-1A34-4C40-A888-611E559A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831B-CF66-43BE-925C-0956F7F5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1236-A82F-4647-92B5-126DB416940E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audio" Target="../media/ernesto-cortazar_-_itali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laboutiquedelpowerpoint.net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www.laboutiquedelpowerpoint.net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typewriter-hammond-12-USA-1884"/>
          <p:cNvPicPr/>
          <p:nvPr/>
        </p:nvPicPr>
        <p:blipFill>
          <a:blip r:embed="rId1"/>
          <a:stretch/>
        </p:blipFill>
        <p:spPr>
          <a:xfrm>
            <a:off x="395280" y="119700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3348000" y="2205000"/>
            <a:ext cx="44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  <a:ea typeface="Tahoma"/>
              </a:rPr>
              <a:t>Curiosidades del idioma español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43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21265758_9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258920" y="1844640"/>
            <a:ext cx="65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Con nueve letras,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menstrual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es el vocablo más largo con solo dos sílabas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81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old_time_typewriters_640_04"/>
          <p:cNvPicPr/>
          <p:nvPr/>
        </p:nvPicPr>
        <p:blipFill>
          <a:blip r:embed="rId1"/>
          <a:stretch/>
        </p:blipFill>
        <p:spPr>
          <a:xfrm>
            <a:off x="1476360" y="189000"/>
            <a:ext cx="6180120" cy="6453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258920" y="184464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Mil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es el único número que no tiene ni o ni e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85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_396701137-4101257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3419640" y="6562800"/>
            <a:ext cx="2447640" cy="2952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826920" y="981000"/>
            <a:ext cx="7560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La palabra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pedigüeñería 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tiene los cuatro firuletes que un término puede tener en nuestro idioma: la virgulilla de la ñ, la diéresis sobre la ü, la tilde del acento y el punto sobre la i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90" name="8 Imagen" descr="firm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Maquinas de escribir mas antiguas del mundo_page42_image1"/>
          <p:cNvPicPr/>
          <p:nvPr/>
        </p:nvPicPr>
        <p:blipFill>
          <a:blip r:embed="rId1"/>
          <a:stretch/>
        </p:blipFill>
        <p:spPr>
          <a:xfrm>
            <a:off x="684360" y="907920"/>
            <a:ext cx="8135640" cy="4602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258920" y="2205000"/>
            <a:ext cx="65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La palabra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euforia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tiene las cinco vocales y sólo dos consonantes..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94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old_time_typewriters_640_08"/>
          <p:cNvPicPr/>
          <p:nvPr/>
        </p:nvPicPr>
        <p:blipFill>
          <a:blip r:embed="rId1"/>
          <a:stretch/>
        </p:blipFill>
        <p:spPr>
          <a:xfrm>
            <a:off x="755640" y="42840"/>
            <a:ext cx="7164360" cy="6815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900000" y="1484280"/>
            <a:ext cx="73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La palabra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Argentino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, solo puede ser transformada en ignorAnte (por suerte, el calificativo no es aplicable a la totalidad de los nativos !!!!)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98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large"/>
          <p:cNvPicPr/>
          <p:nvPr/>
        </p:nvPicPr>
        <p:blipFill>
          <a:blip r:embed="rId1"/>
          <a:stretch/>
        </p:blipFill>
        <p:spPr>
          <a:xfrm>
            <a:off x="468360" y="53964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332000" y="2133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La palabra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oía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tiene tres sílabas en tres letras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102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typewriter-frolio-7"/>
          <p:cNvPicPr/>
          <p:nvPr/>
        </p:nvPicPr>
        <p:blipFill>
          <a:blip r:embed="rId1"/>
          <a:stretch/>
        </p:blipFill>
        <p:spPr>
          <a:xfrm>
            <a:off x="140328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4875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258920" y="184464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El término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arte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es masculino en singular y femenino en plural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107" name="8 Imagen" descr="firm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old_time_typewriters_640_46"/>
          <p:cNvPicPr/>
          <p:nvPr/>
        </p:nvPicPr>
        <p:blipFill>
          <a:blip r:embed="rId1"/>
          <a:stretch/>
        </p:blipFill>
        <p:spPr>
          <a:xfrm>
            <a:off x="395280" y="-17640"/>
            <a:ext cx="8064360" cy="6875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258920" y="184464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Paralelepipédicos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: Consonantes y vocales alternadas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111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writing-mach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258920" y="1844640"/>
            <a:ext cx="65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Sarapes-separas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: distinto significado leída al derecho y al revés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115" name="8 Imagen" descr="firma.jpg"/>
          <p:cNvPicPr/>
          <p:nvPr/>
        </p:nvPicPr>
        <p:blipFill>
          <a:blip r:embed="rId2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old_time_typewriters_640_07"/>
          <p:cNvPicPr/>
          <p:nvPr/>
        </p:nvPicPr>
        <p:blipFill>
          <a:blip r:embed="rId1"/>
          <a:stretch/>
        </p:blipFill>
        <p:spPr>
          <a:xfrm>
            <a:off x="1763640" y="0"/>
            <a:ext cx="5569200" cy="64087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258920" y="1844640"/>
            <a:ext cx="65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Noveno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: tres silabas, si le quitas la del medio no cambia el significado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119" name="8 Imagen" descr="firma.jpg"/>
          <p:cNvPicPr/>
          <p:nvPr/>
        </p:nvPicPr>
        <p:blipFill>
          <a:blip r:embed="rId2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2 [640x480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332000" y="1773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doni MT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258920" y="2133720"/>
            <a:ext cx="6481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El vocablo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reconocer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se lee lo mismo de izquierda a derecha que viceversa.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0" lang="es-ES" sz="3200" spc="-1" strike="noStrike">
                <a:solidFill>
                  <a:srgbClr val="000000"/>
                </a:solidFill>
                <a:latin typeface="Bodoni MT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48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1305275526_66980439_1-Fotos-de--MAQUINA-DE-ESCRIBIR-remintong-12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258920" y="1413000"/>
            <a:ext cx="655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Entre los matices que distinguen a la lengua española figuran en un sitio relevante las curiosidades. 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123" name="8 Imagen" descr="firma.jpg"/>
          <p:cNvPicPr/>
          <p:nvPr/>
        </p:nvPicPr>
        <p:blipFill>
          <a:blip r:embed="rId2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nderwoodRhythmTouch"/>
          <p:cNvPicPr/>
          <p:nvPr/>
        </p:nvPicPr>
        <p:blipFill>
          <a:blip r:embed="rId1"/>
          <a:stretch/>
        </p:blipFill>
        <p:spPr>
          <a:xfrm>
            <a:off x="468360" y="252360"/>
            <a:ext cx="7775640" cy="6201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187280" y="1557360"/>
            <a:ext cx="6553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Pongo de muestra un caso de acentuación. Aquí se trata de una oración en la cual todas sus palabras - nueve en total - llevan tilde.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127" name="8 Imagen" descr="firma.jpg"/>
          <p:cNvPicPr/>
          <p:nvPr/>
        </p:nvPicPr>
        <p:blipFill>
          <a:blip r:embed="rId2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 [640x480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258920" y="1844640"/>
            <a:ext cx="655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«Tomás pidió públicamente perdón, disculpándose después muchísimo más íntimamente».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131" name="8 Imagen" descr="firma.jpg"/>
          <p:cNvPicPr/>
          <p:nvPr/>
        </p:nvPicPr>
        <p:blipFill>
          <a:blip r:embed="rId2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maquina-de-escribir-concentrica"/>
          <p:cNvPicPr/>
          <p:nvPr/>
        </p:nvPicPr>
        <p:blipFill>
          <a:blip r:embed="rId1"/>
          <a:stretch/>
        </p:blipFill>
        <p:spPr>
          <a:xfrm>
            <a:off x="1547640" y="60480"/>
            <a:ext cx="6070680" cy="6797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258920" y="357336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Microsoft Sans Serif"/>
              </a:rPr>
              <a:t>Adiós</a:t>
            </a:r>
            <a:r>
              <a:rPr b="0" lang="es-ES" sz="80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135" name="8 Imagen" descr="firma.jpg"/>
          <p:cNvPicPr/>
          <p:nvPr/>
        </p:nvPicPr>
        <p:blipFill>
          <a:blip r:embed="rId2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typewriter-hammond-12-USA-1884"/>
          <p:cNvPicPr/>
          <p:nvPr/>
        </p:nvPicPr>
        <p:blipFill>
          <a:blip r:embed="rId1"/>
          <a:stretch/>
        </p:blipFill>
        <p:spPr>
          <a:xfrm>
            <a:off x="0" y="0"/>
            <a:ext cx="514188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3"/>
          <p:cNvPicPr/>
          <p:nvPr/>
        </p:nvPicPr>
        <p:blipFill>
          <a:blip r:embed="rId2"/>
          <a:stretch/>
        </p:blipFill>
        <p:spPr>
          <a:xfrm>
            <a:off x="5148360" y="4869000"/>
            <a:ext cx="1241280" cy="17780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6119640" y="6093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icrosoft Sans Serif"/>
              </a:rPr>
              <a:t>EsterMarin</a:t>
            </a:r>
            <a:endParaRPr b="0" lang="en-US" sz="20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139" name="8 Imagen" descr="firma.jpg"/>
          <p:cNvPicPr/>
          <p:nvPr/>
        </p:nvPicPr>
        <p:blipFill>
          <a:blip r:embed="rId3"/>
          <a:stretch/>
        </p:blipFill>
        <p:spPr>
          <a:xfrm>
            <a:off x="3780000" y="6165720"/>
            <a:ext cx="1242720" cy="5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1 Imagen" descr="boutique63.jpg"/>
          <p:cNvPicPr/>
          <p:nvPr/>
        </p:nvPicPr>
        <p:blipFill>
          <a:blip r:embed="rId1"/>
          <a:stretch/>
        </p:blipFill>
        <p:spPr>
          <a:xfrm>
            <a:off x="1309680" y="985680"/>
            <a:ext cx="6524640" cy="48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old_time_typewriters_640_23"/>
          <p:cNvPicPr/>
          <p:nvPr/>
        </p:nvPicPr>
        <p:blipFill>
          <a:blip r:embed="rId1"/>
          <a:stretch/>
        </p:blipFill>
        <p:spPr>
          <a:xfrm>
            <a:off x="507960" y="1009800"/>
            <a:ext cx="8128080" cy="48384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0" lang="es-ES" sz="3200" spc="-1" strike="noStrike">
                <a:solidFill>
                  <a:srgbClr val="000000"/>
                </a:solidFill>
                <a:latin typeface="Bodoni MT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692360" y="1844640"/>
            <a:ext cx="576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En el término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centrifugado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s todas las letras son diferentes y ninguna se repite. </a:t>
            </a:r>
            <a:r>
              <a:rPr b="0" lang="es-ES" sz="3200" spc="-1" strike="noStrike">
                <a:solidFill>
                  <a:srgbClr val="000000"/>
                </a:solidFill>
                <a:latin typeface="Bodoni MT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52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 [1024x768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0" lang="es-ES" sz="3200" spc="-1" strike="noStrike">
                <a:solidFill>
                  <a:srgbClr val="000000"/>
                </a:solidFill>
                <a:latin typeface="Bodoni MT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031840" y="1757520"/>
            <a:ext cx="455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476360" y="2205000"/>
            <a:ext cx="619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En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aristocráticos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, cada letra aparece dos veces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57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3 [800x600]"/>
          <p:cNvPicPr/>
          <p:nvPr/>
        </p:nvPicPr>
        <p:blipFill>
          <a:blip r:embed="rId1"/>
          <a:stretch/>
        </p:blipFill>
        <p:spPr>
          <a:xfrm>
            <a:off x="684360" y="2114640"/>
            <a:ext cx="7619760" cy="4743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547640" y="1628640"/>
            <a:ext cx="6191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El vocablo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cinco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tiene a su vez cinco letras, coincidencia que no se registra en ningún otro número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61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272751926_91248227_1-VENDO-MAQUINA-DE-ESCRIBIR-MARCA-REMINGTON-empalme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979640" y="1700280"/>
            <a:ext cx="489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El término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corrección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tiene dos letras dobles..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65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old_time_typewriters_640_09"/>
          <p:cNvPicPr/>
          <p:nvPr/>
        </p:nvPicPr>
        <p:blipFill>
          <a:blip r:embed="rId1"/>
          <a:stretch/>
        </p:blipFill>
        <p:spPr>
          <a:xfrm>
            <a:off x="1547640" y="0"/>
            <a:ext cx="6021720" cy="6703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403280" y="1844640"/>
            <a:ext cx="626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Las palabras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ecuatorianos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y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aeronáuticos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poseen las mismas letras, pero en diferente orden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69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4727203_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55640" y="1125360"/>
            <a:ext cx="784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Con 23 letras, se ha establecido que la palabra 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electroencefalografista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es la más extensa de todas las aprobadas por la Real Academia Española de la Lengua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73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016"/>
          <p:cNvPicPr/>
          <p:nvPr/>
        </p:nvPicPr>
        <p:blipFill>
          <a:blip r:embed="rId1"/>
          <a:stretch/>
        </p:blipFill>
        <p:spPr>
          <a:xfrm>
            <a:off x="1258920" y="692280"/>
            <a:ext cx="6667560" cy="5543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403280" y="1557360"/>
            <a:ext cx="6553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El término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 estuve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contiene cuatro letras consecutivas por orden alfabético: stuv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77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8:12:32Z</dcterms:created>
  <dc:creator>ester</dc:creator>
  <dc:description/>
  <dc:language>en-US</dc:language>
  <cp:lastModifiedBy>Anita Dinamita</cp:lastModifiedBy>
  <dcterms:modified xsi:type="dcterms:W3CDTF">2013-07-12T21:41:28Z</dcterms:modified>
  <cp:revision>7</cp:revision>
  <dc:subject/>
  <dc:title>Diapositiva 1</dc:title>
</cp:coreProperties>
</file>