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wmf" ContentType="image/x-wmf"/>
  <Override PartName="/ppt/media/image8.wmf" ContentType="image/x-wmf"/>
  <Override PartName="/ppt/media/image7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4.wmf" ContentType="image/x-wmf"/>
  <Override PartName="/ppt/media/image3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4.jpeg" ContentType="image/jpeg"/>
  <Override PartName="/ppt/media/image16.wmf" ContentType="image/x-wmf"/>
  <Override PartName="/ppt/media/image2.gif" ContentType="image/gif"/>
  <Override PartName="/ppt/media/image13.wmf" ContentType="image/x-wmf"/>
  <Override PartName="/ppt/media/Som%20de%20Carrilhoes.wav" ContentType="audio/x-wav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9AB-08ED-47D8-BE70-A3471028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055-5F09-4BC4-B5AC-8C0378DE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8A3-BBD8-4D27-A788-81C78C5E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89A-1C02-43CF-9036-B8D84C06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C2C-D25E-4D27-940C-A010942E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693-E146-4699-A452-F9E1BBDD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DC1-FF4E-4924-9B2D-479166B7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DBA-7C10-4566-BEDD-177AAF15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4CE-4DE7-4FF7-BC8D-6C3A02E6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130-BFAB-44F4-A579-BF81210E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229-ACC0-4948-AA9C-C78E58EC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024-8907-45B1-9C9E-9A96ABA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E2AC-DAC8-4AF7-B118-346C8420A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audio" Target="../media/Som%20de%20Carrilho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277000">
            <a:off x="2776680" y="2622600"/>
            <a:ext cx="43812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Sylfaen"/>
              </a:rPr>
              <a:t>Cosas de Sexo</a:t>
            </a:r>
            <a:endParaRPr b="1" i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2143440" cy="1476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4" name="Som%20de%20Carrilho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32000" y="1125360"/>
            <a:ext cx="6858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Sylfaen"/>
              </a:rPr>
              <a:t>En Santa Cruz, Bolivia,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es ilegal para un hombre tener relaciones con una mujer y su hija al mismo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257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Sylfaen"/>
              </a:rPr>
              <a:t>(¡Y encima ese empleo en Guam es remunerado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88000" y="3213000"/>
            <a:ext cx="1451160" cy="182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145116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365200" cy="271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781200"/>
            <a:ext cx="63244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Maryland, E.E.U.U.,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los preservativos pueden ser vendidos en máquinas solamente en lugares donde se venden bebidas alcohólicas para el consumo en el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500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Sylfaen"/>
              </a:rPr>
              <a:t>Sin comentarios, son Yank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51280" y="4149720"/>
            <a:ext cx="1353960" cy="1390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3276720"/>
            <a:ext cx="1523880" cy="178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661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Sylfaen"/>
              </a:rPr>
              <a:t>(Sigo pensando en Guam... ¿Cómo hago para mandar el Currículum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5567400" cy="441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732720" y="1052640"/>
            <a:ext cx="96192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ylfaen"/>
              </a:rPr>
              <a:t>Fin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ylfaen"/>
              <a:ea typeface="Sylfae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645000"/>
            <a:ext cx="36576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Sylfaen"/>
              </a:rPr>
              <a:t>NOTA:</a:t>
            </a:r>
            <a:r>
              <a:rPr b="0" i="1" lang="en-US" sz="2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Sylfaen"/>
              </a:rPr>
              <a:t>Se vende piso barato por traslado laboral, se acepta trueque por cabaña en </a:t>
            </a:r>
            <a:r>
              <a:rPr b="0" i="1" lang="en-US" sz="3600" spc="-1" strike="noStrike">
                <a:solidFill>
                  <a:srgbClr val="cc3300"/>
                </a:solidFill>
                <a:latin typeface="Sylfaen"/>
              </a:rPr>
              <a:t>Gu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1676520"/>
            <a:ext cx="6934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el Líbano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los hombres pueden legalmente tener relaciones sexuales con animales, siempre que estos sean hembras. Tener relaciones sexuales con machos está castigado legalmente con la muerte.</a:t>
            </a:r>
            <a:r>
              <a:rPr b="0" lang="en-US" sz="2400" spc="-1" strike="noStrike">
                <a:solidFill>
                  <a:srgbClr val="3333cc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419720"/>
            <a:ext cx="45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Sin comen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2676600" cy="244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048040" cy="231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1523880"/>
            <a:ext cx="7010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Bahrein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un médico puede legalmente examinar los genitales  femeninos, pero está prohibido mirarlos directamente durante el examen. Sólo los puede mirar a través de un espe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43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(Poner la mano puede, mirar 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1447920"/>
            <a:ext cx="716256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Sylfaen"/>
              </a:rPr>
              <a:t>Los musulmanes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lfaen"/>
              </a:rPr>
              <a:t>no pueden mirar los genitales de un cadáver. Esto también se aplica a los empleados de las funerar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lfae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lfaen"/>
              </a:rPr>
              <a:t>Los órganos sexuales de los difuntos deben estar siempre cubiertos por un pedazo de mad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869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(¿Por un pedazo de mader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45080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21337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Sylfaen"/>
              </a:rPr>
              <a:t>En Indonesia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la pena para la masturbación es la decapita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3809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(¿¿¿De cuál cabeza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40120" y="434340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27464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333360"/>
            <a:ext cx="2189160" cy="155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16000" y="2205000"/>
            <a:ext cx="6400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Sylfaen"/>
              </a:rPr>
              <a:t>En Guam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hay hombres cuyo único empleo es viajar por el país para desflorar vírgenes, que les pagan por el privilegio de tener sexo por primera vez. La razón: Por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las leyes de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Sylfaen"/>
              </a:rPr>
              <a:t>Guam</a:t>
            </a:r>
            <a:r>
              <a:rPr b="1" i="1" lang="en-US" sz="2800" spc="-1" strike="noStrike">
                <a:solidFill>
                  <a:srgbClr val="3333cc"/>
                </a:solidFill>
                <a:latin typeface="Sylfae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está prohibido que las vírgenes se ca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22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Digo yo: ¿Existe un empleo mejor en el planet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1447920"/>
            <a:ext cx="6858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Hong Kong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una mujer engañada puede legalmente matar a su marido adúltero, pero debe hacerlo sólo con sus manos. En contrapartida, la mujer adúltera puede ser asesinada de cualquier manera por su ma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4114800"/>
            <a:ext cx="65530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¿Igualdad de oportunida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Georgia"/>
              </a:rPr>
              <a:t>¿Dónde mierda estará Gu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96080" y="3581280"/>
            <a:ext cx="622440" cy="9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620640" cy="9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95280" y="3809880"/>
            <a:ext cx="622440" cy="9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297320" y="5257800"/>
            <a:ext cx="8542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76360" y="981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Liverpool, Inglaterra,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la ley autoriza a las vendedoras hacer topless, pero solamente en negocios de peces tropi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862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ececitos picar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Sylfaen"/>
              </a:rPr>
              <a:t>¿Tendré que hacer algún examen para el empleo en Gu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960560" cy="1955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7920" y="914400"/>
            <a:ext cx="56386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Cali, Colombia,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una mujer sólo puede tener relaciones con su marido, pero la primera vez que eso ocurre, su madre debe estar en el cuarto para testimoniar el 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9625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Te imaginás tener relaciones con tu suegra mirando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120492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1788840" cy="771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391520" y="2538360"/>
            <a:ext cx="1306440" cy="177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705720" y="762120"/>
            <a:ext cx="1704960" cy="178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477120" y="4724280"/>
            <a:ext cx="1844640" cy="180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71840" y="616572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Sylfaen"/>
              </a:rPr>
              <a:t>No puedo olvidarme de Gu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0:11:33Z</dcterms:created>
  <dc:creator/>
  <dc:description/>
  <dc:language>en-US</dc:language>
  <cp:lastModifiedBy>WinuE</cp:lastModifiedBy>
  <dcterms:modified xsi:type="dcterms:W3CDTF">2009-12-25T04:24:37Z</dcterms:modified>
  <cp:revision>12</cp:revision>
  <dc:subject/>
  <dc:title>Cultura Sexual</dc:title>
</cp:coreProperties>
</file>