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wmf" ContentType="image/x-wmf"/>
  <Override PartName="/ppt/media/image8.wmf" ContentType="image/x-wmf"/>
  <Override PartName="/ppt/media/image7.wmf" ContentType="image/x-wmf"/>
  <Override PartName="/ppt/media/image9.wmf" ContentType="image/x-wmf"/>
  <Override PartName="/ppt/media/image6.gif" ContentType="image/gif"/>
  <Override PartName="/ppt/media/image17.wmf" ContentType="image/x-wmf"/>
  <Override PartName="/ppt/media/image4.wmf" ContentType="image/x-wmf"/>
  <Override PartName="/ppt/media/image3.wmf" ContentType="image/x-wmf"/>
  <Override PartName="/ppt/media/image22.wmf" ContentType="image/x-wmf"/>
  <Override PartName="/ppt/media/image5.wmf" ContentType="image/x-wmf"/>
  <Override PartName="/ppt/media/image10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4.jpeg" ContentType="image/jpeg"/>
  <Override PartName="/ppt/media/image16.wmf" ContentType="image/x-wmf"/>
  <Override PartName="/ppt/media/image2.gif" ContentType="image/gif"/>
  <Override PartName="/ppt/media/image13.wmf" ContentType="image/x-wmf"/>
  <Override PartName="/ppt/media/Som%20de%20Carrilhoes.wav" ContentType="audio/x-wav"/>
  <Override PartName="/ppt/media/image1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ACE7-F95F-4667-B614-1F9C37AD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0EEB-6ACC-47FF-A39B-505B488E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1E89-F399-44D5-936F-304AF871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06B1-5E5A-4D62-86CF-A520DB88B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3275-72BC-4175-B674-30DF5662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5FA6-9957-4948-A6E1-CC65376D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4999-D49D-47BC-BA25-9593F7D3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4915-FC1B-4284-A1F2-C5C6B9C3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C528-A117-4303-A0D4-7FBB6C22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2C09-B8B2-4736-B339-5B678253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B9AC-72E9-4176-95BC-18F3FEF6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97D6-7873-4441-A1B1-B8DD95A5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B793-8885-417C-AB87-84FEBA6B2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audio" Target="../media/Som%20de%20Carrilho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277000">
            <a:off x="2776680" y="2622600"/>
            <a:ext cx="438120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Sylfaen"/>
              </a:rPr>
              <a:t>Cosas de Sexo</a:t>
            </a:r>
            <a:endParaRPr b="1" i="1" lang="en-US" sz="6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Sylfaen"/>
              <a:ea typeface="Sylfae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1187280" y="1052640"/>
            <a:ext cx="2143440" cy="1476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4" name="Som%20de%20Carrilho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32000" y="1125360"/>
            <a:ext cx="6858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Sylfaen"/>
              </a:rPr>
              <a:t>En Santa Cruz, Bolivia,</a:t>
            </a:r>
            <a:r>
              <a:rPr b="1" i="1" lang="en-US" sz="24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Sylfaen"/>
              </a:rPr>
              <a:t>es ilegal para un hombre tener relaciones con una mujer y su hija al mismo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257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Sylfaen"/>
              </a:rPr>
              <a:t>(¡Y encima ese empleo en Guam es remunerado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588000" y="3213000"/>
            <a:ext cx="1451160" cy="1825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859280" y="3213000"/>
            <a:ext cx="1451160" cy="1825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2365200" cy="2719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19320" y="781200"/>
            <a:ext cx="63244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Sylfaen"/>
              </a:rPr>
              <a:t>En Maryland, E.E.U.U.,</a:t>
            </a:r>
            <a:r>
              <a:rPr b="0" i="1" lang="en-US" sz="24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lfaen"/>
              </a:rPr>
              <a:t>los preservativos pueden ser vendidos en máquinas solamente en lugares donde se venden bebidas alcohólicas para el consumo en el lo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79640" y="35002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Sylfaen"/>
              </a:rPr>
              <a:t>Sin comentarios, son Yank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851280" y="4149720"/>
            <a:ext cx="1353960" cy="1390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58000" y="3276720"/>
            <a:ext cx="1523880" cy="1787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5661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Sylfaen"/>
              </a:rPr>
              <a:t>(Sigo pensando en Guam... ¿Cómo hago para mandar el Currículum?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5567400" cy="441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732720" y="1052640"/>
            <a:ext cx="96192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Sylfaen"/>
              </a:rPr>
              <a:t>Fin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Sylfaen"/>
              <a:ea typeface="Sylfaen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3645000"/>
            <a:ext cx="36576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Sylfaen"/>
              </a:rPr>
              <a:t>NOTA:</a:t>
            </a:r>
            <a:r>
              <a:rPr b="0" i="1" lang="en-US" sz="2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Sylfaen"/>
              </a:rPr>
              <a:t>Se vende piso barato por traslado laboral, se acepta trueque por cabaña en </a:t>
            </a:r>
            <a:r>
              <a:rPr b="0" i="1" lang="en-US" sz="3600" spc="-1" strike="noStrike">
                <a:solidFill>
                  <a:srgbClr val="cc3300"/>
                </a:solidFill>
                <a:latin typeface="Sylfaen"/>
              </a:rPr>
              <a:t>Gu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43000" y="1676520"/>
            <a:ext cx="69343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Sylfaen"/>
              </a:rPr>
              <a:t>En el Líbano</a:t>
            </a:r>
            <a:r>
              <a:rPr b="0" i="1" lang="en-US" sz="2400" spc="-1" strike="noStrike">
                <a:solidFill>
                  <a:srgbClr val="000000"/>
                </a:solidFill>
                <a:latin typeface="Sylfaen"/>
              </a:rPr>
              <a:t>, </a:t>
            </a:r>
            <a:r>
              <a:rPr b="0" i="1" lang="en-US" sz="2400" spc="-1" strike="noStrike">
                <a:solidFill>
                  <a:srgbClr val="3333cc"/>
                </a:solidFill>
                <a:latin typeface="Sylfaen"/>
              </a:rPr>
              <a:t>los hombres pueden legalmente tener relaciones sexuales con animales, siempre que estos sean hembras. Tener relaciones sexuales con machos está castigado legalmente con la muerte.</a:t>
            </a:r>
            <a:r>
              <a:rPr b="0" lang="en-US" sz="2400" spc="-1" strike="noStrike">
                <a:solidFill>
                  <a:srgbClr val="3333cc"/>
                </a:solidFill>
                <a:latin typeface="Sylfae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4419720"/>
            <a:ext cx="45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(Sin coment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86400" y="3809880"/>
            <a:ext cx="2676600" cy="2443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24480" y="3657600"/>
            <a:ext cx="2048040" cy="2319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66680" y="1523880"/>
            <a:ext cx="7010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Sylfaen"/>
              </a:rPr>
              <a:t>En Bahrein</a:t>
            </a:r>
            <a:r>
              <a:rPr b="0" i="1" lang="en-US" sz="2400" spc="-1" strike="noStrike">
                <a:solidFill>
                  <a:srgbClr val="000000"/>
                </a:solidFill>
                <a:latin typeface="Sylfaen"/>
              </a:rPr>
              <a:t>, </a:t>
            </a:r>
            <a:r>
              <a:rPr b="0" i="1" lang="en-US" sz="2400" spc="-1" strike="noStrike">
                <a:solidFill>
                  <a:srgbClr val="3333cc"/>
                </a:solidFill>
                <a:latin typeface="Sylfaen"/>
              </a:rPr>
              <a:t>un médico puede legalmente examinar los genitales  femeninos, pero está prohibido mirarlos directamente durante el examen. Sólo los puede mirar a través de un espe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4343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lfaen"/>
              </a:rPr>
              <a:t>(Poner la mano puede, mirar 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1447920"/>
            <a:ext cx="7162560" cy="26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Sylfaen"/>
              </a:rPr>
              <a:t>Los musulmanes</a:t>
            </a: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lfaen"/>
              </a:rPr>
              <a:t>no pueden mirar los genitales de un cadáver. Esto también se aplica a los empleados de las funeraria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lfae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lfaen"/>
              </a:rPr>
              <a:t>Los órganos sexuales de los difuntos deben estar siempre cubiertos por un pedazo de mad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4869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(¿Por un pedazo de mader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477120" y="3962520"/>
            <a:ext cx="1450800" cy="1825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3880" y="21337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Sylfaen"/>
              </a:rPr>
              <a:t>En Indonesia</a:t>
            </a:r>
            <a:r>
              <a:rPr b="1" i="1" lang="en-US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Sylfaen"/>
              </a:rPr>
              <a:t>la pena para la masturbación es la decapitació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3809880"/>
            <a:ext cx="50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(¿¿¿De cuál cabeza?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40120" y="434340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3429000"/>
            <a:ext cx="274644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300720" y="333360"/>
            <a:ext cx="2189160" cy="1550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16000" y="2205000"/>
            <a:ext cx="6400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Sylfaen"/>
              </a:rPr>
              <a:t>En Guam</a:t>
            </a:r>
            <a:r>
              <a:rPr b="1" i="1" lang="en-US" sz="2400" spc="-1" strike="noStrike">
                <a:solidFill>
                  <a:srgbClr val="000000"/>
                </a:solidFill>
                <a:latin typeface="Sylfae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Sylfaen"/>
              </a:rPr>
              <a:t>hay hombres cuyo único empleo es viajar por el país para desflorar vírgenes, que les pagan por el privilegio de tener sexo por primera vez. La razón: Por</a:t>
            </a:r>
            <a:r>
              <a:rPr b="1" i="1" lang="en-US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Sylfaen"/>
              </a:rPr>
              <a:t>las leyes de</a:t>
            </a:r>
            <a:r>
              <a:rPr b="1" i="1" lang="en-US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Sylfaen"/>
              </a:rPr>
              <a:t>Guam</a:t>
            </a:r>
            <a:r>
              <a:rPr b="1" i="1" lang="en-US" sz="2800" spc="-1" strike="noStrike">
                <a:solidFill>
                  <a:srgbClr val="3333cc"/>
                </a:solidFill>
                <a:latin typeface="Sylfae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Sylfaen"/>
              </a:rPr>
              <a:t>está prohibido que las vírgenes se cas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229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Sylfaen"/>
              </a:rPr>
              <a:t>Digo yo: ¿Existe un empleo mejor en el planet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19320" y="1447920"/>
            <a:ext cx="6858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Sylfaen"/>
              </a:rPr>
              <a:t>En Hong Kong</a:t>
            </a:r>
            <a:r>
              <a:rPr b="0" i="1" lang="en-US" sz="2400" spc="-1" strike="noStrike">
                <a:solidFill>
                  <a:srgbClr val="000000"/>
                </a:solidFill>
                <a:latin typeface="Sylfaen"/>
              </a:rPr>
              <a:t>, </a:t>
            </a:r>
            <a:r>
              <a:rPr b="0" i="1" lang="en-US" sz="2400" spc="-1" strike="noStrike">
                <a:solidFill>
                  <a:srgbClr val="3333cc"/>
                </a:solidFill>
                <a:latin typeface="Sylfaen"/>
              </a:rPr>
              <a:t>una mujer engañada puede legalmente matar a su marido adúltero, pero debe hacerlo sólo con sus manos. En contrapartida, la mujer adúltera puede ser asesinada de cualquier manera por su mar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4114800"/>
            <a:ext cx="65530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¿Igualdad de oportunidad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Georgia"/>
              </a:rPr>
              <a:t>¿Dónde mierda estará Gu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96080" y="3581280"/>
            <a:ext cx="622440" cy="90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743200" y="609480"/>
            <a:ext cx="620640" cy="900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295280" y="3809880"/>
            <a:ext cx="622440" cy="90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297320" y="5257800"/>
            <a:ext cx="85428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476360" y="9810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Sylfaen"/>
              </a:rPr>
              <a:t>En Liverpool, Inglaterra,</a:t>
            </a:r>
            <a:r>
              <a:rPr b="0" i="1" lang="en-US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lfaen"/>
              </a:rPr>
              <a:t>la ley autoriza a las vendedoras hacer topless, pero solamente en negocios de peces tropic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8620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Pececitos picar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Sylfaen"/>
              </a:rPr>
              <a:t>¿Tendré que hacer algún examen para el empleo en Gu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1960560" cy="1955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47920" y="914400"/>
            <a:ext cx="56386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Sylfaen"/>
              </a:rPr>
              <a:t>En Cali, Colombia,</a:t>
            </a:r>
            <a:r>
              <a:rPr b="0" i="1" lang="en-US" sz="24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lfaen"/>
              </a:rPr>
              <a:t>una mujer sólo puede tener relaciones con su marido, pero la primera vez que eso ocurre, su madre debe estar en el cuarto para testimoniar el 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396252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¿Te imaginás tener relaciones con tu suegra mirando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120492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276720" y="4797360"/>
            <a:ext cx="1788840" cy="771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391520" y="2538360"/>
            <a:ext cx="1306440" cy="1779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705720" y="762120"/>
            <a:ext cx="1704960" cy="1784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6477120" y="4724280"/>
            <a:ext cx="1844640" cy="1803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71840" y="6165720"/>
            <a:ext cx="42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Sylfaen"/>
              </a:rPr>
              <a:t>No puedo olvidarme de Gu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0:11:33Z</dcterms:created>
  <dc:creator/>
  <dc:description/>
  <dc:language>en-US</dc:language>
  <cp:lastModifiedBy>WinuE</cp:lastModifiedBy>
  <dcterms:modified xsi:type="dcterms:W3CDTF">2009-12-25T04:24:37Z</dcterms:modified>
  <cp:revision>12</cp:revision>
  <dc:subject/>
  <dc:title>Cultura Sexual</dc:title>
</cp:coreProperties>
</file>