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wmf" ContentType="image/x-wmf"/>
  <Override PartName="/ppt/media/image8.jpeg" ContentType="image/jpeg"/>
  <Override PartName="/ppt/media/Los%20Indios%20Tabajaras%20-%20Alhambra%20-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612-ECF4-4C88-B9A5-D8B89BB6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638-0721-4BF4-9019-26750EA2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9AD-4FCE-447C-8FE2-B9006A30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2B1-8A2A-4F9F-81B9-A68E8FE6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B59C-2A26-4B20-9E43-6F7F8757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7E00-C5D3-47CB-916E-CBF87CCD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85A7-6589-43DB-96E4-9B0ACCF2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553D-F336-4619-AF59-F5C1F700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0456-B8A5-47D7-9FAA-7D6D14E5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7B3E-CD2A-4CFC-802C-6960B50F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754E-8689-4846-9931-F340AAAD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EA7-38B1-4600-BA1C-A5896158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F29B-696E-4505-B7E7-BFF101C1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2EA0-F714-4DAB-AC45-EAC44864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181C-A34C-4CF5-927A-EBDB51EB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4AD4-11EC-4892-BDC7-509969ED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41D5-C0CB-4763-A7F8-B2FF2D46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55A03-7619-43C1-94CC-CA581AF9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66BD8-BD09-41B1-8648-38F429E0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9B26F-0FE1-4CF8-B8FB-F551475C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C92DA-D9FA-49B0-94F7-CDF35584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E5593-F0B0-4500-A94B-19A3B7D0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0A3-BBC3-4658-9A85-7B160CE2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A9B9-18B9-4323-B20E-9FCCAF30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2B286-7D08-4122-A486-2D94C90C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D9E5-2B53-44C7-840D-6A340711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108E-A336-46C2-98E8-7D8278F8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E8CD3-C05A-48F0-BD3E-F6472773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0E3E1-5193-4407-A781-168368A3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E39E9-9F6D-4F3F-BE59-7EBDA7CF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1E9-EBE9-454B-89E7-57A6C41E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16A-D099-4AB5-BE60-10702921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E3C-34ED-4DAC-A3A6-629C3E5B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F19-83DD-404C-9F86-E0C4CEEA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7D15-E166-419C-8DB1-602971B8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4BF-AC3E-4B1C-A568-45A34DC7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F9E8-FDFF-4FB7-B1A3-5AEDBDB38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77C6-6B06-448B-B61A-DAFE716B4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DE66-CCF4-4F44-9965-A0F56FE9B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audio" Target="../media/Los%20Indios%20Tabajaras%20-%20Alhambra%20-.wav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067280" y="4941720"/>
            <a:ext cx="439236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un lugar de la Manch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 cuyo nombre no quiero acordarm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 rot="620400">
            <a:off x="8354880" y="4370040"/>
            <a:ext cx="60984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900000" y="2060640"/>
            <a:ext cx="2922840" cy="3889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58920" y="476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Don Quijote de la Mancha, argu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3965760" cy="4970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00720" y="1197000"/>
            <a:ext cx="41860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l cristiano eres Sancho  —dijo, oyendo esto, don Quijote—, porque nunca olvidas la injuria que una vez te han hecho; pues sábete que es de pechos nobles y generosos no hacer caso de niñería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Qué pie sacaste cojo, que costilla quebrada, qué cabeza rota, para que no se te olvide aquella burla?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557360"/>
            <a:ext cx="0" cy="2089080"/>
          </a:xfrm>
          <a:prstGeom prst="line">
            <a:avLst/>
          </a:prstGeom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43280" y="1197000"/>
            <a:ext cx="40449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dvierte Sancho —respondió don Quijote— , que hay dos maneras de hermosura: una del alma y otra del cuerpo; la del alma campea y se muestra en el entendimiento, en la honestidad, en el buen proceder, en la liberalidad y en la buena crianza, y todas estas partes caben y pueden estar en un hombre feo, y cuando se pone la mira en esta hermosura, y no en la del cuerpo, suele nacer el amor con ímpetu y con ventaja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Yo, Sancho, bien veo que no soy hermoso, pero también conozco que no soy disforme, y bástale a un hombre de bien no ser monstruo para ser bien querido, como tenga los dotes del alma que te he dich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078440" cy="4970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859280" y="1628640"/>
            <a:ext cx="0" cy="4465800"/>
          </a:xfrm>
          <a:prstGeom prst="line">
            <a:avLst/>
          </a:prstGeom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48320" y="11145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¿Por ventura es asunto vano o es tiempo mal gastado el que se gasta en vagar por el mundo, no buscando los regalos dél, sino la asperezas por donde lo buenos suben al asiento de la inmortalidad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Yo, inclinado de mi estrella, voy por la angosta senda de la caballería andante, por cuyo ejercicio desprecio la hacienda pero no la honr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Mis intenciones siempre las enderezo a buenos fines que son de hacer bien a todos y mal a ningun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005360" cy="4972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859280" y="1484280"/>
            <a:ext cx="0" cy="3529080"/>
          </a:xfrm>
          <a:prstGeom prst="line">
            <a:avLst/>
          </a:prstGeom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0" y="1197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¡Majadero! -dijo a esta sazón don Quijote-, a los caballeros andantes no les toca ni atañe averiguar si los afligidos, encadenados y opresos que encuentran por los caminos van de aquella manera, o están en aquella angustia, por sus culpas o por sus gracias; sólo le toca ayudarles como a menesterosos, poniendo los ojos en sus penas y no en sus bellaquerías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3908520" cy="4969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788000" y="1557360"/>
            <a:ext cx="0" cy="2376360"/>
          </a:xfrm>
          <a:prstGeom prst="line">
            <a:avLst/>
          </a:prstGeom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0" y="1123920"/>
            <a:ext cx="4038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ñor, las tristezas no se hicieron para las bestias, sino para los hombres; pero si los hombres las sienten demasiado, se vuelven bestia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565360"/>
            <a:ext cx="4038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Que la virtud más es perseguida de los malos que amada de los bue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357720"/>
            <a:ext cx="40384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ábete, Sancho, que no es un hombre más que otro si no hace más que otro. Todas estas borrascas que nos suceden son señales de que presto ha de serenar el tiempo y han de sucedernos bien las cosas; porque no es posible que el mal ni el bien sean durables, y de aquí se sigue que, habiendo durado mucho el mal, el bien está ya cer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3970440" cy="4972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88000" y="3716280"/>
            <a:ext cx="0" cy="2376720"/>
          </a:xfrm>
          <a:prstGeom prst="line">
            <a:avLst/>
          </a:prstGeom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2997360"/>
            <a:ext cx="0" cy="215640"/>
          </a:xfrm>
          <a:prstGeom prst="line">
            <a:avLst/>
          </a:prstGeom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1484280"/>
            <a:ext cx="0" cy="720720"/>
          </a:xfrm>
          <a:prstGeom prst="line">
            <a:avLst/>
          </a:prstGeom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87280" y="1125360"/>
            <a:ext cx="7056720" cy="58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on Quijote es un ser generoso sin límites, que un buen día decide dar su vida a los demás y luchar por todas las causas perdidas que se encuentre. Su mayor LOCURA está en esa generosidad extrema que le distingue de todos los que le rodean y que le lleva a olvidar su interés y su “hacienda” para lanzarse a “desfacer entuertos” y socorrer a los más débiles. El no piensa si sus aventuras le reportarán beneficios o le traerán cuenta o no. Y es que Don Quijote jamás busca su propio provecho y rechaza la cruda realidad que mueve a los de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mundo de hoy, más que nunca, necesita caballeros andantes (mujeres y hombres) en todos los rincones de la Tier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1484280"/>
            <a:ext cx="0" cy="2089080"/>
          </a:xfrm>
          <a:prstGeom prst="line">
            <a:avLst/>
          </a:prstGeom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763640" y="2997360"/>
            <a:ext cx="569592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cc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a  "LOCURA" se apodere de todos</a:t>
            </a:r>
            <a:endParaRPr b="0" lang="en-US" sz="2800" spc="1" strike="noStrike">
              <a:ln w="0">
                <a:noFill/>
              </a:ln>
              <a:solidFill>
                <a:srgbClr val="ffcc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538440"/>
            <a:ext cx="914400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 LOCURA  de la Paz, en lugar de la locura de la gue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 LOCURA  de Perdonar, en lugar de la locura de culp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LOCURA  de querer Ser Yo, en lugar de la locura de querer que seas como 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 LOCURA de Amar, en lugar de la locura de pos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 LOCURA de Ser Amado, en lugar de la locura de ser poseí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La  CORDURA de sabernos  LOC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en lugar de la locura de creernos cuer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419640" y="476280"/>
            <a:ext cx="1944360" cy="2160720"/>
          </a:xfrm>
          <a:prstGeom prst="rect">
            <a:avLst/>
          </a:prstGeom>
          <a:ln w="12708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6:09:13Z</dcterms:created>
  <dc:creator/>
  <dc:description/>
  <dc:language>en-US</dc:language>
  <cp:lastModifiedBy/>
  <dcterms:modified xsi:type="dcterms:W3CDTF">2007-06-04T06:22:14Z</dcterms:modified>
  <cp:revision>2</cp:revision>
  <dc:subject/>
  <dc:title>Diapositiva 1</dc:title>
</cp:coreProperties>
</file>