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wmf" ContentType="image/x-wmf"/>
  <Override PartName="/ppt/media/image8.jpeg" ContentType="image/jpeg"/>
  <Override PartName="/ppt/media/Los%20Indios%20Tabajaras%20-%20Alhambra%20-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6BF-9EA8-45A2-80E7-56724B03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1D5-DED8-439D-86F1-4EF3592E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2C6-6230-4EF4-96A7-5C19FB51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CE2-F76C-40B9-8882-180262BE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129-7056-4DF5-8B37-B1887EA3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ABBE-3576-45DB-A769-029084D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BF91-9CB8-45B7-BEA3-F9A50C0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E9D2-061A-45EB-8EC4-9E4F947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33BA-5093-4247-8348-8D9D81C8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930-32C7-40A9-953E-CFC3B0B8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DF9B-7C64-48B5-8C55-8110C05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FE6-1110-414D-A091-DA11273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998-14B6-433C-9E42-0B81E1E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9E8-0270-4EB3-9CD3-5F00184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D9C-4A98-402B-833E-BE0BB049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0182-869D-41A4-BA4C-2CDFFCD1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DE9-02C3-46B1-8FF9-AB131EE2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1EA1-DEC4-4373-880D-31F2C56E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34DD-65A6-45C6-B47B-00CDBF8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BC06-4690-4B6A-95BE-7D1B276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7A89-81D2-4E07-991B-34297295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EEAA-06EC-4A9B-86C9-7052236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9A7-C67D-40E9-B05F-E9B3B46B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6507-46A5-4829-B5BE-19CA852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BCC3-1550-49E3-9835-D4C16B0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FE9F-CC4A-4BAA-9C07-B3FD839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5FC5-A612-4C44-AEBE-8E4969C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BF69-644D-46D0-9FF8-D40D9407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94A6-8D71-401F-9621-D84F58A3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8F27-E308-4DB8-A454-464F5D1D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AFD-1613-4F46-BD52-3A7C739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924-5B13-4A25-AF89-834F1CD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647-A415-47CA-8158-4C2A3225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B71-24F8-4BAE-A8D2-85FAB5F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C08-8908-4FD0-8769-C88A1973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5B8-F602-4F79-9AA5-F2A8F09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F03-7174-4E92-8575-89D6803B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66D-BA11-4D4C-8E3E-0F2B31458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4348-ED15-497C-9522-38BAE73C4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Los%20Indios%20Tabajaras%20-%20Alhambra%20-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67280" y="4941720"/>
            <a:ext cx="439236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un lugar de la Manch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cuyo nombre no quiero acordarm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620400">
            <a:off x="8354880" y="4370040"/>
            <a:ext cx="60984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900000" y="2060640"/>
            <a:ext cx="2922840" cy="388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476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on Quijote de la Mancha, argu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65760" cy="4970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00720" y="1197000"/>
            <a:ext cx="41860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l cristiano eres Sancho  —dijo, oyendo esto, don Quijote—, porque nunca olvidas la injuria que una vez te han hecho; pues sábete que es de pechos nobles y generosos no hacer caso de niñería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é pie sacaste cojo, que costilla quebrada, qué cabeza rota, para que no se te olvide aquella burla?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557360"/>
            <a:ext cx="0" cy="208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044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dvierte Sancho —respondió don Quijote— , que hay dos maneras de hermosura: una del alma y otra del cuerpo; la del alma campea y se muestra en el entendimiento, en la honestidad, en el buen proceder, en la liberalidad y en la buena crianza, y todas estas partes caben y pueden estar en un hombre feo, y cuando se pone la mira en esta hermosura, y no en la del cuerpo, suele nacer el amor con ímpetu y con ventaja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Yo, Sancho, bien veo que no soy hermoso, pero también conozco que no soy disforme, y bástale a un hombre de bien no ser monstruo para ser bien querido, como tenga los dotes del alma que te he dich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78440" cy="4970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859280" y="1628640"/>
            <a:ext cx="0" cy="446580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48320" y="11145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¿Por ventura es asunto vano o es tiempo mal gastado el que se gasta en vagar por el mundo, no buscando los regalos dél, sino la asperezas por donde lo buenos suben al asiento de la inmortalida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Yo, inclinado de mi estrella, voy por la angosta senda de la caballería andante, por cuyo ejercicio desprecio la hacienda pero no la hon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Comic Sans MS"/>
              </a:rPr>
              <a:t>Mis intenciones siempre las enderezo a buenos fines que son de hacer bien a todos y mal a ningun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05360" cy="4972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1484280"/>
            <a:ext cx="0" cy="352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0" y="1197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¡Majadero! -dijo a esta sazón don Quijote-, a los caballeros andantes no les toca ni atañe averiguar si los afligidos, encadenados y opresos que encuentran por los caminos van de aquella manera, o están en aquella angustia, por sus culpas o por sus gracias; sólo le toca ayudarles como a menesterosos, poniendo los ojos en sus penas y no en sus bellaquería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08520" cy="496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88000" y="1557360"/>
            <a:ext cx="0" cy="237636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0" y="1123920"/>
            <a:ext cx="40384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ñor, las tristezas no se hicieron para las bestias, sino para los hombres; pero si los hombres las sienten demasiado, se vuelven besti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565360"/>
            <a:ext cx="4038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Que la virtud más es perseguida de los malos que amada de los bu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357720"/>
            <a:ext cx="4038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ábete, Sancho, que no es un hombre más que otro si no hace más que otro. Todas estas borrascas que nos suceden son señales de que presto ha de serenar el tiempo y han de sucedernos bien las cosas; porque no es posible que el mal ni el bien sean durables, y de aquí se sigue que, habiendo durado mucho el mal, el bien está ya cer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3970440" cy="4972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88000" y="3716280"/>
            <a:ext cx="0" cy="237672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484280"/>
            <a:ext cx="0" cy="72072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7280" y="1125360"/>
            <a:ext cx="705672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on Quijote es un ser generoso sin límites, que un buen día decide dar su vida a los demás y luchar por todas las causas perdidas que se encuentre. Su mayor LOCURA está en esa generosidad extrema que le distingue de todos los que le rodean y que le lleva a olvidar su interés y su “hacienda” para lanzarse a “desfacer entuertos” y socorrer a los más débiles. El no piensa si sus aventuras le reportarán beneficios o le traerán cuenta o no. Y es que Don Quijote jamás busca su propio provecho y rechaza la cruda realidad que mueve a los de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mundo de hoy, más que nunca, necesita caballeros andantes (mujeres y hombres) en todos los rincones de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484280"/>
            <a:ext cx="0" cy="2089080"/>
          </a:xfrm>
          <a:prstGeom prst="line">
            <a:avLst/>
          </a:prstGeom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763640" y="2997360"/>
            <a:ext cx="569592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 "LOCURA" se apodere de todos</a:t>
            </a:r>
            <a:endParaRPr b="0" lang="en-US" sz="2800" spc="1" strike="noStrike">
              <a:ln w="0">
                <a:noFill/>
              </a:ln>
              <a:solidFill>
                <a:srgbClr val="ffcc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538440"/>
            <a:ext cx="914400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 de la Paz, en lugar de la locura de la gu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 de Perdonar, en lugar de la locura de cul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LOCURA  de querer Ser Yo, en lugar de la locura de querer que seas como 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de Amar, en lugar de la locura de pos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 LOCURA de Ser Amado, en lugar de la locura de ser poseí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La  CORDURA de sabernos  LOC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en lugar de la locura de creernos 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419640" y="476280"/>
            <a:ext cx="1944360" cy="2160720"/>
          </a:xfrm>
          <a:prstGeom prst="rect">
            <a:avLst/>
          </a:prstGeom>
          <a:ln w="127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09:13Z</dcterms:created>
  <dc:creator/>
  <dc:description/>
  <dc:language>en-US</dc:language>
  <cp:lastModifiedBy/>
  <dcterms:modified xsi:type="dcterms:W3CDTF">2007-06-04T06:22:14Z</dcterms:modified>
  <cp:revision>2</cp:revision>
  <dc:subject/>
  <dc:title>Diapositiva 1</dc:title>
</cp:coreProperties>
</file>