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D75-E98F-4CCC-8B0C-0E96A706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21B-A648-4EF0-8385-8F425001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5E8-742D-4489-847D-78ADA275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DB7-E2FB-4ED3-9947-DFEF983E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3B5-FA2F-467D-BD55-0721224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6B7-FD0E-432E-9DF3-7167B24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DE0-FE31-4005-AB42-08DCE2C9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F90-2D16-49EA-931B-7EC85594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5ED-FFEC-4F06-80EE-5B2ACD02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290-1482-4A9B-B8CF-072598C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4C7-E8FB-456E-BCDC-0E99F65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DAD-B055-4650-B941-2C491BE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71F-188F-4553-8D2A-987BB918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47640" y="2205000"/>
            <a:ext cx="6193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82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SUNAMI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 A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2271600"/>
            <a:ext cx="2521080" cy="375084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hora, te pedimos algo, que no te costará much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553400"/>
            <a:ext cx="813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1. Simplemente reza un padre nuestro por las personas que han muerto  en el terremoto y reenvía este mensaj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00" y="366120"/>
            <a:ext cx="808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dre nuestro que estás en los cielo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antificado sea tu nomb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venga a nosotros tu rein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ágase Señor tu volunt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sí en la Tierra como en el ci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anos hoy el pan nuestro de cada dí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dona nuestras ofen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sí como nosotros perdonam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 los que nos ofen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 nos dejes caer en tentación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íbranos de todo mal. Amén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11980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2. Luego, envíala a otras diez personas. En un rato más, diez personas habrán ora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or ellos y tu habrás logrado que muchas personas recen a Dios por otras persona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2905920"/>
            <a:ext cx="2879640" cy="33858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Los Mejores Amigos son los que te acompañan en tus ora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" y="1628280"/>
            <a:ext cx="3313440" cy="6426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Recuerd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5949360"/>
            <a:ext cx="7559640" cy="6426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Y que dios te  Bendiga tu Fam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084280"/>
            <a:ext cx="2411280" cy="642600"/>
          </a:xfrm>
          <a:prstGeom prst="rect">
            <a:avLst/>
          </a:prstGeom>
          <a:noFill/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uen Dì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440" y="0"/>
            <a:ext cx="9142560" cy="6858000"/>
            <a:chOff x="1440" y="0"/>
            <a:chExt cx="9142560" cy="68580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059360" y="0"/>
              <a:ext cx="50846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 flipH="1">
              <a:off x="1440" y="0"/>
              <a:ext cx="471672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22:01:00Z</dcterms:created>
  <dc:creator>ACSA</dc:creator>
  <dc:description/>
  <dc:language>en-US</dc:language>
  <cp:lastModifiedBy>algarcia</cp:lastModifiedBy>
  <dcterms:modified xsi:type="dcterms:W3CDTF">2005-01-11T14:48:31Z</dcterms:modified>
  <cp:revision>4</cp:revision>
  <dc:subject/>
  <dc:title>Diapositiva 1</dc:title>
</cp:coreProperties>
</file>