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607-2F0F-4B95-A55C-8DB2687E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A37-BA6B-40EB-AAE4-7D4C2FDE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FD1-6059-44F4-8E5B-F5B0E0F2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5F0-917A-4E50-A940-50DC2C8C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620-DF1E-4D92-9121-B650D62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3C9-523F-4945-BA63-392A53C8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D1B-00B6-4BBD-B8CB-12E34D9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A57-D3FD-4FC9-A02E-A85975F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E14-771E-4D72-A3F7-124E98C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188-13B2-4E20-9DBA-4C0319D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197-0AE3-4C8C-BE72-1891715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C80-BD66-41DD-93FB-04CF817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928-D9B4-4842-AE5E-9C5483ABD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2205000"/>
            <a:ext cx="6193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8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SUNAM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 A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2271600"/>
            <a:ext cx="2521080" cy="375084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hora, te pedimos algo, que no te costará muc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553400"/>
            <a:ext cx="813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1. Simplemente reza un padre nuestro por las personas que han muerto  en el terremoto y reenvía este mensaj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00" y="366120"/>
            <a:ext cx="808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dre nuestro que estás en los cielo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antificado sea tu nomb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venga a nosotros tu rein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ágase Señor tu volunt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sí en la Tierra como en el ci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anos hoy el pan nuestro de cada dí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dona nuestras ofen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sí como nosotros perdonam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los que nos ofen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 nos dejes caer en tentación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branos de todo mal. Amén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11980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2. Luego, envíala a otras diez personas. En un rato más, diez personas habrán ora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or ellos y tu habrás logrado que muchas personas recen a Dios por otras persona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2905920"/>
            <a:ext cx="2879640" cy="33858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Los Mejores Amigos son los que te acompañan en tus or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" y="1628280"/>
            <a:ext cx="331344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Recuer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5949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Y que dios te  Bendiga tu Fam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084280"/>
            <a:ext cx="241128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uen Dì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440" y="0"/>
            <a:ext cx="9142560" cy="6858000"/>
            <a:chOff x="1440" y="0"/>
            <a:chExt cx="9142560" cy="6858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059360" y="0"/>
              <a:ext cx="5084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 flipH="1">
              <a:off x="1440" y="0"/>
              <a:ext cx="471672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22:01:00Z</dcterms:created>
  <dc:creator>ACSA</dc:creator>
  <dc:description/>
  <dc:language>en-US</dc:language>
  <cp:lastModifiedBy>algarcia</cp:lastModifiedBy>
  <dcterms:modified xsi:type="dcterms:W3CDTF">2005-01-11T14:48:31Z</dcterms:modified>
  <cp:revision>4</cp:revision>
  <dc:subject/>
  <dc:title>Diapositiva 1</dc:title>
</cp:coreProperties>
</file>