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010-3504-47FA-9CBB-03DB4558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B80-3D09-4F4F-866B-04C7F731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0F6-9675-441A-9E9F-EBFB2B6C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B45-353B-4132-A4AB-0BBFC854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2CD-593B-4A71-902B-299C9DE4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43D-76E5-43AE-9AB6-B1F4D16D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1FF-C7C2-403C-88AA-5A4C9138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684-55F5-4FC8-99EC-A972CF21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723-48F2-4722-8781-7951A92F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D98-61AA-4B39-91AE-FE7A730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191-626A-441F-8688-F7CED73D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9FF-CCF1-48BD-90AE-46FAD37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07BB-AED2-4B8D-8B23-228A1E4E0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3205080" y="2133720"/>
            <a:ext cx="299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ffffff"/>
                </a:solidFill>
                <a:latin typeface="Arial"/>
              </a:rPr>
              <a:t>CEL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835280" y="1916280"/>
            <a:ext cx="568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l vehículo está expuesto al sol, las ventanas están cerradas y 2 celulares están dentro de la guant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Bajo el efecto del calor, la batería de uno de ellos explo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92928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6864480" y="357120"/>
            <a:ext cx="228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La explo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rompe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parabri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133640" y="57240"/>
            <a:ext cx="6876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258920" y="1341360"/>
            <a:ext cx="637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fortunadamente no hubo víctimas, porque nadie estaba dentro del au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ero los daños causados son impresionantes.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611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6572160" y="571680"/>
            <a:ext cx="232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El calor de la explosi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de la bater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derriti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la cons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258920" y="54936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a temperatura de un carro expuesto al sol, sin ventilación, puede alcanzar hasta más de  65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403280" y="2205000"/>
            <a:ext cx="63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o suficiente para desencadenar la explosión de una batería de celu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116000" y="3357720"/>
            <a:ext cx="731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Nunca deje un celular dentro del carro, expuesto al sol, aunque est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 desconectad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!OJ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1:01:25Z</dcterms:created>
  <dc:creator>Serge</dc:creator>
  <dc:description/>
  <dc:language>en-US</dc:language>
  <cp:lastModifiedBy>chomy</cp:lastModifiedBy>
  <dcterms:modified xsi:type="dcterms:W3CDTF">2010-09-09T03:11:54Z</dcterms:modified>
  <cp:revision>25</cp:revision>
  <dc:subject/>
  <dc:title>Insolites 6</dc:title>
</cp:coreProperties>
</file>