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45F-9060-46F4-8FB3-925A3D7C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1C1-63FE-474A-B78B-70DB09A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914-F8E5-476B-BBC6-299C0F4D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286-A0A8-4928-BC41-3AC83BF2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450-9A38-46D7-AF57-F97C34D4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F80-115E-426A-9C5F-1484709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F16-B345-4945-A0E7-54D140B6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8F5-7CE2-4750-B7D9-DF34AFD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0B4-8C3A-4982-AA99-A2B6B9A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727-93B4-4E09-8C59-2E6C1BE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F4D-73C6-4CBC-AAD4-2EE0672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CCB-2AC0-474E-B660-EB562467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7E75-1160-44F4-8D14-06F991958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3205080" y="2133720"/>
            <a:ext cx="299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800" spc="-1" strike="noStrike">
                <a:solidFill>
                  <a:srgbClr val="ffffff"/>
                </a:solidFill>
                <a:latin typeface="Arial"/>
              </a:rPr>
              <a:t>CELUL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835280" y="1916280"/>
            <a:ext cx="568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El vehículo está expuesto al sol, las ventanas están cerradas y 2 celulares están dentro de la guant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Bajo el efecto del calor, la batería de uno de ellos explo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92928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6864480" y="357120"/>
            <a:ext cx="228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La explo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rompe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parabr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133640" y="57240"/>
            <a:ext cx="6876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1258920" y="1341360"/>
            <a:ext cx="637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Afortunadamente no hubo víctimas, porque nadie estaba dentro del au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Pero los daños causados son impresionantes.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611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6572160" y="571680"/>
            <a:ext cx="232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El calor de la explos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 la bater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derriti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la cons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258920" y="54936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a temperatura de un carro expuesto al sol, sin ventilación, puede alcanzar hasta más de  65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403280" y="2205000"/>
            <a:ext cx="63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Lo suficiente para desencadenar la explosión de una batería de celu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116000" y="3357720"/>
            <a:ext cx="731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Nunca deje un celular dentro del carro, expuesto al sol, aunque est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 desconectad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d9d9d9"/>
                </a:solidFill>
                <a:latin typeface="Arial"/>
              </a:rPr>
              <a:t>!OJO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1:01:25Z</dcterms:created>
  <dc:creator>Serge</dc:creator>
  <dc:description/>
  <dc:language>en-US</dc:language>
  <cp:lastModifiedBy>chomy</cp:lastModifiedBy>
  <dcterms:modified xsi:type="dcterms:W3CDTF">2010-09-09T03:11:54Z</dcterms:modified>
  <cp:revision>25</cp:revision>
  <dc:subject/>
  <dc:title>Insolites 6</dc:title>
</cp:coreProperties>
</file>