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C24D3-1137-4A81-9DF5-882207502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D9094-EC5D-4CB9-BDA0-1DD16551E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06B34-250F-4F79-B606-2E2A093BB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7C93B-D39F-4A4B-BA9A-1EE3F0E11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FEFC4-23E4-49DB-BD4D-40426B3F1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2FCE4-A667-430B-84A9-31B71EC1C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2F699-2AEF-4824-B209-B771D77AE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821E5-E676-4521-94D0-8D91854AD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283E0-C89C-42D1-8707-01A53F640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EF51B-03BD-4083-9A28-8F7A5C582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D55A4-59EE-439A-ADEF-C14484321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7CC9C-9FB9-484A-90BB-63224CAE9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4B0E-B7F9-466B-A623-F9C9314C2E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0640"/>
            <a:ext cx="777240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staba un hombre dando de pastar a su rebaño de ovejas, cuando de repente aparece por el inhóspito camino</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49000"/>
            <a:ext cx="7772400" cy="583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l joven, absolutamente sorprendido, dijo:</a:t>
            </a:r>
            <a:br>
              <a:rPr sz="4400"/>
            </a:br>
            <a:br>
              <a:rPr sz="4400"/>
            </a:br>
            <a:r>
              <a:rPr b="0" lang="en-US" sz="4400" spc="-1" strike="noStrike">
                <a:solidFill>
                  <a:srgbClr val="dfd293"/>
                </a:solidFill>
                <a:latin typeface="Arial"/>
              </a:rPr>
              <a:t>"¡Exacto! ¿Cómo lo sabe?"</a:t>
            </a:r>
            <a:br>
              <a:rPr sz="4400"/>
            </a:br>
            <a:br>
              <a:rPr sz="4400"/>
            </a:br>
            <a:r>
              <a:rPr b="0" lang="en-US" sz="4400" spc="-1" strike="noStrike">
                <a:solidFill>
                  <a:srgbClr val="dfd293"/>
                </a:solidFill>
                <a:latin typeface="Arial"/>
              </a:rPr>
              <a:t>El viejo le respondió: </a:t>
            </a:r>
            <a:br>
              <a:rPr sz="4400"/>
            </a:br>
            <a:br>
              <a:rPr sz="4400"/>
            </a:br>
            <a:r>
              <a:rPr b="0" lang="en-US" sz="4400" spc="-1" strike="noStrike">
                <a:solidFill>
                  <a:srgbClr val="dfd293"/>
                </a:solidFill>
                <a:latin typeface="Arial"/>
              </a:rPr>
              <a:t>"Por 4 razones:</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75920"/>
            <a:ext cx="7772400" cy="583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Primero, </a:t>
            </a:r>
            <a:br>
              <a:rPr sz="4400"/>
            </a:br>
            <a:br>
              <a:rPr sz="4400"/>
            </a:br>
            <a:r>
              <a:rPr b="0" lang="en-US" sz="4400" spc="-1" strike="noStrike">
                <a:solidFill>
                  <a:srgbClr val="dfd293"/>
                </a:solidFill>
                <a:latin typeface="Arial"/>
              </a:rPr>
              <a:t>por la pinta de maricón.</a:t>
            </a:r>
            <a:br>
              <a:rPr sz="4400"/>
            </a:b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49360"/>
            <a:ext cx="7772400" cy="575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egundo, </a:t>
            </a:r>
            <a:br>
              <a:rPr sz="4400"/>
            </a:br>
            <a:br>
              <a:rPr sz="4400"/>
            </a:br>
            <a:r>
              <a:rPr b="0" lang="en-US" sz="4400" spc="-1" strike="noStrike">
                <a:solidFill>
                  <a:srgbClr val="dfd293"/>
                </a:solidFill>
                <a:latin typeface="Arial"/>
              </a:rPr>
              <a:t>vino sin que yo le llamara.</a:t>
            </a:r>
            <a:br>
              <a:rPr sz="4400"/>
            </a:b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49360"/>
            <a:ext cx="777240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ercero, </a:t>
            </a:r>
            <a:br>
              <a:rPr sz="4400"/>
            </a:br>
            <a:br>
              <a:rPr sz="4400"/>
            </a:br>
            <a:r>
              <a:rPr b="0" lang="en-US" sz="4400" spc="-1" strike="noStrike">
                <a:solidFill>
                  <a:srgbClr val="dfd293"/>
                </a:solidFill>
                <a:latin typeface="Arial"/>
              </a:rPr>
              <a:t>me cobró por decirme algo que yo ya sabía.</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91920"/>
            <a:ext cx="7772400" cy="561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Y cuarto, se nota que no tiene ni puta idea del negocio porque se lleva mi perro en lugar de una oveja"</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475920"/>
            <a:ext cx="8229600" cy="576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un reluciente todo-terreno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JEEP CHEROKE 4x4 full equipo,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el cual se detiene frente al viejito y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se baja de ella un jove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 </a:t>
            </a:r>
            <a:r>
              <a:rPr b="0" lang="en-US" sz="3200" spc="-1" strike="noStrike">
                <a:solidFill>
                  <a:srgbClr val="dfd293"/>
                </a:solidFill>
                <a:latin typeface="Arial"/>
              </a:rPr>
              <a:t>de no más de 30</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 </a:t>
            </a:r>
            <a:r>
              <a:rPr b="0" lang="en-US" sz="3200" spc="-1" strike="noStrike">
                <a:solidFill>
                  <a:srgbClr val="dfd293"/>
                </a:solidFill>
                <a:latin typeface="Arial"/>
              </a:rPr>
              <a:t>añ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684360" y="549000"/>
            <a:ext cx="7991280" cy="583236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293"/>
                </a:solidFill>
                <a:latin typeface="Arial"/>
              </a:rPr>
              <a:t>Traje negro, suéter negro tipo "Hugo Boss", zapatos "DKNY", se acerca al viejo </a:t>
            </a:r>
            <a:endParaRPr b="0" lang="en-US" sz="44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293"/>
                </a:solidFill>
                <a:latin typeface="Arial"/>
              </a:rPr>
              <a:t>y le dic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20280"/>
            <a:ext cx="7918560" cy="576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eñor, si le adivino cuántas ovejas tiene Vd. en su rebaño, ¿me regala una?"</a:t>
            </a:r>
            <a:br>
              <a:rPr sz="4400"/>
            </a:br>
            <a:br>
              <a:rPr sz="4400"/>
            </a:br>
            <a:r>
              <a:rPr b="0" lang="en-US" sz="4400" spc="-1" strike="noStrike">
                <a:solidFill>
                  <a:srgbClr val="dfd293"/>
                </a:solidFill>
                <a:latin typeface="Arial"/>
              </a:rPr>
              <a:t>El viejo responde con algo de asombro:</a:t>
            </a:r>
            <a:br>
              <a:rPr sz="4400"/>
            </a:br>
            <a:br>
              <a:rPr sz="4400"/>
            </a:br>
            <a:r>
              <a:rPr b="0" lang="en-US" sz="4400" spc="-1" strike="noStrike">
                <a:solidFill>
                  <a:srgbClr val="dfd293"/>
                </a:solidFill>
                <a:latin typeface="Arial"/>
              </a:rPr>
              <a:t>"Sí, ¿cómo no?"</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539640" y="404640"/>
            <a:ext cx="8136000" cy="604872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fd293"/>
                </a:solidFill>
                <a:latin typeface="Arial"/>
              </a:rPr>
              <a:t>Entonces, el joven vuelve a su 4x4 y saca un Toshiba Tecra 9000 Pentium IV, a 2.4 Ghz con 512 MB de RAM.</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fd293"/>
                </a:solidFill>
                <a:latin typeface="Arial"/>
              </a:rPr>
              <a:t>Se conecta a la Red de Redes vía satélite, baja una base de datos de 300 MB. Entra a una página de la NASA, mediante un satélite identifica la zona exacta donde está el rebaño, calcula el promedio histórico del tamaño de una oveja tipo "Merino" mediante una tabla dinámica de Excel y, con la ejecución de algunas</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fd293"/>
                </a:solidFill>
                <a:latin typeface="Arial"/>
              </a:rPr>
              <a:t>Macros personalizadas en Visual Basic, logra completar diagrama de fluj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360"/>
            <a:ext cx="777240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Después de veinte minutos, </a:t>
            </a:r>
            <a:br>
              <a:rPr sz="4400"/>
            </a:br>
            <a:r>
              <a:rPr b="0" lang="en-US" sz="4400" spc="-1" strike="noStrike">
                <a:solidFill>
                  <a:srgbClr val="dfd293"/>
                </a:solidFill>
                <a:latin typeface="Arial"/>
              </a:rPr>
              <a:t>le dice al viejo:</a:t>
            </a:r>
            <a:br>
              <a:rPr sz="4400"/>
            </a:br>
            <a:br>
              <a:rPr sz="4400"/>
            </a:br>
            <a:r>
              <a:rPr b="0" lang="en-US" sz="4400" spc="-1" strike="noStrike">
                <a:solidFill>
                  <a:srgbClr val="dfd293"/>
                </a:solidFill>
                <a:latin typeface="Arial"/>
              </a:rPr>
              <a:t>"Vd. tiene 1,347 ovejas; 256 machos, 1,091 hembras y 4 pueden estar preñadas"</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404640"/>
            <a:ext cx="820728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El viejo, asombrado le dijo que, efectivamente, así era, y que se podía llevar una oveja.</a:t>
            </a:r>
            <a:br>
              <a:rPr sz="4000"/>
            </a:br>
            <a:br>
              <a:rPr sz="4000"/>
            </a:br>
            <a:r>
              <a:rPr b="0" lang="en-US" sz="4000" spc="-1" strike="noStrike">
                <a:solidFill>
                  <a:srgbClr val="dfd293"/>
                </a:solidFill>
                <a:latin typeface="Arial"/>
              </a:rPr>
              <a:t>El joven coge uno de los animales y lo carga en su 4x4. Estaba a punto de irse, cuando el viejo le </a:t>
            </a:r>
            <a:br>
              <a:rPr sz="4000"/>
            </a:br>
            <a:r>
              <a:rPr b="0" lang="en-US" sz="4000" spc="-1" strike="noStrike">
                <a:solidFill>
                  <a:srgbClr val="dfd293"/>
                </a:solidFill>
                <a:latin typeface="Arial"/>
              </a:rPr>
              <a:t>detuvo y le preguntó:</a:t>
            </a:r>
            <a:endParaRPr b="0" lang="en-US" sz="4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404640"/>
            <a:ext cx="8207280" cy="604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Disculpe, pero si yo llegase a adivinar para quién trabaja ¿me devuelve Vd. mi animal?"</a:t>
            </a:r>
            <a:br>
              <a:rPr sz="4400"/>
            </a:br>
            <a:br>
              <a:rPr sz="4400"/>
            </a:br>
            <a:r>
              <a:rPr b="0" lang="en-US" sz="4400" spc="-1" strike="noStrike">
                <a:solidFill>
                  <a:srgbClr val="dfd293"/>
                </a:solidFill>
                <a:latin typeface="Arial"/>
              </a:rPr>
              <a:t>El joven le dijo sonriente:</a:t>
            </a:r>
            <a:br>
              <a:rPr sz="4400"/>
            </a:br>
            <a:br>
              <a:rPr sz="4400"/>
            </a:br>
            <a:r>
              <a:rPr b="0" lang="en-US" sz="4400" spc="-1" strike="noStrike">
                <a:solidFill>
                  <a:srgbClr val="dfd293"/>
                </a:solidFill>
                <a:latin typeface="Arial"/>
              </a:rPr>
              <a:t>"Claro, hombre ¡Inténtelo!“, </a:t>
            </a: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475920"/>
            <a:ext cx="8132760" cy="597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l viejo entonces contestó:</a:t>
            </a:r>
            <a:br>
              <a:rPr sz="4400"/>
            </a:br>
            <a:br>
              <a:rPr sz="4400"/>
            </a:br>
            <a:br>
              <a:rPr sz="4400"/>
            </a:br>
            <a:r>
              <a:rPr b="0" lang="en-US" sz="4400" spc="-1" strike="noStrike">
                <a:solidFill>
                  <a:srgbClr val="ffff99"/>
                </a:solidFill>
                <a:latin typeface="Arial"/>
              </a:rPr>
              <a:t>"UD. TRABAJA   EN LA SUNAT"</a:t>
            </a:r>
            <a:br>
              <a:rPr sz="4400"/>
            </a:br>
            <a:endParaRPr b="0" lang="en-US" sz="44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6:24:45Z</dcterms:created>
  <dc:creator>ALFONSO</dc:creator>
  <dc:description/>
  <dc:language>en-US</dc:language>
  <cp:lastModifiedBy>Solis</cp:lastModifiedBy>
  <dcterms:modified xsi:type="dcterms:W3CDTF">2006-05-30T00:31:56Z</dcterms:modified>
  <cp:revision>5</cp:revision>
  <dc:subject/>
  <dc:title>Estaba un hombre dando de pastar a su rebaño de ovejas, cuando de repente aparece por el inhóspito camino</dc:title>
</cp:coreProperties>
</file>