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4E-4EC3-43BD-8FF9-9B56867F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D10-33AE-4A43-9B5B-45C50C0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042-DAB1-4EBA-929E-C265805A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206-6EAC-499F-9CE8-CC589304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BDE-D356-4CD1-BF9B-5131C39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779-7D96-46E9-A4D1-6564EDC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53B-7187-4630-A5AF-2467E63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9B3-25C5-4705-8448-7D1AF7C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1B3-A487-496B-B1C4-7BD7F33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300-8A90-4616-836D-5F96AC9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828-6091-4B16-94FA-5D07CB0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F15-D2EC-4ACB-A35C-78C14A0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1B0-39FE-4A97-8E35-BBC009E244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-8451720"/>
            <a:ext cx="9144000" cy="830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0000"/>
                </a:solidFill>
                <a:latin typeface="Arial"/>
              </a:rPr>
              <a:t>EL FUTURO DEL PERÚ</a:t>
            </a:r>
            <a:br>
              <a:rPr sz="4200"/>
            </a:br>
            <a:r>
              <a:rPr b="0" lang="es-PE" sz="4200" spc="-1" strike="noStrike">
                <a:solidFill>
                  <a:srgbClr val="000000"/>
                </a:solidFill>
                <a:latin typeface="Arial"/>
              </a:rPr>
              <a:t>SI SALE ELEGI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3213000"/>
            <a:ext cx="640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0" spc="-1" strike="noStrike">
                <a:solidFill>
                  <a:srgbClr val="ff0000"/>
                </a:solidFill>
                <a:latin typeface="Arial"/>
              </a:rPr>
              <a:t>LLAN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328760" y="2781360"/>
            <a:ext cx="20271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1.21042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796000" y="2276640"/>
            <a:ext cx="2879640" cy="1657080"/>
          </a:xfrm>
          <a:prstGeom prst="wedgeEllipseCallout">
            <a:avLst>
              <a:gd name="adj1" fmla="val -63120"/>
              <a:gd name="adj2" fmla="val 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 ver si mañana en tu vejez, el gobierno te llega a devolver tu p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2060640"/>
            <a:ext cx="2268360" cy="3097080"/>
          </a:xfrm>
          <a:prstGeom prst="wedgeEllipseCallout">
            <a:avLst>
              <a:gd name="adj1" fmla="val 60916"/>
              <a:gd name="adj2" fmla="val -2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es jefe. Claro, según ellos, dicen que es para que se tenga una pensión mínima en la vej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96000" y="2060640"/>
            <a:ext cx="3348000" cy="1944720"/>
          </a:xfrm>
          <a:prstGeom prst="wedgeEllipseCallout">
            <a:avLst>
              <a:gd name="adj1" fmla="val -61287"/>
              <a:gd name="adj2" fmla="val 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 este gobierno “administrando” nuestras pensiones, qué triste va a ser la vejez de los peru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1484280"/>
            <a:ext cx="3419640" cy="1441440"/>
          </a:xfrm>
          <a:prstGeom prst="wedgeEllipseCallout">
            <a:avLst>
              <a:gd name="adj1" fmla="val 18106"/>
              <a:gd name="adj2" fmla="val 67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ifícil, si no imposible. ¿En qué se estará gastando Ollanta nuestros apor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124000" y="2421000"/>
            <a:ext cx="1511280" cy="936720"/>
          </a:xfrm>
          <a:prstGeom prst="wedgeEllipseCallout">
            <a:avLst>
              <a:gd name="adj1" fmla="val 32458"/>
              <a:gd name="adj2" fmla="val 5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Bu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292720" y="2349360"/>
            <a:ext cx="1511280" cy="936720"/>
          </a:xfrm>
          <a:prstGeom prst="wedgeEllipseCallout">
            <a:avLst>
              <a:gd name="adj1" fmla="val -65439"/>
              <a:gd name="adj2" fmla="val 42032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í, ¿Qué qui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1332000" y="2060640"/>
            <a:ext cx="2519280" cy="1152360"/>
          </a:xfrm>
          <a:prstGeom prst="wedgeEllipseCallout">
            <a:avLst>
              <a:gd name="adj1" fmla="val 39981"/>
              <a:gd name="adj2" fmla="val 65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Quiero comprar un teléfono fijo para mi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5364000" y="1989000"/>
            <a:ext cx="3780000" cy="2880000"/>
          </a:xfrm>
          <a:prstGeom prst="wedgeEllipseCallout">
            <a:avLst>
              <a:gd name="adj1" fmla="val -57726"/>
              <a:gd name="adj2" fmla="val -7111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iene que presentar el formulario lleno, copia de DNI, partida de nacimiento, un recibo de luz, un recibo de agua y otros documentos más que se indican en el formu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1403280" y="2060640"/>
            <a:ext cx="2952720" cy="1152360"/>
          </a:xfrm>
          <a:prstGeom prst="wedgeEllipseCallout">
            <a:avLst>
              <a:gd name="adj1" fmla="val 24356"/>
              <a:gd name="adj2" fmla="val 65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Y en cuánto tiempo me instalan la lín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364000" y="2492280"/>
            <a:ext cx="2953080" cy="936720"/>
          </a:xfrm>
          <a:prstGeom prst="wedgeEllipseCallout">
            <a:avLst>
              <a:gd name="adj1" fmla="val -59893"/>
              <a:gd name="adj2" fmla="val 28134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la instalarán dentro de 2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332000" y="2276640"/>
            <a:ext cx="2519280" cy="936360"/>
          </a:xfrm>
          <a:prstGeom prst="wedgeEllipseCallout">
            <a:avLst>
              <a:gd name="adj1" fmla="val 39981"/>
              <a:gd name="adj2" fmla="val 6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Tanto tiempo dem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364000" y="1916280"/>
            <a:ext cx="3780000" cy="2233440"/>
          </a:xfrm>
          <a:prstGeom prst="wedgeEllipseCallout">
            <a:avLst>
              <a:gd name="adj1" fmla="val -57726"/>
              <a:gd name="adj2" fmla="val 8564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i no le gusta, vaya a otra empresa… verdad, esta es la única que hay ¡¡ ja, ja, ja!!. Y ahora deje de molestar que estoy ocup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79280" y="1844640"/>
            <a:ext cx="2810160" cy="1152720"/>
          </a:xfrm>
          <a:prstGeom prst="wedgeEllipseCallout">
            <a:avLst>
              <a:gd name="adj1" fmla="val 50902"/>
              <a:gd name="adj2" fmla="val 5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 encuentro chamba en ningún 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5435640" y="1989000"/>
            <a:ext cx="3384360" cy="1152720"/>
          </a:xfrm>
          <a:prstGeom prst="wedgeEllipseCallout">
            <a:avLst>
              <a:gd name="adj1" fmla="val -38601"/>
              <a:gd name="adj2" fmla="val 58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tampoco. Todos los puestos requieren exper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1557360"/>
            <a:ext cx="2989440" cy="1944720"/>
          </a:xfrm>
          <a:prstGeom prst="wedgeEllipseCallout">
            <a:avLst>
              <a:gd name="adj1" fmla="val 53824"/>
              <a:gd name="adj2" fmla="val 36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ómo quisiera que todavía existieran los convenios de Formación Laboral Juve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940360" y="1989000"/>
            <a:ext cx="3203640" cy="2232000"/>
          </a:xfrm>
          <a:prstGeom prst="wedgeEllipseCallout">
            <a:avLst>
              <a:gd name="adj1" fmla="val -54907"/>
              <a:gd name="adj2" fmla="val 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hubiéramos podido capacitarnos en algo, tener experiencia, y luego conseguir una buena cham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9280" y="1916280"/>
            <a:ext cx="2664000" cy="2232000"/>
          </a:xfrm>
          <a:prstGeom prst="wedgeEllipseCallout">
            <a:avLst>
              <a:gd name="adj1" fmla="val 59773"/>
              <a:gd name="adj2" fmla="val 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ahora, sin experiencia, y con lo mal que van las cosas, nadie nos va a contra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867280" y="1916280"/>
            <a:ext cx="2664000" cy="1223640"/>
          </a:xfrm>
          <a:prstGeom prst="wedgeEllipseCallout">
            <a:avLst>
              <a:gd name="adj1" fmla="val -53694"/>
              <a:gd name="adj2" fmla="val 54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todo gracias al gobierno de Hum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1700280"/>
            <a:ext cx="3816360" cy="2160360"/>
          </a:xfrm>
          <a:prstGeom prst="wedgeEllipseCallout">
            <a:avLst>
              <a:gd name="adj1" fmla="val 57611"/>
              <a:gd name="adj2" fmla="val 22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sotros opinamos que las últimas medidas del gobierno de Humala representan una amenaza al sistema democr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724360" y="2276640"/>
            <a:ext cx="3240360" cy="1655640"/>
          </a:xfrm>
          <a:prstGeom prst="wedgeEllipseCallout">
            <a:avLst>
              <a:gd name="adj1" fmla="val -52009"/>
              <a:gd name="adj2" fmla="val 4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si hace poco tiempo parecía que todo iba bien en la empres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826920" y="1557360"/>
            <a:ext cx="3276720" cy="1944720"/>
          </a:xfrm>
          <a:prstGeom prst="wedgeEllipseCallout">
            <a:avLst>
              <a:gd name="adj1" fmla="val 25629"/>
              <a:gd name="adj2" fmla="val 79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tamos fritos… Quebró la exportadora y por tanto, nos quedamos sin cham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724360" y="2276640"/>
            <a:ext cx="3240360" cy="1655640"/>
          </a:xfrm>
          <a:prstGeom prst="wedgeEllipseCallout">
            <a:avLst>
              <a:gd name="adj1" fmla="val -52009"/>
              <a:gd name="adj2" fmla="val 4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obviamente esos países cerraron las puertas a los productos peru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0" y="1989000"/>
            <a:ext cx="4572000" cy="1584360"/>
          </a:xfrm>
          <a:prstGeom prst="wedgeEllipseCallout">
            <a:avLst>
              <a:gd name="adj1" fmla="val 22291"/>
              <a:gd name="adj2" fmla="val 81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í. Pero de ahí el gobierno renegoció los TLC... Cerraron las puertas a varios productos extranjer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724360" y="2276640"/>
            <a:ext cx="2951280" cy="1657080"/>
          </a:xfrm>
          <a:prstGeom prst="wedgeEllipseCallout">
            <a:avLst>
              <a:gd name="adj1" fmla="val -54680"/>
              <a:gd name="adj2" fmla="val 49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al final los más afectados somos nosotros,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684360" y="2708280"/>
            <a:ext cx="3527280" cy="865080"/>
          </a:xfrm>
          <a:prstGeom prst="wedgeEllipseCallout">
            <a:avLst>
              <a:gd name="adj1" fmla="val 24300"/>
              <a:gd name="adj2" fmla="val 108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es. Eso hizo quebrar a la empresa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435640" y="3860640"/>
            <a:ext cx="2951280" cy="1297080"/>
          </a:xfrm>
          <a:prstGeom prst="wedgeEllipseCallout">
            <a:avLst>
              <a:gd name="adj1" fmla="val -54787"/>
              <a:gd name="adj2" fmla="val 51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apá, ¿por qué aquella mina está abandon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50920" y="2060640"/>
            <a:ext cx="4825800" cy="1152360"/>
          </a:xfrm>
          <a:prstGeom prst="wedgeEllipseCallout">
            <a:avLst>
              <a:gd name="adj1" fmla="val 9870"/>
              <a:gd name="adj2" fmla="val 86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Hace pocos años, una empresa minera llegó al pueblo, y empezó a excavar esta 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250920" y="2060640"/>
            <a:ext cx="6553080" cy="1152360"/>
          </a:xfrm>
          <a:prstGeom prst="wedgeEllipseCallout">
            <a:avLst>
              <a:gd name="adj1" fmla="val -4361"/>
              <a:gd name="adj2" fmla="val 87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estaba muy esperanzado en entrar a trabajar a esta mina, y así también gozar de los beneficios del crecimient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250920" y="1844640"/>
            <a:ext cx="6553080" cy="1513080"/>
          </a:xfrm>
          <a:prstGeom prst="wedgeEllipseCallout">
            <a:avLst>
              <a:gd name="adj1" fmla="val -4361"/>
              <a:gd name="adj2" fmla="val 69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demás sabía que nuestro pueblo también se iba a ver beneficiado por las regalías mineras y por las obras que estas empresas realizan en los lugares donde ope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50920" y="1916280"/>
            <a:ext cx="6265800" cy="1296720"/>
          </a:xfrm>
          <a:prstGeom prst="wedgeEllipseCallout">
            <a:avLst>
              <a:gd name="adj1" fmla="val -240"/>
              <a:gd name="adj2" fmla="val 79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entró Humala al gobierno y le cambió las reglas de juego a las mineras. Es así que muchas empresas se retiraron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250920" y="1773360"/>
            <a:ext cx="6265800" cy="1439640"/>
          </a:xfrm>
          <a:prstGeom prst="wedgeEllipseCallout">
            <a:avLst>
              <a:gd name="adj1" fmla="val -240"/>
              <a:gd name="adj2" fmla="val 76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o fue lo que pasó aquí. La empresa se fue, se perdió mi oportunidad de una buena chamba, y el pueblo y yo seguimos tan pobres como siemp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/>
          <p:cNvSpPr/>
          <p:nvPr/>
        </p:nvSpPr>
        <p:spPr>
          <a:xfrm>
            <a:off x="5651640" y="1844640"/>
            <a:ext cx="3168360" cy="1150920"/>
          </a:xfrm>
          <a:prstGeom prst="wedgeEllipseCallout">
            <a:avLst>
              <a:gd name="adj1" fmla="val -44287"/>
              <a:gd name="adj2" fmla="val 61449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lto ahí. ¿Qué es lo que está sembrando en estas tier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979640" y="2205000"/>
            <a:ext cx="2736720" cy="863640"/>
          </a:xfrm>
          <a:prstGeom prst="wedgeEllipseCallout">
            <a:avLst>
              <a:gd name="adj1" fmla="val -2495"/>
              <a:gd name="adj2" fmla="val 80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toy sembrando m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060640"/>
            <a:ext cx="3421080" cy="1297080"/>
          </a:xfrm>
          <a:prstGeom prst="wedgeEllipseCallout">
            <a:avLst>
              <a:gd name="adj1" fmla="val 52180"/>
              <a:gd name="adj2" fmla="val 42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ughhh… Pero si estamos defendiendo la democraci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6372360" y="2133720"/>
            <a:ext cx="2627280" cy="863640"/>
          </a:xfrm>
          <a:prstGeom prst="wedgeEllipseCallout">
            <a:avLst>
              <a:gd name="adj1" fmla="val -58398"/>
              <a:gd name="adj2" fmla="val 65990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oma por hablar idiot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5651640" y="2060640"/>
            <a:ext cx="3168360" cy="934920"/>
          </a:xfrm>
          <a:prstGeom prst="wedgeEllipseCallout">
            <a:avLst>
              <a:gd name="adj1" fmla="val -44287"/>
              <a:gd name="adj2" fmla="val 64092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a no más. Ahora sembrará to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826920" y="1844640"/>
            <a:ext cx="3889440" cy="1224000"/>
          </a:xfrm>
          <a:prstGeom prst="wedgeEllipseCallout">
            <a:avLst>
              <a:gd name="adj1" fmla="val 13060"/>
              <a:gd name="adj2" fmla="val 71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señor, yo siempre me he dedicado al maíz. Es lo que mejor sé ha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>
            <a:off x="4356000" y="1916280"/>
            <a:ext cx="4788000" cy="1152360"/>
          </a:xfrm>
          <a:prstGeom prst="wedgeEllipseCallout">
            <a:avLst>
              <a:gd name="adj1" fmla="val -19166"/>
              <a:gd name="adj2" fmla="val 55097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ues los planificadores estatales quieren que se planten tomates, y así se ha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00000" y="1844640"/>
            <a:ext cx="2592360" cy="1224000"/>
          </a:xfrm>
          <a:prstGeom prst="wedgeEllipseCallout">
            <a:avLst>
              <a:gd name="adj1" fmla="val 40384"/>
              <a:gd name="adj2" fmla="val 61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Por qué? Eso es injusto, esta mi tierr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1979640" y="2249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547640" y="1844640"/>
            <a:ext cx="4824720" cy="1152720"/>
          </a:xfrm>
          <a:prstGeom prst="wedgeEllipseCallout">
            <a:avLst>
              <a:gd name="adj1" fmla="val 29074"/>
              <a:gd name="adj2" fmla="val 69009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je de quejarse o si no le expropiamos su tierra. Y ahora, póngase a plantar to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/>
          <p:cNvSpPr/>
          <p:nvPr/>
        </p:nvSpPr>
        <p:spPr>
          <a:xfrm>
            <a:off x="2843280" y="2060640"/>
            <a:ext cx="5832360" cy="1224000"/>
          </a:xfrm>
          <a:prstGeom prst="wedgeEllipseCallout">
            <a:avLst>
              <a:gd name="adj1" fmla="val -41180"/>
              <a:gd name="adj2" fmla="val 89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isculpe capitán. Soy un marinero de Perú. Quería saber cuando va a atracar el barco en un puerto peru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95280" y="2205000"/>
            <a:ext cx="2232000" cy="1224000"/>
          </a:xfrm>
          <a:prstGeom prst="wedgeEllipseCallout">
            <a:avLst>
              <a:gd name="adj1" fmla="val 70199"/>
              <a:gd name="adj2" fmla="val 77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Me temo que eso no va a ser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4284720" y="2924280"/>
            <a:ext cx="3240000" cy="1224000"/>
          </a:xfrm>
          <a:prstGeom prst="wedgeEllipseCallout">
            <a:avLst>
              <a:gd name="adj1" fmla="val -78611"/>
              <a:gd name="adj2" fmla="val 18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nsé que nos dirigíamos a sud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0" y="1628640"/>
            <a:ext cx="4716360" cy="1800360"/>
          </a:xfrm>
          <a:prstGeom prst="wedgeEllipseCallout">
            <a:avLst>
              <a:gd name="adj1" fmla="val 15263"/>
              <a:gd name="adj2" fmla="val 6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o es cierto. Vamos a llevar mercadería a varios países de Sudamérica, y luego vamos a llevar sus exportaciones a otras part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4284720" y="3141720"/>
            <a:ext cx="1727280" cy="647640"/>
          </a:xfrm>
          <a:prstGeom prst="wedgeEllipseCallout">
            <a:avLst>
              <a:gd name="adj1" fmla="val -103675"/>
              <a:gd name="adj2" fmla="val 45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1116000" y="2205000"/>
            <a:ext cx="2519280" cy="1224000"/>
          </a:xfrm>
          <a:prstGeom prst="wedgeEllipseCallout">
            <a:avLst>
              <a:gd name="adj1" fmla="val 27884"/>
              <a:gd name="adj2" fmla="val 75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no vamos a parar en el Per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4067280" y="3141720"/>
            <a:ext cx="3240000" cy="1655640"/>
          </a:xfrm>
          <a:prstGeom prst="wedgeEllipseCallout">
            <a:avLst>
              <a:gd name="adj1" fmla="val -71902"/>
              <a:gd name="adj2" fmla="val -12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 que ahora los puertos peruanos los maneja el Estado. Es tan lame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0" y="1628640"/>
            <a:ext cx="4859280" cy="1800360"/>
          </a:xfrm>
          <a:prstGeom prst="wedgeEllipseCallout">
            <a:avLst>
              <a:gd name="adj1" fmla="val 13347"/>
              <a:gd name="adj2" fmla="val 6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rque sus puertos no tienen la infraestructura adecuada, no tienen la capacidad de atender estos barcos, y para colmo, los costos son altís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900000" y="2565360"/>
            <a:ext cx="2521080" cy="1008000"/>
          </a:xfrm>
          <a:prstGeom prst="wedgeEllipseCallout">
            <a:avLst>
              <a:gd name="adj1" fmla="val 48490"/>
              <a:gd name="adj2" fmla="val 5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Y cómo le va con su tax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5580000" y="2133720"/>
            <a:ext cx="2449440" cy="1079280"/>
          </a:xfrm>
          <a:prstGeom prst="wedgeEllipseCallout">
            <a:avLst>
              <a:gd name="adj1" fmla="val -57777"/>
              <a:gd name="adj2" fmla="val 36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Mal. Me está yendo muy 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5580000" y="2133720"/>
            <a:ext cx="2952720" cy="1150920"/>
          </a:xfrm>
          <a:prstGeom prst="wedgeEllipseCallout">
            <a:avLst>
              <a:gd name="adj1" fmla="val -56453"/>
              <a:gd name="adj2" fmla="val 30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o la situación está mal, no hay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3564000" y="1916280"/>
            <a:ext cx="5580000" cy="1150920"/>
          </a:xfrm>
          <a:prstGeom prst="wedgeEllipseCallout">
            <a:avLst>
              <a:gd name="adj1" fmla="val -16143"/>
              <a:gd name="adj2" fmla="val 61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que con mi esfuerzo logré sacar un crédito para adquirir este carrito… ¿Y ahora sabe que es lo pe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280" y="2637000"/>
            <a:ext cx="2448000" cy="576000"/>
          </a:xfrm>
          <a:prstGeom prst="wedgeEllipseCallout">
            <a:avLst>
              <a:gd name="adj1" fmla="val 72504"/>
              <a:gd name="adj2" fmla="val 104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. Cuént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6372360" y="1989000"/>
            <a:ext cx="2592360" cy="3024360"/>
          </a:xfrm>
          <a:prstGeom prst="wedgeEllipseCallout">
            <a:avLst>
              <a:gd name="adj1" fmla="val -59490"/>
              <a:gd name="adj2" fmla="val -17138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la ‘democracia de Ollanta’ no la estás defendiendo. Así que te vas adentro, por 2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3203640" y="1916280"/>
            <a:ext cx="5940360" cy="1150920"/>
          </a:xfrm>
          <a:prstGeom prst="wedgeEllipseCallout">
            <a:avLst>
              <a:gd name="adj1" fmla="val -12134"/>
              <a:gd name="adj2" fmla="val 61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Que ahora, a mi carro que tiene ya 5 años, le van a clavar el impuesto veh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95280" y="1773360"/>
            <a:ext cx="2448000" cy="2016000"/>
          </a:xfrm>
          <a:prstGeom prst="wedgeEllipseCallout">
            <a:avLst>
              <a:gd name="adj1" fmla="val 72504"/>
              <a:gd name="adj2" fmla="val 36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pasa este gobierno. Se ve que quieren sacar plata de dond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5470560" y="1989000"/>
            <a:ext cx="3422520" cy="1152720"/>
          </a:xfrm>
          <a:prstGeom prst="wedgeEllipseCallout">
            <a:avLst>
              <a:gd name="adj1" fmla="val -47912"/>
              <a:gd name="adj2" fmla="val 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yo no sé de donde yo voy a sacar para pagar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ta fue una muestra de lo que pasará si sale elegido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n resumen, el Perú con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será un país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empobrecido, sin empleo, aislad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comercialmente del mundo, con una libertad de prensa amenzada, y con empresas estatales ineficientes y corruptas que les interesa un rábano atender a sus cl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creas sus discursos edulcorados donde dice no ser radical, pues detrás de esas aparienci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esconde el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radical estatista y pro-Chavis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 No caigas en su trampa, ya has visto su Pl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hora te pido algo que te puede resulta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difícil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 mí no me gusta la otra candidata. Yo no voté por ella en la primera vuelta.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visto el escenario actual,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ella es la única opción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para asegura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al menos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que el modelo de desarrollo económico continúe y sobre todo, tengamos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libertad económic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razones prácticas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La ley indica que solo si 2/3 (66%) del electorado vota blanco o viciado se hará nuevamente una elección. ¡¡Pero en la primera vuelta, entre los 2 candidatos sumaron más del 50% del electorado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razones éticas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conocida la escasa ética con que se manejó el país en el gobierno fujimorista. Y quizás no quieras ser “cómplice” de un eventual futuro gobierno de Keik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dejando tu voto sin candidato, estás dando pie a la posibilidad de que salga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, quien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respetará ni la constitución, ni las libertades individuales ni económicas, tal como su modelo a seguir,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go Chávez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ntonces, indirectamente, serías “cómplice” de algo pe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más fácil no elegir y no sentirse directamente “cómplice”, a pesar de ser indirectamente “cómplice” de algo peor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 veces lo éticamente correcto es difícil de hacer. Este es uno de esos casos.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Hagamos lo correcto, libremos al país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 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híg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justificable sentirse con cólera por algunos hechos ocurridos durante el gobierno fujimorista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en esta, y cualquier otra situación, lo mejor es pensar con la cabeza y no con el híg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Imagínate que por tu ausencia de voto se da pie a qu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suba al poder, y te quite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tus libertades individuales y económicas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 ¿Acaso eso, que te quiten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tu futur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, no te daría mucha rabia, tanta o más de la que ahora sientes?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so, vota con la cabeza, por el bien de tu híg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todo lo expuesto, te pido – no sin cierto sinsabor – que votes po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candida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que es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rival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los mercados y el desarrollo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las libertades individuales y económicas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tu futuro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l futuro de tus hijos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l futuro de las generaciones por venir.</a:t>
            </a:r>
            <a:br>
              <a:rPr sz="4000"/>
            </a:br>
            <a:br>
              <a:rPr sz="4000"/>
            </a:b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Por el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1979640" y="227808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6659640" y="2852640"/>
            <a:ext cx="2016000" cy="1728720"/>
          </a:xfrm>
          <a:prstGeom prst="wedgeRectCallout">
            <a:avLst>
              <a:gd name="adj1" fmla="val -58976"/>
              <a:gd name="adj2" fmla="val 80120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seguimos, en cadena nacional, con el programa de nuestro presidente Ollanta Hum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64000" y="2060640"/>
            <a:ext cx="2808360" cy="936720"/>
          </a:xfrm>
          <a:prstGeom prst="wedgeEllipseCallout">
            <a:avLst>
              <a:gd name="adj1" fmla="val -46550"/>
              <a:gd name="adj2" fmla="val 6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Han aumentado tus gast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0" y="1628640"/>
            <a:ext cx="2195640" cy="2232000"/>
          </a:xfrm>
          <a:prstGeom prst="wedgeEllipseCallout">
            <a:avLst>
              <a:gd name="adj1" fmla="val 58240"/>
              <a:gd name="adj2" fmla="val 30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Jefe, ¿podría trabajar horas extras? Es que ahora mi sueldo no me alc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867280" y="2060640"/>
            <a:ext cx="2449800" cy="1512720"/>
          </a:xfrm>
          <a:prstGeom prst="wedgeEllipseCallout">
            <a:avLst>
              <a:gd name="adj1" fmla="val -68342"/>
              <a:gd name="adj2" fmla="val 25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pensaba que estabas inscrito en una AF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0" y="1700280"/>
            <a:ext cx="2268360" cy="2879640"/>
          </a:xfrm>
          <a:prstGeom prst="wedgeEllipseCallout">
            <a:avLst>
              <a:gd name="adj1" fmla="val 60916"/>
              <a:gd name="adj2" fmla="val -1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, lo que pasa es que me están  descontando un monto por el sistema público de pen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796000" y="2276640"/>
            <a:ext cx="3168720" cy="1657080"/>
          </a:xfrm>
          <a:prstGeom prst="wedgeEllipseCallout">
            <a:avLst>
              <a:gd name="adj1" fmla="val -61925"/>
              <a:gd name="adj2" fmla="val 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pasaron. Este gobierno quiere forrarse con la plata de los trabaj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0" y="1700280"/>
            <a:ext cx="2268360" cy="2016000"/>
          </a:xfrm>
          <a:prstGeom prst="wedgeEllipseCallout">
            <a:avLst>
              <a:gd name="adj1" fmla="val 60916"/>
              <a:gd name="adj2" fmla="val 5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Lo estoy. Pero aparte me hacen ese descuento oblig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12:59Z</dcterms:created>
  <dc:creator/>
  <dc:description/>
  <dc:language>en-US</dc:language>
  <cp:lastModifiedBy>MARIPILI</cp:lastModifiedBy>
  <dcterms:modified xsi:type="dcterms:W3CDTF">2011-05-14T00:07:49Z</dcterms:modified>
  <cp:revision>23</cp:revision>
  <dc:subject/>
  <dc:title>EL FUTURO DEL PERÚ SI SALE ELEGIDO</dc:title>
</cp:coreProperties>
</file>