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4990-0551-49B5-8C2C-69EFF6CA6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9B80-BBE3-4A1A-9720-1181F9EE3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0CDE-A524-4C61-BC4B-340535639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D21C-6A42-40F1-AC1A-03808F1FC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9E4A-EE7E-4A28-8CE0-0F5112DCD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310C-72EB-4940-A759-48F2B9498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D13E-9E7A-46CF-B842-6D89F6EF4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EE2A-BEF3-434A-BBEC-56BBC5C47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B126-BADA-4C69-8B33-B47E9DA35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C393-E00B-42D4-B6F8-95A03C9D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840F-3303-471A-A48A-A86326D42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E1D8-1EDC-431A-AEBD-401C6A6B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2FD99-60F4-4E93-B212-3F32B0D54A0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"/>
          <p:cNvPicPr/>
          <p:nvPr/>
        </p:nvPicPr>
        <p:blipFill>
          <a:blip r:embed="rId1"/>
          <a:stretch/>
        </p:blipFill>
        <p:spPr>
          <a:xfrm>
            <a:off x="0" y="-8451720"/>
            <a:ext cx="9144000" cy="83088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200" spc="-1" strike="noStrike">
                <a:solidFill>
                  <a:srgbClr val="000000"/>
                </a:solidFill>
                <a:latin typeface="Arial"/>
              </a:rPr>
              <a:t>EL FUTURO DEL PERÚ</a:t>
            </a:r>
            <a:br>
              <a:rPr sz="4200"/>
            </a:br>
            <a:r>
              <a:rPr b="0" lang="es-PE" sz="4200" spc="-1" strike="noStrike">
                <a:solidFill>
                  <a:srgbClr val="000000"/>
                </a:solidFill>
                <a:latin typeface="Arial"/>
              </a:rPr>
              <a:t>SI SALE ELEGID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3213000"/>
            <a:ext cx="640872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9000" spc="-1" strike="noStrike">
                <a:solidFill>
                  <a:srgbClr val="ff0000"/>
                </a:solidFill>
                <a:latin typeface="Arial"/>
              </a:rPr>
              <a:t>LLANTA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2"/>
          <a:stretch/>
        </p:blipFill>
        <p:spPr>
          <a:xfrm>
            <a:off x="1328760" y="2781360"/>
            <a:ext cx="2027160" cy="21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7.40741E-007 L 0 1.21042 E">
                                      <p:cBhvr>
                                        <p:cTn id="22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1979640" y="2276640"/>
            <a:ext cx="5153040" cy="37717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Afiliación obligatoria en el sistema público de pensiones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 u="sng">
                <a:solidFill>
                  <a:srgbClr val="000000"/>
                </a:solidFill>
                <a:uFillTx/>
                <a:latin typeface="Arial"/>
              </a:rPr>
              <a:t>Verdadero</a:t>
            </a: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 Plan de Gobierno de Humala, pag.17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5796000" y="2276640"/>
            <a:ext cx="2879640" cy="1657080"/>
          </a:xfrm>
          <a:prstGeom prst="wedgeEllipseCallout">
            <a:avLst>
              <a:gd name="adj1" fmla="val -63120"/>
              <a:gd name="adj2" fmla="val 5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A ver si mañana en tu vejez, el gobierno te llega a devolver tu pl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6"/>
          <p:cNvSpPr/>
          <p:nvPr/>
        </p:nvSpPr>
        <p:spPr>
          <a:xfrm>
            <a:off x="0" y="2060640"/>
            <a:ext cx="2268360" cy="3097080"/>
          </a:xfrm>
          <a:prstGeom prst="wedgeEllipseCallout">
            <a:avLst>
              <a:gd name="adj1" fmla="val 60916"/>
              <a:gd name="adj2" fmla="val -257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Así es jefe. Claro, según ellos, dicen que es para que se tenga una pensión mínima en la veje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1979640" y="2276640"/>
            <a:ext cx="5153040" cy="37717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Afiliación obligatoria en el sistema público de pensiones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 u="sng">
                <a:solidFill>
                  <a:srgbClr val="000000"/>
                </a:solidFill>
                <a:uFillTx/>
                <a:latin typeface="Arial"/>
              </a:rPr>
              <a:t>Verdadero</a:t>
            </a: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 Plan de Gobierno de Humala, pag.17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5"/>
          <p:cNvSpPr/>
          <p:nvPr/>
        </p:nvSpPr>
        <p:spPr>
          <a:xfrm>
            <a:off x="5796000" y="2060640"/>
            <a:ext cx="3348000" cy="1944720"/>
          </a:xfrm>
          <a:prstGeom prst="wedgeEllipseCallout">
            <a:avLst>
              <a:gd name="adj1" fmla="val -61287"/>
              <a:gd name="adj2" fmla="val 8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Con este gobierno “administrando” nuestras pensiones, qué triste va a ser la vejez de los perua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6"/>
          <p:cNvSpPr/>
          <p:nvPr/>
        </p:nvSpPr>
        <p:spPr>
          <a:xfrm>
            <a:off x="0" y="1484280"/>
            <a:ext cx="3419640" cy="1441440"/>
          </a:xfrm>
          <a:prstGeom prst="wedgeEllipseCallout">
            <a:avLst>
              <a:gd name="adj1" fmla="val 18106"/>
              <a:gd name="adj2" fmla="val 6750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Difícil, si no imposible. ¿En qué se estará gastando Ollanta nuestros apor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Se creará la Empresa de Telecomunicaciones del Estado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 u="sng">
                <a:solidFill>
                  <a:srgbClr val="000000"/>
                </a:solidFill>
                <a:uFillTx/>
                <a:latin typeface="Arial"/>
              </a:rPr>
              <a:t>Verdadero</a:t>
            </a: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 Plan de Gobierno de Humala, pag.8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1"/>
          <a:stretch/>
        </p:blipFill>
        <p:spPr>
          <a:xfrm>
            <a:off x="1979640" y="2276640"/>
            <a:ext cx="515304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Se creará la Empresa de Telecomunicaciones del Estado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 u="sng">
                <a:solidFill>
                  <a:srgbClr val="000000"/>
                </a:solidFill>
                <a:uFillTx/>
                <a:latin typeface="Arial"/>
              </a:rPr>
              <a:t>Verdadero</a:t>
            </a: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 Plan de Gobierno de Humala, pag.8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1"/>
          <a:stretch/>
        </p:blipFill>
        <p:spPr>
          <a:xfrm>
            <a:off x="1979640" y="2276640"/>
            <a:ext cx="5153040" cy="3781440"/>
          </a:xfrm>
          <a:prstGeom prst="rect">
            <a:avLst/>
          </a:prstGeom>
          <a:ln w="0">
            <a:noFill/>
          </a:ln>
        </p:spPr>
      </p:pic>
      <p:sp>
        <p:nvSpPr>
          <p:cNvPr id="96" name="AutoShape 7"/>
          <p:cNvSpPr/>
          <p:nvPr/>
        </p:nvSpPr>
        <p:spPr>
          <a:xfrm>
            <a:off x="2124000" y="2421000"/>
            <a:ext cx="1511280" cy="936720"/>
          </a:xfrm>
          <a:prstGeom prst="wedgeEllipseCallout">
            <a:avLst>
              <a:gd name="adj1" fmla="val 32458"/>
              <a:gd name="adj2" fmla="val 5881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Bue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dí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8"/>
          <p:cNvSpPr/>
          <p:nvPr/>
        </p:nvSpPr>
        <p:spPr>
          <a:xfrm>
            <a:off x="5292720" y="2349360"/>
            <a:ext cx="1511280" cy="936720"/>
          </a:xfrm>
          <a:prstGeom prst="wedgeEllipseCallout">
            <a:avLst>
              <a:gd name="adj1" fmla="val -65439"/>
              <a:gd name="adj2" fmla="val 42032"/>
            </a:avLst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Sí, ¿Qué quie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Se creará la Empresa de Telecomunicaciones del Estado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 u="sng">
                <a:solidFill>
                  <a:srgbClr val="000000"/>
                </a:solidFill>
                <a:uFillTx/>
                <a:latin typeface="Arial"/>
              </a:rPr>
              <a:t>Verdadero</a:t>
            </a: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 Plan de Gobierno de Humala, pag.8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1979640" y="2276640"/>
            <a:ext cx="5153040" cy="378144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5"/>
          <p:cNvSpPr/>
          <p:nvPr/>
        </p:nvSpPr>
        <p:spPr>
          <a:xfrm>
            <a:off x="1332000" y="2060640"/>
            <a:ext cx="2519280" cy="1152360"/>
          </a:xfrm>
          <a:prstGeom prst="wedgeEllipseCallout">
            <a:avLst>
              <a:gd name="adj1" fmla="val 39981"/>
              <a:gd name="adj2" fmla="val 65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Quiero comprar un teléfono fijo para mi c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6"/>
          <p:cNvSpPr/>
          <p:nvPr/>
        </p:nvSpPr>
        <p:spPr>
          <a:xfrm>
            <a:off x="5364000" y="1989000"/>
            <a:ext cx="3780000" cy="2880000"/>
          </a:xfrm>
          <a:prstGeom prst="wedgeEllipseCallout">
            <a:avLst>
              <a:gd name="adj1" fmla="val -57726"/>
              <a:gd name="adj2" fmla="val -7111"/>
            </a:avLst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Tiene que presentar el formulario lleno, copia de DNI, partida de nacimiento, un recibo de luz, un recibo de agua y otros documentos más que se indican en el formular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Se creará la Empresa de Telecomunicaciones del Estado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 u="sng">
                <a:solidFill>
                  <a:srgbClr val="000000"/>
                </a:solidFill>
                <a:uFillTx/>
                <a:latin typeface="Arial"/>
              </a:rPr>
              <a:t>Verdadero</a:t>
            </a: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 Plan de Gobierno de Humala, pag.8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1979640" y="2276640"/>
            <a:ext cx="5153040" cy="378144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5"/>
          <p:cNvSpPr/>
          <p:nvPr/>
        </p:nvSpPr>
        <p:spPr>
          <a:xfrm>
            <a:off x="1403280" y="2060640"/>
            <a:ext cx="2952720" cy="1152360"/>
          </a:xfrm>
          <a:prstGeom prst="wedgeEllipseCallout">
            <a:avLst>
              <a:gd name="adj1" fmla="val 24356"/>
              <a:gd name="adj2" fmla="val 65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¿Y en cuánto tiempo me instalan la líne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6"/>
          <p:cNvSpPr/>
          <p:nvPr/>
        </p:nvSpPr>
        <p:spPr>
          <a:xfrm>
            <a:off x="5364000" y="2492280"/>
            <a:ext cx="2953080" cy="936720"/>
          </a:xfrm>
          <a:prstGeom prst="wedgeEllipseCallout">
            <a:avLst>
              <a:gd name="adj1" fmla="val -59893"/>
              <a:gd name="adj2" fmla="val 28134"/>
            </a:avLst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Se la instalarán dentro de 2 añ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7" descr=""/>
          <p:cNvPicPr/>
          <p:nvPr/>
        </p:nvPicPr>
        <p:blipFill>
          <a:blip r:embed="rId1"/>
          <a:stretch/>
        </p:blipFill>
        <p:spPr>
          <a:xfrm>
            <a:off x="1979640" y="2276640"/>
            <a:ext cx="5153040" cy="37814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Se creará la Empresa de Telecomunicaciones del Estado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 u="sng">
                <a:solidFill>
                  <a:srgbClr val="000000"/>
                </a:solidFill>
                <a:uFillTx/>
                <a:latin typeface="Arial"/>
              </a:rPr>
              <a:t>Verdadero</a:t>
            </a: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 Plan de Gobierno de Humala, pag.8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5"/>
          <p:cNvSpPr/>
          <p:nvPr/>
        </p:nvSpPr>
        <p:spPr>
          <a:xfrm>
            <a:off x="1332000" y="2276640"/>
            <a:ext cx="2519280" cy="936360"/>
          </a:xfrm>
          <a:prstGeom prst="wedgeEllipseCallout">
            <a:avLst>
              <a:gd name="adj1" fmla="val 39981"/>
              <a:gd name="adj2" fmla="val 6881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¿Tanto tiempo demor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6"/>
          <p:cNvSpPr/>
          <p:nvPr/>
        </p:nvSpPr>
        <p:spPr>
          <a:xfrm>
            <a:off x="5364000" y="1916280"/>
            <a:ext cx="3780000" cy="2233440"/>
          </a:xfrm>
          <a:prstGeom prst="wedgeEllipseCallout">
            <a:avLst>
              <a:gd name="adj1" fmla="val -57726"/>
              <a:gd name="adj2" fmla="val 8564"/>
            </a:avLst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Si no le gusta, vaya a otra empresa… verdad, esta es la única que hay ¡¡ ja, ja, ja!!. Y ahora deje de molestar que estoy ocup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6" descr=""/>
          <p:cNvPicPr/>
          <p:nvPr/>
        </p:nvPicPr>
        <p:blipFill>
          <a:blip r:embed="rId1"/>
          <a:stretch/>
        </p:blipFill>
        <p:spPr>
          <a:xfrm>
            <a:off x="1979640" y="2259000"/>
            <a:ext cx="5153040" cy="37623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Eliminación de los Convenios de Formación Laboral Juvenil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 u="sng">
                <a:solidFill>
                  <a:srgbClr val="000000"/>
                </a:solidFill>
                <a:uFillTx/>
                <a:latin typeface="Arial"/>
              </a:rPr>
              <a:t>Verdadero</a:t>
            </a: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 Plan de Gobierno de Humala, pag.18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8"/>
          <p:cNvSpPr/>
          <p:nvPr/>
        </p:nvSpPr>
        <p:spPr>
          <a:xfrm>
            <a:off x="179280" y="1844640"/>
            <a:ext cx="2810160" cy="1152720"/>
          </a:xfrm>
          <a:prstGeom prst="wedgeEllipseCallout">
            <a:avLst>
              <a:gd name="adj1" fmla="val 50902"/>
              <a:gd name="adj2" fmla="val 520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No encuentro chamba en ningún l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9"/>
          <p:cNvSpPr/>
          <p:nvPr/>
        </p:nvSpPr>
        <p:spPr>
          <a:xfrm>
            <a:off x="5435640" y="1989000"/>
            <a:ext cx="3384360" cy="1152720"/>
          </a:xfrm>
          <a:prstGeom prst="wedgeEllipseCallout">
            <a:avLst>
              <a:gd name="adj1" fmla="val -38601"/>
              <a:gd name="adj2" fmla="val 582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Yo tampoco. Todos los puestos requieren experien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1979640" y="2259000"/>
            <a:ext cx="5153040" cy="37623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Eliminación de los Convenios de Formación Laboral Juvenil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 u="sng">
                <a:solidFill>
                  <a:srgbClr val="000000"/>
                </a:solidFill>
                <a:uFillTx/>
                <a:latin typeface="Arial"/>
              </a:rPr>
              <a:t>Verdadero</a:t>
            </a: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 Plan de Gobierno de Humala, pag.18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0" y="1557360"/>
            <a:ext cx="2989440" cy="1944720"/>
          </a:xfrm>
          <a:prstGeom prst="wedgeEllipseCallout">
            <a:avLst>
              <a:gd name="adj1" fmla="val 53824"/>
              <a:gd name="adj2" fmla="val 361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Cómo quisiera que todavía existieran los convenios de Formación Laboral Juven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6"/>
          <p:cNvSpPr/>
          <p:nvPr/>
        </p:nvSpPr>
        <p:spPr>
          <a:xfrm>
            <a:off x="5940360" y="1989000"/>
            <a:ext cx="3203640" cy="2232000"/>
          </a:xfrm>
          <a:prstGeom prst="wedgeEllipseCallout">
            <a:avLst>
              <a:gd name="adj1" fmla="val -54907"/>
              <a:gd name="adj2" fmla="val 818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Así hubiéramos podido capacitarnos en algo, tener experiencia, y luego conseguir una buena chamb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1979640" y="2259000"/>
            <a:ext cx="5153040" cy="37623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Eliminación de los Convenios de Formación Laboral Juvenil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 u="sng">
                <a:solidFill>
                  <a:srgbClr val="000000"/>
                </a:solidFill>
                <a:uFillTx/>
                <a:latin typeface="Arial"/>
              </a:rPr>
              <a:t>Verdadero</a:t>
            </a: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 Plan de Gobierno de Humala, pag.18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179280" y="1916280"/>
            <a:ext cx="2664000" cy="2232000"/>
          </a:xfrm>
          <a:prstGeom prst="wedgeEllipseCallout">
            <a:avLst>
              <a:gd name="adj1" fmla="val 59773"/>
              <a:gd name="adj2" fmla="val 89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Pero ahora, sin experiencia, y con lo mal que van las cosas, nadie nos va a contrat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7"/>
          <p:cNvSpPr/>
          <p:nvPr/>
        </p:nvSpPr>
        <p:spPr>
          <a:xfrm>
            <a:off x="5867280" y="1916280"/>
            <a:ext cx="2664000" cy="1223640"/>
          </a:xfrm>
          <a:prstGeom prst="wedgeEllipseCallout">
            <a:avLst>
              <a:gd name="adj1" fmla="val -53694"/>
              <a:gd name="adj2" fmla="val 54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Y todo gracias al gobierno de Huma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7" descr=""/>
          <p:cNvPicPr/>
          <p:nvPr/>
        </p:nvPicPr>
        <p:blipFill>
          <a:blip r:embed="rId1"/>
          <a:stretch/>
        </p:blipFill>
        <p:spPr>
          <a:xfrm>
            <a:off x="1979640" y="2276640"/>
            <a:ext cx="5153040" cy="37814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Se asegurará que los medios estén al servicio de la ‘</a:t>
            </a:r>
            <a:r>
              <a:rPr b="0" i="1" lang="es-PE" sz="4000" spc="-1" strike="noStrike">
                <a:solidFill>
                  <a:srgbClr val="000000"/>
                </a:solidFill>
                <a:latin typeface="Arial"/>
              </a:rPr>
              <a:t>democracia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’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 u="sng">
                <a:solidFill>
                  <a:srgbClr val="000000"/>
                </a:solidFill>
                <a:uFillTx/>
                <a:latin typeface="Arial"/>
              </a:rPr>
              <a:t>Verdadero</a:t>
            </a: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 Plan de Gobierno de Humala, pag.5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5"/>
          <p:cNvSpPr/>
          <p:nvPr/>
        </p:nvSpPr>
        <p:spPr>
          <a:xfrm>
            <a:off x="0" y="1700280"/>
            <a:ext cx="3816360" cy="2160360"/>
          </a:xfrm>
          <a:prstGeom prst="wedgeEllipseCallout">
            <a:avLst>
              <a:gd name="adj1" fmla="val 57611"/>
              <a:gd name="adj2" fmla="val 223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Nosotros opinamos que las últimas medidas del gobierno de Humala representan una amenaza al sistema democrát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7" descr=""/>
          <p:cNvPicPr/>
          <p:nvPr/>
        </p:nvPicPr>
        <p:blipFill>
          <a:blip r:embed="rId1"/>
          <a:stretch/>
        </p:blipFill>
        <p:spPr>
          <a:xfrm>
            <a:off x="1979640" y="2239920"/>
            <a:ext cx="5153040" cy="37814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Renegociar los tratados de libre comercio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 u="sng">
                <a:solidFill>
                  <a:srgbClr val="000000"/>
                </a:solidFill>
                <a:uFillTx/>
                <a:latin typeface="Arial"/>
              </a:rPr>
              <a:t>Verdadero</a:t>
            </a: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 Plan de Gobierno de Humala, pag.1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5724360" y="2276640"/>
            <a:ext cx="3240360" cy="1655640"/>
          </a:xfrm>
          <a:prstGeom prst="wedgeEllipseCallout">
            <a:avLst>
              <a:gd name="adj1" fmla="val -52009"/>
              <a:gd name="adj2" fmla="val 4951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Pero si hace poco tiempo parecía que todo iba bien en la empresa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6"/>
          <p:cNvSpPr/>
          <p:nvPr/>
        </p:nvSpPr>
        <p:spPr>
          <a:xfrm>
            <a:off x="826920" y="1557360"/>
            <a:ext cx="3276720" cy="1944720"/>
          </a:xfrm>
          <a:prstGeom prst="wedgeEllipseCallout">
            <a:avLst>
              <a:gd name="adj1" fmla="val 25629"/>
              <a:gd name="adj2" fmla="val 797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Estamos fritos… Quebró la exportadora y por tanto, nos quedamos sin chamb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1979640" y="2239920"/>
            <a:ext cx="5153040" cy="378144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Renegociar los tratados de libre comercio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 u="sng">
                <a:solidFill>
                  <a:srgbClr val="000000"/>
                </a:solidFill>
                <a:uFillTx/>
                <a:latin typeface="Arial"/>
              </a:rPr>
              <a:t>Verdadero</a:t>
            </a: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 Plan de Gobierno de Humala, pag.1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5"/>
          <p:cNvSpPr/>
          <p:nvPr/>
        </p:nvSpPr>
        <p:spPr>
          <a:xfrm>
            <a:off x="5724360" y="2276640"/>
            <a:ext cx="3240360" cy="1655640"/>
          </a:xfrm>
          <a:prstGeom prst="wedgeEllipseCallout">
            <a:avLst>
              <a:gd name="adj1" fmla="val -52009"/>
              <a:gd name="adj2" fmla="val 4951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Y obviamente esos países cerraron las puertas a los productos peruan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6"/>
          <p:cNvSpPr/>
          <p:nvPr/>
        </p:nvSpPr>
        <p:spPr>
          <a:xfrm>
            <a:off x="0" y="1989000"/>
            <a:ext cx="4572000" cy="1584360"/>
          </a:xfrm>
          <a:prstGeom prst="wedgeEllipseCallout">
            <a:avLst>
              <a:gd name="adj1" fmla="val 22291"/>
              <a:gd name="adj2" fmla="val 819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Sí. Pero de ahí el gobierno renegoció los TLC... Cerraron las puertas a varios productos extranjero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1979640" y="2239920"/>
            <a:ext cx="5153040" cy="37814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Renegociar los tratados de libre comercio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 u="sng">
                <a:solidFill>
                  <a:srgbClr val="000000"/>
                </a:solidFill>
                <a:uFillTx/>
                <a:latin typeface="Arial"/>
              </a:rPr>
              <a:t>Verdadero</a:t>
            </a: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 Plan de Gobierno de Humala, pag.1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5"/>
          <p:cNvSpPr/>
          <p:nvPr/>
        </p:nvSpPr>
        <p:spPr>
          <a:xfrm>
            <a:off x="5724360" y="2276640"/>
            <a:ext cx="2951280" cy="1657080"/>
          </a:xfrm>
          <a:prstGeom prst="wedgeEllipseCallout">
            <a:avLst>
              <a:gd name="adj1" fmla="val -54680"/>
              <a:gd name="adj2" fmla="val 4942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Y al final los más afectados somos nosotros, los trabaj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6"/>
          <p:cNvSpPr/>
          <p:nvPr/>
        </p:nvSpPr>
        <p:spPr>
          <a:xfrm>
            <a:off x="684360" y="2708280"/>
            <a:ext cx="3527280" cy="865080"/>
          </a:xfrm>
          <a:prstGeom prst="wedgeEllipseCallout">
            <a:avLst>
              <a:gd name="adj1" fmla="val 24300"/>
              <a:gd name="adj2" fmla="val 10853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Así es. Eso hizo quebrar a la empresa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7" descr=""/>
          <p:cNvPicPr/>
          <p:nvPr/>
        </p:nvPicPr>
        <p:blipFill>
          <a:blip r:embed="rId1"/>
          <a:stretch/>
        </p:blipFill>
        <p:spPr>
          <a:xfrm>
            <a:off x="1979640" y="2239920"/>
            <a:ext cx="5153040" cy="378144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No respetar los contratos suscritos por el Estado y empresas mineras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 u="sng">
                <a:solidFill>
                  <a:srgbClr val="000000"/>
                </a:solidFill>
                <a:uFillTx/>
                <a:latin typeface="Arial"/>
              </a:rPr>
              <a:t>Verdadero</a:t>
            </a: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 Plan de Gobierno de Humala, pag.1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5"/>
          <p:cNvSpPr/>
          <p:nvPr/>
        </p:nvSpPr>
        <p:spPr>
          <a:xfrm>
            <a:off x="5435640" y="3860640"/>
            <a:ext cx="2951280" cy="1297080"/>
          </a:xfrm>
          <a:prstGeom prst="wedgeEllipseCallout">
            <a:avLst>
              <a:gd name="adj1" fmla="val -54787"/>
              <a:gd name="adj2" fmla="val 518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Papá, ¿por qué aquella mina está abandonad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6"/>
          <p:cNvSpPr/>
          <p:nvPr/>
        </p:nvSpPr>
        <p:spPr>
          <a:xfrm>
            <a:off x="250920" y="2060640"/>
            <a:ext cx="4825800" cy="1152360"/>
          </a:xfrm>
          <a:prstGeom prst="wedgeEllipseCallout">
            <a:avLst>
              <a:gd name="adj1" fmla="val 9870"/>
              <a:gd name="adj2" fmla="val 8663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Hace pocos años, una empresa minera llegó al pueblo, y empezó a excavar esta m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1979640" y="2239920"/>
            <a:ext cx="5153040" cy="378144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No respetar los contratos suscritos por el Estado y empresas mineras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 u="sng">
                <a:solidFill>
                  <a:srgbClr val="000000"/>
                </a:solidFill>
                <a:uFillTx/>
                <a:latin typeface="Arial"/>
              </a:rPr>
              <a:t>Verdadero</a:t>
            </a: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 Plan de Gobierno de Humala, pag.1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6"/>
          <p:cNvSpPr/>
          <p:nvPr/>
        </p:nvSpPr>
        <p:spPr>
          <a:xfrm>
            <a:off x="250920" y="2060640"/>
            <a:ext cx="6553080" cy="1152360"/>
          </a:xfrm>
          <a:prstGeom prst="wedgeEllipseCallout">
            <a:avLst>
              <a:gd name="adj1" fmla="val -4361"/>
              <a:gd name="adj2" fmla="val 877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Yo estaba muy esperanzado en entrar a trabajar a esta mina, y así también gozar de los beneficios del crecimiento del paí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1979640" y="2239920"/>
            <a:ext cx="5153040" cy="37814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No respetar los contratos suscritos por el Estado y empresas mineras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 u="sng">
                <a:solidFill>
                  <a:srgbClr val="000000"/>
                </a:solidFill>
                <a:uFillTx/>
                <a:latin typeface="Arial"/>
              </a:rPr>
              <a:t>Verdadero</a:t>
            </a: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 Plan de Gobierno de Humala, pag.1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6"/>
          <p:cNvSpPr/>
          <p:nvPr/>
        </p:nvSpPr>
        <p:spPr>
          <a:xfrm>
            <a:off x="250920" y="1844640"/>
            <a:ext cx="6553080" cy="1513080"/>
          </a:xfrm>
          <a:prstGeom prst="wedgeEllipseCallout">
            <a:avLst>
              <a:gd name="adj1" fmla="val -4361"/>
              <a:gd name="adj2" fmla="val 692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Además sabía que nuestro pueblo también se iba a ver beneficiado por las regalías mineras y por las obras que estas empresas realizan en los lugares donde oper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1979640" y="2239920"/>
            <a:ext cx="5153040" cy="37814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No respetar los contratos suscritos por el Estado y empresas mineras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 u="sng">
                <a:solidFill>
                  <a:srgbClr val="000000"/>
                </a:solidFill>
                <a:uFillTx/>
                <a:latin typeface="Arial"/>
              </a:rPr>
              <a:t>Verdadero</a:t>
            </a: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 Plan de Gobierno de Humala, pag.1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6"/>
          <p:cNvSpPr/>
          <p:nvPr/>
        </p:nvSpPr>
        <p:spPr>
          <a:xfrm>
            <a:off x="250920" y="1916280"/>
            <a:ext cx="6265800" cy="1296720"/>
          </a:xfrm>
          <a:prstGeom prst="wedgeEllipseCallout">
            <a:avLst>
              <a:gd name="adj1" fmla="val -240"/>
              <a:gd name="adj2" fmla="val 796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Pero entró Humala al gobierno y le cambió las reglas de juego a las mineras. Es así que muchas empresas se retiraron del paí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1979640" y="2239920"/>
            <a:ext cx="5153040" cy="378144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No respetar los contratos suscritos por el Estado y empresas mineras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 u="sng">
                <a:solidFill>
                  <a:srgbClr val="000000"/>
                </a:solidFill>
                <a:uFillTx/>
                <a:latin typeface="Arial"/>
              </a:rPr>
              <a:t>Verdadero</a:t>
            </a: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 Plan de Gobierno de Humala, pag.1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5"/>
          <p:cNvSpPr/>
          <p:nvPr/>
        </p:nvSpPr>
        <p:spPr>
          <a:xfrm>
            <a:off x="250920" y="1773360"/>
            <a:ext cx="6265800" cy="1439640"/>
          </a:xfrm>
          <a:prstGeom prst="wedgeEllipseCallout">
            <a:avLst>
              <a:gd name="adj1" fmla="val -240"/>
              <a:gd name="adj2" fmla="val 7668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Eso fue lo que pasó aquí. La empresa se fue, se perdió mi oportunidad de una buena chamba, y el pueblo y yo seguimos tan pobres como siemp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Planificaremos la producción agropecuaria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 u="sng">
                <a:solidFill>
                  <a:srgbClr val="000000"/>
                </a:solidFill>
                <a:uFillTx/>
                <a:latin typeface="Arial"/>
              </a:rPr>
              <a:t>Verdadero</a:t>
            </a: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 Plan de Gobierno de Humala, pag.1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8" descr=""/>
          <p:cNvPicPr/>
          <p:nvPr/>
        </p:nvPicPr>
        <p:blipFill>
          <a:blip r:embed="rId1"/>
          <a:stretch/>
        </p:blipFill>
        <p:spPr>
          <a:xfrm>
            <a:off x="1979640" y="2239920"/>
            <a:ext cx="515304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Planificaremos la producción agropecuaria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 u="sng">
                <a:solidFill>
                  <a:srgbClr val="000000"/>
                </a:solidFill>
                <a:uFillTx/>
                <a:latin typeface="Arial"/>
              </a:rPr>
              <a:t>Verdadero</a:t>
            </a: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 Plan de Gobierno de Humala, pag.1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1979640" y="2239920"/>
            <a:ext cx="5153040" cy="3781440"/>
          </a:xfrm>
          <a:prstGeom prst="rect">
            <a:avLst/>
          </a:prstGeom>
          <a:ln w="0">
            <a:noFill/>
          </a:ln>
        </p:spPr>
      </p:pic>
      <p:sp>
        <p:nvSpPr>
          <p:cNvPr id="170" name="AutoShape 5"/>
          <p:cNvSpPr/>
          <p:nvPr/>
        </p:nvSpPr>
        <p:spPr>
          <a:xfrm>
            <a:off x="5651640" y="1844640"/>
            <a:ext cx="3168360" cy="1150920"/>
          </a:xfrm>
          <a:prstGeom prst="wedgeEllipseCallout">
            <a:avLst>
              <a:gd name="adj1" fmla="val -44287"/>
              <a:gd name="adj2" fmla="val 61449"/>
            </a:avLst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Alto ahí. ¿Qué es lo que está sembrando en estas tierra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6"/>
          <p:cNvSpPr/>
          <p:nvPr/>
        </p:nvSpPr>
        <p:spPr>
          <a:xfrm>
            <a:off x="1979640" y="2205000"/>
            <a:ext cx="2736720" cy="863640"/>
          </a:xfrm>
          <a:prstGeom prst="wedgeEllipseCallout">
            <a:avLst>
              <a:gd name="adj1" fmla="val -2495"/>
              <a:gd name="adj2" fmla="val 803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Estoy sembrando maí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1979640" y="2276640"/>
            <a:ext cx="5153040" cy="3771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Se asegurará que los medios estén al servicio de la ‘</a:t>
            </a:r>
            <a:r>
              <a:rPr b="0" i="1" lang="es-PE" sz="4000" spc="-1" strike="noStrike">
                <a:solidFill>
                  <a:srgbClr val="000000"/>
                </a:solidFill>
                <a:latin typeface="Arial"/>
              </a:rPr>
              <a:t>democracia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’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 u="sng">
                <a:solidFill>
                  <a:srgbClr val="000000"/>
                </a:solidFill>
                <a:uFillTx/>
                <a:latin typeface="Arial"/>
              </a:rPr>
              <a:t>Verdadero</a:t>
            </a: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 Plan de Gobierno de Humala, pag.5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5"/>
          <p:cNvSpPr/>
          <p:nvPr/>
        </p:nvSpPr>
        <p:spPr>
          <a:xfrm>
            <a:off x="611280" y="2060640"/>
            <a:ext cx="3421080" cy="1297080"/>
          </a:xfrm>
          <a:prstGeom prst="wedgeEllipseCallout">
            <a:avLst>
              <a:gd name="adj1" fmla="val 52180"/>
              <a:gd name="adj2" fmla="val 426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Aughhh… Pero si estamos defendiendo la democracia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7"/>
          <p:cNvSpPr/>
          <p:nvPr/>
        </p:nvSpPr>
        <p:spPr>
          <a:xfrm>
            <a:off x="6372360" y="2133720"/>
            <a:ext cx="2627280" cy="863640"/>
          </a:xfrm>
          <a:prstGeom prst="wedgeEllipseCallout">
            <a:avLst>
              <a:gd name="adj1" fmla="val -58398"/>
              <a:gd name="adj2" fmla="val 65990"/>
            </a:avLst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Toma por hablar idiote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Planificaremos la producción agropecuaria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 u="sng">
                <a:solidFill>
                  <a:srgbClr val="000000"/>
                </a:solidFill>
                <a:uFillTx/>
                <a:latin typeface="Arial"/>
              </a:rPr>
              <a:t>Verdadero</a:t>
            </a: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 Plan de Gobierno de Humala, pag.1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tretch/>
        </p:blipFill>
        <p:spPr>
          <a:xfrm>
            <a:off x="1979640" y="2239920"/>
            <a:ext cx="5153040" cy="3781440"/>
          </a:xfrm>
          <a:prstGeom prst="rect">
            <a:avLst/>
          </a:prstGeom>
          <a:ln w="0">
            <a:noFill/>
          </a:ln>
        </p:spPr>
      </p:pic>
      <p:sp>
        <p:nvSpPr>
          <p:cNvPr id="175" name="AutoShape 5"/>
          <p:cNvSpPr/>
          <p:nvPr/>
        </p:nvSpPr>
        <p:spPr>
          <a:xfrm>
            <a:off x="5651640" y="2060640"/>
            <a:ext cx="3168360" cy="934920"/>
          </a:xfrm>
          <a:prstGeom prst="wedgeEllipseCallout">
            <a:avLst>
              <a:gd name="adj1" fmla="val -44287"/>
              <a:gd name="adj2" fmla="val 64092"/>
            </a:avLst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Ya no más. Ahora sembrará toma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6"/>
          <p:cNvSpPr/>
          <p:nvPr/>
        </p:nvSpPr>
        <p:spPr>
          <a:xfrm>
            <a:off x="826920" y="1844640"/>
            <a:ext cx="3889440" cy="1224000"/>
          </a:xfrm>
          <a:prstGeom prst="wedgeEllipseCallout">
            <a:avLst>
              <a:gd name="adj1" fmla="val 13060"/>
              <a:gd name="adj2" fmla="val 7140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Pero señor, yo siempre me he dedicado al maíz. Es lo que mejor sé hac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Planificaremos la producción agropecuaria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 u="sng">
                <a:solidFill>
                  <a:srgbClr val="000000"/>
                </a:solidFill>
                <a:uFillTx/>
                <a:latin typeface="Arial"/>
              </a:rPr>
              <a:t>Verdadero</a:t>
            </a: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 Plan de Gobierno de Humala, pag.1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1979640" y="2239920"/>
            <a:ext cx="5153040" cy="3781440"/>
          </a:xfrm>
          <a:prstGeom prst="rect">
            <a:avLst/>
          </a:prstGeom>
          <a:ln w="0">
            <a:noFill/>
          </a:ln>
        </p:spPr>
      </p:pic>
      <p:sp>
        <p:nvSpPr>
          <p:cNvPr id="180" name="AutoShape 5"/>
          <p:cNvSpPr/>
          <p:nvPr/>
        </p:nvSpPr>
        <p:spPr>
          <a:xfrm>
            <a:off x="4356000" y="1916280"/>
            <a:ext cx="4788000" cy="1152360"/>
          </a:xfrm>
          <a:prstGeom prst="wedgeEllipseCallout">
            <a:avLst>
              <a:gd name="adj1" fmla="val -19166"/>
              <a:gd name="adj2" fmla="val 55097"/>
            </a:avLst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Pues los planificadores estatales quieren que se planten tomates, y así se hará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6"/>
          <p:cNvSpPr/>
          <p:nvPr/>
        </p:nvSpPr>
        <p:spPr>
          <a:xfrm>
            <a:off x="900000" y="1844640"/>
            <a:ext cx="2592360" cy="1224000"/>
          </a:xfrm>
          <a:prstGeom prst="wedgeEllipseCallout">
            <a:avLst>
              <a:gd name="adj1" fmla="val 40384"/>
              <a:gd name="adj2" fmla="val 6102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¿Por qué? Eso es injusto, esta mi tierra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7" descr=""/>
          <p:cNvPicPr/>
          <p:nvPr/>
        </p:nvPicPr>
        <p:blipFill>
          <a:blip r:embed="rId1"/>
          <a:stretch/>
        </p:blipFill>
        <p:spPr>
          <a:xfrm>
            <a:off x="1979640" y="2249640"/>
            <a:ext cx="5153040" cy="377172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Planificaremos la producción agropecuaria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 u="sng">
                <a:solidFill>
                  <a:srgbClr val="000000"/>
                </a:solidFill>
                <a:uFillTx/>
                <a:latin typeface="Arial"/>
              </a:rPr>
              <a:t>Verdadero</a:t>
            </a: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 Plan de Gobierno de Humala, pag.1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5"/>
          <p:cNvSpPr/>
          <p:nvPr/>
        </p:nvSpPr>
        <p:spPr>
          <a:xfrm>
            <a:off x="1547640" y="1844640"/>
            <a:ext cx="4824720" cy="1152720"/>
          </a:xfrm>
          <a:prstGeom prst="wedgeEllipseCallout">
            <a:avLst>
              <a:gd name="adj1" fmla="val 29074"/>
              <a:gd name="adj2" fmla="val 69009"/>
            </a:avLst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Deje de quejarse o si no le expropiamos su tierra. Y ahora, póngase a plantar toma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Se restituirá la administración de puertos por el Estado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 u="sng">
                <a:solidFill>
                  <a:srgbClr val="000000"/>
                </a:solidFill>
                <a:uFillTx/>
                <a:latin typeface="Arial"/>
              </a:rPr>
              <a:t>Verdadero</a:t>
            </a: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 Plan de Gobierno de Humala, pag.8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6" descr=""/>
          <p:cNvPicPr/>
          <p:nvPr/>
        </p:nvPicPr>
        <p:blipFill>
          <a:blip r:embed="rId1"/>
          <a:stretch/>
        </p:blipFill>
        <p:spPr>
          <a:xfrm>
            <a:off x="1979640" y="2205000"/>
            <a:ext cx="5153040" cy="3772080"/>
          </a:xfrm>
          <a:prstGeom prst="rect">
            <a:avLst/>
          </a:prstGeom>
          <a:ln w="0">
            <a:noFill/>
          </a:ln>
        </p:spPr>
      </p:pic>
      <p:sp>
        <p:nvSpPr>
          <p:cNvPr id="189" name="AutoShape 7"/>
          <p:cNvSpPr/>
          <p:nvPr/>
        </p:nvSpPr>
        <p:spPr>
          <a:xfrm>
            <a:off x="2843280" y="2060640"/>
            <a:ext cx="5832360" cy="1224000"/>
          </a:xfrm>
          <a:prstGeom prst="wedgeEllipseCallout">
            <a:avLst>
              <a:gd name="adj1" fmla="val -41180"/>
              <a:gd name="adj2" fmla="val 890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Disculpe capitán. Soy un marinero de Perú. Quería saber cuando va a atracar el barco en un puerto perua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8"/>
          <p:cNvSpPr/>
          <p:nvPr/>
        </p:nvSpPr>
        <p:spPr>
          <a:xfrm>
            <a:off x="395280" y="2205000"/>
            <a:ext cx="2232000" cy="1224000"/>
          </a:xfrm>
          <a:prstGeom prst="wedgeEllipseCallout">
            <a:avLst>
              <a:gd name="adj1" fmla="val 70199"/>
              <a:gd name="adj2" fmla="val 77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Me temo que eso no va a ser posi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Se restituirá la administración de puertos por el Estado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 u="sng">
                <a:solidFill>
                  <a:srgbClr val="000000"/>
                </a:solidFill>
                <a:uFillTx/>
                <a:latin typeface="Arial"/>
              </a:rPr>
              <a:t>Verdadero</a:t>
            </a: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 Plan de Gobierno de Humala, pag.8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"/>
          <p:cNvPicPr/>
          <p:nvPr/>
        </p:nvPicPr>
        <p:blipFill>
          <a:blip r:embed="rId1"/>
          <a:stretch/>
        </p:blipFill>
        <p:spPr>
          <a:xfrm>
            <a:off x="1979640" y="2205000"/>
            <a:ext cx="5153040" cy="3772080"/>
          </a:xfrm>
          <a:prstGeom prst="rect">
            <a:avLst/>
          </a:prstGeom>
          <a:ln w="0">
            <a:noFill/>
          </a:ln>
        </p:spPr>
      </p:pic>
      <p:sp>
        <p:nvSpPr>
          <p:cNvPr id="194" name="AutoShape 5"/>
          <p:cNvSpPr/>
          <p:nvPr/>
        </p:nvSpPr>
        <p:spPr>
          <a:xfrm>
            <a:off x="4284720" y="2924280"/>
            <a:ext cx="3240000" cy="1224000"/>
          </a:xfrm>
          <a:prstGeom prst="wedgeEllipseCallout">
            <a:avLst>
              <a:gd name="adj1" fmla="val -78611"/>
              <a:gd name="adj2" fmla="val 184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Pensé que nos dirigíamos a sudamér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6"/>
          <p:cNvSpPr/>
          <p:nvPr/>
        </p:nvSpPr>
        <p:spPr>
          <a:xfrm>
            <a:off x="0" y="1628640"/>
            <a:ext cx="4716360" cy="1800360"/>
          </a:xfrm>
          <a:prstGeom prst="wedgeEllipseCallout">
            <a:avLst>
              <a:gd name="adj1" fmla="val 15263"/>
              <a:gd name="adj2" fmla="val 671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Eso es cierto. Vamos a llevar mercadería a varios países de Sudamérica, y luego vamos a llevar sus exportaciones a otras partes del mun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Se restituirá la administración de puertos por el Estado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 u="sng">
                <a:solidFill>
                  <a:srgbClr val="000000"/>
                </a:solidFill>
                <a:uFillTx/>
                <a:latin typeface="Arial"/>
              </a:rPr>
              <a:t>Verdadero</a:t>
            </a: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 Plan de Gobierno de Humala, pag.8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1979640" y="2205000"/>
            <a:ext cx="5153040" cy="377208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5"/>
          <p:cNvSpPr/>
          <p:nvPr/>
        </p:nvSpPr>
        <p:spPr>
          <a:xfrm>
            <a:off x="4284720" y="3141720"/>
            <a:ext cx="1727280" cy="647640"/>
          </a:xfrm>
          <a:prstGeom prst="wedgeEllipseCallout">
            <a:avLst>
              <a:gd name="adj1" fmla="val -103675"/>
              <a:gd name="adj2" fmla="val 4583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¿Por qué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6"/>
          <p:cNvSpPr/>
          <p:nvPr/>
        </p:nvSpPr>
        <p:spPr>
          <a:xfrm>
            <a:off x="1116000" y="2205000"/>
            <a:ext cx="2519280" cy="1224000"/>
          </a:xfrm>
          <a:prstGeom prst="wedgeEllipseCallout">
            <a:avLst>
              <a:gd name="adj1" fmla="val 27884"/>
              <a:gd name="adj2" fmla="val 75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Pero no vamos a parar en el Per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Se restituirá la administración de puertos por el Estado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 u="sng">
                <a:solidFill>
                  <a:srgbClr val="000000"/>
                </a:solidFill>
                <a:uFillTx/>
                <a:latin typeface="Arial"/>
              </a:rPr>
              <a:t>Verdadero</a:t>
            </a: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 Plan de Gobierno de Humala, pag.8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4" descr=""/>
          <p:cNvPicPr/>
          <p:nvPr/>
        </p:nvPicPr>
        <p:blipFill>
          <a:blip r:embed="rId1"/>
          <a:stretch/>
        </p:blipFill>
        <p:spPr>
          <a:xfrm>
            <a:off x="1979640" y="2205000"/>
            <a:ext cx="5153040" cy="3772080"/>
          </a:xfrm>
          <a:prstGeom prst="rect">
            <a:avLst/>
          </a:prstGeom>
          <a:ln w="0">
            <a:noFill/>
          </a:ln>
        </p:spPr>
      </p:pic>
      <p:sp>
        <p:nvSpPr>
          <p:cNvPr id="204" name="AutoShape 5"/>
          <p:cNvSpPr/>
          <p:nvPr/>
        </p:nvSpPr>
        <p:spPr>
          <a:xfrm>
            <a:off x="4067280" y="3141720"/>
            <a:ext cx="3240000" cy="1655640"/>
          </a:xfrm>
          <a:prstGeom prst="wedgeEllipseCallout">
            <a:avLst>
              <a:gd name="adj1" fmla="val -71902"/>
              <a:gd name="adj2" fmla="val -125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Es que ahora los puertos peruanos los maneja el Estado. Es tan lamen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6"/>
          <p:cNvSpPr/>
          <p:nvPr/>
        </p:nvSpPr>
        <p:spPr>
          <a:xfrm>
            <a:off x="0" y="1628640"/>
            <a:ext cx="4859280" cy="1800360"/>
          </a:xfrm>
          <a:prstGeom prst="wedgeEllipseCallout">
            <a:avLst>
              <a:gd name="adj1" fmla="val 13347"/>
              <a:gd name="adj2" fmla="val 671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Porque sus puertos no tienen la infraestructura adecuada, no tienen la capacidad de atender estos barcos, y para colmo, los costos son altísim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Aplicar </a:t>
            </a:r>
            <a:r>
              <a:rPr b="0" lang="es-PE" sz="4400" spc="-1" strike="noStrike">
                <a:solidFill>
                  <a:srgbClr val="000000"/>
                </a:solidFill>
                <a:latin typeface="Arial"/>
              </a:rPr>
              <a:t>impuesto vehicular a aquellos con más de 3 año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 u="sng">
                <a:solidFill>
                  <a:srgbClr val="000000"/>
                </a:solidFill>
                <a:uFillTx/>
                <a:latin typeface="Arial"/>
              </a:rPr>
              <a:t>Verdadero</a:t>
            </a: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 Plan de Gobierno de Humala, pag.7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5" descr=""/>
          <p:cNvPicPr/>
          <p:nvPr/>
        </p:nvPicPr>
        <p:blipFill>
          <a:blip r:embed="rId1"/>
          <a:stretch/>
        </p:blipFill>
        <p:spPr>
          <a:xfrm>
            <a:off x="1979640" y="2276640"/>
            <a:ext cx="5153040" cy="3771720"/>
          </a:xfrm>
          <a:prstGeom prst="rect">
            <a:avLst/>
          </a:prstGeom>
          <a:ln w="0">
            <a:noFill/>
          </a:ln>
        </p:spPr>
      </p:pic>
      <p:sp>
        <p:nvSpPr>
          <p:cNvPr id="209" name="AutoShape 6"/>
          <p:cNvSpPr/>
          <p:nvPr/>
        </p:nvSpPr>
        <p:spPr>
          <a:xfrm>
            <a:off x="900000" y="2565360"/>
            <a:ext cx="2521080" cy="1008000"/>
          </a:xfrm>
          <a:prstGeom prst="wedgeEllipseCallout">
            <a:avLst>
              <a:gd name="adj1" fmla="val 48490"/>
              <a:gd name="adj2" fmla="val 548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¿Y cómo le va con su tax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7"/>
          <p:cNvSpPr/>
          <p:nvPr/>
        </p:nvSpPr>
        <p:spPr>
          <a:xfrm>
            <a:off x="5580000" y="2133720"/>
            <a:ext cx="2449440" cy="1079280"/>
          </a:xfrm>
          <a:prstGeom prst="wedgeEllipseCallout">
            <a:avLst>
              <a:gd name="adj1" fmla="val -57777"/>
              <a:gd name="adj2" fmla="val 361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Mal. Me está yendo muy m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Aplicar </a:t>
            </a:r>
            <a:r>
              <a:rPr b="0" lang="es-PE" sz="4400" spc="-1" strike="noStrike">
                <a:solidFill>
                  <a:srgbClr val="000000"/>
                </a:solidFill>
                <a:latin typeface="Arial"/>
              </a:rPr>
              <a:t>impuesto vehicular a aquellos con más de 3 año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 u="sng">
                <a:solidFill>
                  <a:srgbClr val="000000"/>
                </a:solidFill>
                <a:uFillTx/>
                <a:latin typeface="Arial"/>
              </a:rPr>
              <a:t>Verdadero</a:t>
            </a: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 Plan de Gobierno de Humala, pag.7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1979640" y="2276640"/>
            <a:ext cx="5153040" cy="3771720"/>
          </a:xfrm>
          <a:prstGeom prst="rect">
            <a:avLst/>
          </a:prstGeom>
          <a:ln w="0">
            <a:noFill/>
          </a:ln>
        </p:spPr>
      </p:pic>
      <p:sp>
        <p:nvSpPr>
          <p:cNvPr id="214" name="AutoShape 6"/>
          <p:cNvSpPr/>
          <p:nvPr/>
        </p:nvSpPr>
        <p:spPr>
          <a:xfrm>
            <a:off x="5580000" y="2133720"/>
            <a:ext cx="2952720" cy="1150920"/>
          </a:xfrm>
          <a:prstGeom prst="wedgeEllipseCallout">
            <a:avLst>
              <a:gd name="adj1" fmla="val -56453"/>
              <a:gd name="adj2" fmla="val 308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Como la situación está mal, no hay clie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Aplicar </a:t>
            </a:r>
            <a:r>
              <a:rPr b="0" lang="es-PE" sz="4400" spc="-1" strike="noStrike">
                <a:solidFill>
                  <a:srgbClr val="000000"/>
                </a:solidFill>
                <a:latin typeface="Arial"/>
              </a:rPr>
              <a:t>impuesto vehicular a aquellos con más de 3 año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 u="sng">
                <a:solidFill>
                  <a:srgbClr val="000000"/>
                </a:solidFill>
                <a:uFillTx/>
                <a:latin typeface="Arial"/>
              </a:rPr>
              <a:t>Verdadero</a:t>
            </a: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 Plan de Gobierno de Humala, pag.7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4" descr=""/>
          <p:cNvPicPr/>
          <p:nvPr/>
        </p:nvPicPr>
        <p:blipFill>
          <a:blip r:embed="rId1"/>
          <a:stretch/>
        </p:blipFill>
        <p:spPr>
          <a:xfrm>
            <a:off x="1979640" y="2276640"/>
            <a:ext cx="5153040" cy="3771720"/>
          </a:xfrm>
          <a:prstGeom prst="rect">
            <a:avLst/>
          </a:prstGeom>
          <a:ln w="0">
            <a:noFill/>
          </a:ln>
        </p:spPr>
      </p:pic>
      <p:sp>
        <p:nvSpPr>
          <p:cNvPr id="218" name="AutoShape 5"/>
          <p:cNvSpPr/>
          <p:nvPr/>
        </p:nvSpPr>
        <p:spPr>
          <a:xfrm>
            <a:off x="3564000" y="1916280"/>
            <a:ext cx="5580000" cy="1150920"/>
          </a:xfrm>
          <a:prstGeom prst="wedgeEllipseCallout">
            <a:avLst>
              <a:gd name="adj1" fmla="val -16143"/>
              <a:gd name="adj2" fmla="val 6186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Yo que con mi esfuerzo logré sacar un crédito para adquirir este carrito… ¿Y ahora sabe que es lo peo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6"/>
          <p:cNvSpPr/>
          <p:nvPr/>
        </p:nvSpPr>
        <p:spPr>
          <a:xfrm>
            <a:off x="395280" y="2637000"/>
            <a:ext cx="2448000" cy="576000"/>
          </a:xfrm>
          <a:prstGeom prst="wedgeEllipseCallout">
            <a:avLst>
              <a:gd name="adj1" fmla="val 72504"/>
              <a:gd name="adj2" fmla="val 10426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No. Cuénte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979640" y="2276640"/>
            <a:ext cx="5153040" cy="37717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Se asegurará que los medios estén al servicio de la ‘</a:t>
            </a:r>
            <a:r>
              <a:rPr b="0" i="1" lang="es-PE" sz="4000" spc="-1" strike="noStrike">
                <a:solidFill>
                  <a:srgbClr val="000000"/>
                </a:solidFill>
                <a:latin typeface="Arial"/>
              </a:rPr>
              <a:t>democracia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’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 u="sng">
                <a:solidFill>
                  <a:srgbClr val="000000"/>
                </a:solidFill>
                <a:uFillTx/>
                <a:latin typeface="Arial"/>
              </a:rPr>
              <a:t>Verdadero</a:t>
            </a: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 Plan de Gobierno de Humala, pag.5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6"/>
          <p:cNvSpPr/>
          <p:nvPr/>
        </p:nvSpPr>
        <p:spPr>
          <a:xfrm>
            <a:off x="6372360" y="1989000"/>
            <a:ext cx="2592360" cy="3024360"/>
          </a:xfrm>
          <a:prstGeom prst="wedgeEllipseCallout">
            <a:avLst>
              <a:gd name="adj1" fmla="val -59490"/>
              <a:gd name="adj2" fmla="val -17138"/>
            </a:avLst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Pero la ‘democracia de Ollanta’ no la estás defendiendo. Así que te vas adentro, por 20 añ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Aplicar </a:t>
            </a:r>
            <a:r>
              <a:rPr b="0" lang="es-PE" sz="4400" spc="-1" strike="noStrike">
                <a:solidFill>
                  <a:srgbClr val="000000"/>
                </a:solidFill>
                <a:latin typeface="Arial"/>
              </a:rPr>
              <a:t>impuesto vehicular a aquellos con más de 3 año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 u="sng">
                <a:solidFill>
                  <a:srgbClr val="000000"/>
                </a:solidFill>
                <a:uFillTx/>
                <a:latin typeface="Arial"/>
              </a:rPr>
              <a:t>Verdadero</a:t>
            </a: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 Plan de Gobierno de Humala, pag.7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4" descr=""/>
          <p:cNvPicPr/>
          <p:nvPr/>
        </p:nvPicPr>
        <p:blipFill>
          <a:blip r:embed="rId1"/>
          <a:stretch/>
        </p:blipFill>
        <p:spPr>
          <a:xfrm>
            <a:off x="1979640" y="2276640"/>
            <a:ext cx="5153040" cy="3771720"/>
          </a:xfrm>
          <a:prstGeom prst="rect">
            <a:avLst/>
          </a:prstGeom>
          <a:ln w="0">
            <a:noFill/>
          </a:ln>
        </p:spPr>
      </p:pic>
      <p:sp>
        <p:nvSpPr>
          <p:cNvPr id="223" name="AutoShape 5"/>
          <p:cNvSpPr/>
          <p:nvPr/>
        </p:nvSpPr>
        <p:spPr>
          <a:xfrm>
            <a:off x="3203640" y="1916280"/>
            <a:ext cx="5940360" cy="1150920"/>
          </a:xfrm>
          <a:prstGeom prst="wedgeEllipseCallout">
            <a:avLst>
              <a:gd name="adj1" fmla="val -12134"/>
              <a:gd name="adj2" fmla="val 6186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Que ahora, a mi carro que tiene ya 5 años, le van a clavar el impuesto vehicul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6"/>
          <p:cNvSpPr/>
          <p:nvPr/>
        </p:nvSpPr>
        <p:spPr>
          <a:xfrm>
            <a:off x="395280" y="1773360"/>
            <a:ext cx="2448000" cy="2016000"/>
          </a:xfrm>
          <a:prstGeom prst="wedgeEllipseCallout">
            <a:avLst>
              <a:gd name="adj1" fmla="val 72504"/>
              <a:gd name="adj2" fmla="val 369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Se pasa este gobierno. Se ve que quieren sacar plata de donde s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Aplicar </a:t>
            </a:r>
            <a:r>
              <a:rPr b="0" lang="es-PE" sz="4400" spc="-1" strike="noStrike">
                <a:solidFill>
                  <a:srgbClr val="000000"/>
                </a:solidFill>
                <a:latin typeface="Arial"/>
              </a:rPr>
              <a:t>impuesto vehicular a aquellos con más de 3 año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 u="sng">
                <a:solidFill>
                  <a:srgbClr val="000000"/>
                </a:solidFill>
                <a:uFillTx/>
                <a:latin typeface="Arial"/>
              </a:rPr>
              <a:t>Verdadero</a:t>
            </a: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 Plan de Gobierno de Humala, pag.7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" descr=""/>
          <p:cNvPicPr/>
          <p:nvPr/>
        </p:nvPicPr>
        <p:blipFill>
          <a:blip r:embed="rId1"/>
          <a:stretch/>
        </p:blipFill>
        <p:spPr>
          <a:xfrm>
            <a:off x="1979640" y="2276640"/>
            <a:ext cx="5153040" cy="3771720"/>
          </a:xfrm>
          <a:prstGeom prst="rect">
            <a:avLst/>
          </a:prstGeom>
          <a:ln w="0">
            <a:noFill/>
          </a:ln>
        </p:spPr>
      </p:pic>
      <p:sp>
        <p:nvSpPr>
          <p:cNvPr id="228" name="AutoShape 5"/>
          <p:cNvSpPr/>
          <p:nvPr/>
        </p:nvSpPr>
        <p:spPr>
          <a:xfrm>
            <a:off x="5470560" y="1989000"/>
            <a:ext cx="3422520" cy="1152720"/>
          </a:xfrm>
          <a:prstGeom prst="wedgeEllipseCallout">
            <a:avLst>
              <a:gd name="adj1" fmla="val -47912"/>
              <a:gd name="adj2" fmla="val 476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Y yo no sé de donde yo voy a sacar para pagar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507160" cy="64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Esta fue una muestra de lo que pasará si sale elegido </a:t>
            </a:r>
            <a:r>
              <a:rPr b="1" lang="es-PE" sz="4000" spc="-1" strike="noStrike">
                <a:solidFill>
                  <a:srgbClr val="ff0000"/>
                </a:solidFill>
                <a:latin typeface="Arial"/>
              </a:rPr>
              <a:t>Ollanta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507160" cy="64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En resumen, el Perú con </a:t>
            </a:r>
            <a:r>
              <a:rPr b="1" lang="es-PE" sz="4000" spc="-1" strike="noStrike">
                <a:solidFill>
                  <a:srgbClr val="ff0000"/>
                </a:solidFill>
                <a:latin typeface="Arial"/>
              </a:rPr>
              <a:t>Ollanta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 será un país </a:t>
            </a:r>
            <a:r>
              <a:rPr b="0" lang="es-PE" sz="4000" spc="-1" strike="noStrike">
                <a:solidFill>
                  <a:srgbClr val="ff0000"/>
                </a:solidFill>
                <a:latin typeface="Arial"/>
              </a:rPr>
              <a:t>empobrecido, sin empleo, aislado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PE" sz="4000" spc="-1" strike="noStrike">
                <a:solidFill>
                  <a:srgbClr val="ff0000"/>
                </a:solidFill>
                <a:latin typeface="Arial"/>
              </a:rPr>
              <a:t>comercialmente del mundo, con una libertad de prensa amenzada, y con empresas estatales ineficientes y corruptas que les interesa un rábano atender a sus client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23640" y="47592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No creas sus discursos edulcorados donde dice no ser radical, pues detrás de esas apariencia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7" descr=""/>
          <p:cNvPicPr/>
          <p:nvPr/>
        </p:nvPicPr>
        <p:blipFill>
          <a:blip r:embed="rId1"/>
          <a:stretch/>
        </p:blipFill>
        <p:spPr>
          <a:xfrm>
            <a:off x="1979640" y="2276640"/>
            <a:ext cx="515304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23640" y="47592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Se esconde el </a:t>
            </a:r>
            <a:r>
              <a:rPr b="0" lang="es-PE" sz="4000" spc="-1" strike="noStrike">
                <a:solidFill>
                  <a:srgbClr val="ff0000"/>
                </a:solidFill>
                <a:latin typeface="Arial"/>
              </a:rPr>
              <a:t>radical estatista y pro-Chavista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 de </a:t>
            </a:r>
            <a:r>
              <a:rPr b="1" lang="es-PE" sz="4000" spc="-1" strike="noStrike">
                <a:solidFill>
                  <a:srgbClr val="ff0000"/>
                </a:solidFill>
                <a:latin typeface="Arial"/>
              </a:rPr>
              <a:t>Humala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. No caigas en su trampa, ya has visto su Pla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4" descr=""/>
          <p:cNvPicPr/>
          <p:nvPr/>
        </p:nvPicPr>
        <p:blipFill>
          <a:blip r:embed="rId1"/>
          <a:stretch/>
        </p:blipFill>
        <p:spPr>
          <a:xfrm>
            <a:off x="1979640" y="2276640"/>
            <a:ext cx="515304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507160" cy="64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Ahora te pido algo que te puede resultar </a:t>
            </a:r>
            <a:r>
              <a:rPr b="1" lang="es-PE" sz="4000" spc="-1" strike="noStrike">
                <a:solidFill>
                  <a:srgbClr val="0066ff"/>
                </a:solidFill>
                <a:latin typeface="Arial"/>
              </a:rPr>
              <a:t>difícil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507160" cy="64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A mí no me gusta la otra candidata. Yo no voté por ella en la primera vuelta. </a:t>
            </a:r>
            <a:br>
              <a:rPr sz="4000"/>
            </a:br>
            <a:br>
              <a:rPr sz="4000"/>
            </a:b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Pero visto el escenario actual, </a:t>
            </a:r>
            <a:r>
              <a:rPr b="1" lang="es-PE" sz="4000" spc="-1" strike="noStrike">
                <a:solidFill>
                  <a:srgbClr val="0066ff"/>
                </a:solidFill>
                <a:latin typeface="Arial"/>
              </a:rPr>
              <a:t>ella es la única opción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 para asegurar </a:t>
            </a:r>
            <a:r>
              <a:rPr b="1" lang="es-PE" sz="4000" spc="-1" strike="noStrike">
                <a:solidFill>
                  <a:srgbClr val="0066ff"/>
                </a:solidFill>
                <a:latin typeface="Arial"/>
              </a:rPr>
              <a:t>al menos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 que el modelo de desarrollo económico continúe y sobre todo, tengamos </a:t>
            </a:r>
            <a:r>
              <a:rPr b="1" lang="es-PE" sz="4000" spc="-1" strike="noStrike">
                <a:solidFill>
                  <a:srgbClr val="0066ff"/>
                </a:solidFill>
                <a:latin typeface="Arial"/>
              </a:rPr>
              <a:t>libertad económica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507160" cy="64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4000" spc="-1" strike="noStrike">
                <a:solidFill>
                  <a:srgbClr val="000000"/>
                </a:solidFill>
                <a:latin typeface="Arial"/>
              </a:rPr>
              <a:t>¿Piensas votar en </a:t>
            </a:r>
            <a:r>
              <a:rPr b="1" i="1" lang="es-PE" sz="4000" spc="-1" strike="noStrike">
                <a:solidFill>
                  <a:srgbClr val="ff0000"/>
                </a:solidFill>
                <a:latin typeface="Arial"/>
              </a:rPr>
              <a:t>blanco o viciado</a:t>
            </a:r>
            <a:r>
              <a:rPr b="0" i="1" lang="es-PE" sz="4000" spc="-1" strike="noStrike">
                <a:solidFill>
                  <a:srgbClr val="000000"/>
                </a:solidFill>
                <a:latin typeface="Arial"/>
              </a:rPr>
              <a:t>? ¿Lo haces </a:t>
            </a:r>
            <a:r>
              <a:rPr b="1" i="1" lang="es-PE" sz="4000" spc="-1" strike="noStrike">
                <a:solidFill>
                  <a:srgbClr val="ff0000"/>
                </a:solidFill>
                <a:latin typeface="Arial"/>
              </a:rPr>
              <a:t>por razones prácticas</a:t>
            </a:r>
            <a:r>
              <a:rPr b="0" i="1" lang="es-PE" sz="40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4000"/>
            </a:br>
            <a:br>
              <a:rPr sz="4000"/>
            </a:b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La ley indica que solo si 2/3 (66%) del electorado vota blanco o viciado se hará nuevamente una elección. ¡¡Pero en la primera vuelta, entre los 2 candidatos sumaron más del 50% del electorado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507160" cy="64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4000" spc="-1" strike="noStrike">
                <a:solidFill>
                  <a:srgbClr val="000000"/>
                </a:solidFill>
                <a:latin typeface="Arial"/>
              </a:rPr>
              <a:t>¿Piensas votar en </a:t>
            </a:r>
            <a:r>
              <a:rPr b="1" i="1" lang="es-PE" sz="4000" spc="-1" strike="noStrike">
                <a:solidFill>
                  <a:srgbClr val="ff0000"/>
                </a:solidFill>
                <a:latin typeface="Arial"/>
              </a:rPr>
              <a:t>blanco o viciado</a:t>
            </a:r>
            <a:r>
              <a:rPr b="0" i="1" lang="es-PE" sz="4000" spc="-1" strike="noStrike">
                <a:solidFill>
                  <a:srgbClr val="000000"/>
                </a:solidFill>
                <a:latin typeface="Arial"/>
              </a:rPr>
              <a:t>? ¿Lo haces </a:t>
            </a:r>
            <a:r>
              <a:rPr b="1" i="1" lang="es-PE" sz="4000" spc="-1" strike="noStrike">
                <a:solidFill>
                  <a:srgbClr val="ff0000"/>
                </a:solidFill>
                <a:latin typeface="Arial"/>
              </a:rPr>
              <a:t>por razones éticas</a:t>
            </a:r>
            <a:r>
              <a:rPr b="0" i="1" lang="es-PE" sz="4000" spc="-1" strike="noStrike">
                <a:solidFill>
                  <a:srgbClr val="000000"/>
                </a:solidFill>
                <a:latin typeface="Arial"/>
              </a:rPr>
              <a:t>? </a:t>
            </a:r>
            <a:br>
              <a:rPr sz="4000"/>
            </a:br>
            <a:br>
              <a:rPr sz="4000"/>
            </a:b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Es conocida la escasa ética con que se manejó el país en el gobierno fujimorista. Y quizás no quieras ser “cómplice” de un eventual futuro gobierno de Keik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Se asegurará que los medios estén al servicio de la ‘</a:t>
            </a:r>
            <a:r>
              <a:rPr b="0" i="1" lang="es-PE" sz="4000" spc="-1" strike="noStrike">
                <a:solidFill>
                  <a:srgbClr val="000000"/>
                </a:solidFill>
                <a:latin typeface="Arial"/>
              </a:rPr>
              <a:t>democracia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’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 u="sng">
                <a:solidFill>
                  <a:srgbClr val="000000"/>
                </a:solidFill>
                <a:uFillTx/>
                <a:latin typeface="Arial"/>
              </a:rPr>
              <a:t>Verdadero</a:t>
            </a: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 Plan de Gobierno de Humala, pag.5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"/>
          <p:cNvPicPr/>
          <p:nvPr/>
        </p:nvPicPr>
        <p:blipFill>
          <a:blip r:embed="rId1"/>
          <a:stretch/>
        </p:blipFill>
        <p:spPr>
          <a:xfrm>
            <a:off x="1979640" y="2276640"/>
            <a:ext cx="515304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507160" cy="64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Pero dejando tu voto sin candidato, estás dando pie a la posibilidad de que salga </a:t>
            </a:r>
            <a:r>
              <a:rPr b="1" lang="es-PE" sz="4000" spc="-1" strike="noStrike">
                <a:solidFill>
                  <a:srgbClr val="ff0000"/>
                </a:solidFill>
                <a:latin typeface="Arial"/>
              </a:rPr>
              <a:t>Ollanta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, quien </a:t>
            </a:r>
            <a:r>
              <a:rPr b="1" lang="es-PE" sz="40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 respetará ni la constitución, ni las libertades individuales ni económicas, tal como su modelo a seguir, </a:t>
            </a:r>
            <a:r>
              <a:rPr b="1" lang="es-PE" sz="4000" spc="-1" strike="noStrike">
                <a:solidFill>
                  <a:srgbClr val="ff0000"/>
                </a:solidFill>
                <a:latin typeface="Arial"/>
              </a:rPr>
              <a:t>Hugo Chávez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000"/>
            </a:br>
            <a:br>
              <a:rPr sz="4000"/>
            </a:b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Entonces, indirectamente, serías “cómplice” de algo peo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64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Es más fácil no elegir y no sentirse directamente “cómplice”, a pesar de ser indirectamente “cómplice” de algo peor.</a:t>
            </a:r>
            <a:br>
              <a:rPr sz="4000"/>
            </a:br>
            <a:br>
              <a:rPr sz="4000"/>
            </a:b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A veces lo éticamente correcto es difícil de hacer. Este es uno de esos casos. </a:t>
            </a:r>
            <a:br>
              <a:rPr sz="4000"/>
            </a:br>
            <a:br>
              <a:rPr sz="4000"/>
            </a:b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Hagamos lo correcto, libremos al país de </a:t>
            </a:r>
            <a:r>
              <a:rPr b="1" lang="es-PE" sz="4000" spc="-1" strike="noStrike">
                <a:solidFill>
                  <a:srgbClr val="ff0000"/>
                </a:solidFill>
                <a:latin typeface="Arial"/>
              </a:rPr>
              <a:t>Ollanta Humala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507160" cy="64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4000" spc="-1" strike="noStrike">
                <a:solidFill>
                  <a:srgbClr val="000000"/>
                </a:solidFill>
                <a:latin typeface="Arial"/>
              </a:rPr>
              <a:t>¿Piensas votar en </a:t>
            </a:r>
            <a:r>
              <a:rPr b="1" i="1" lang="es-PE" sz="4000" spc="-1" strike="noStrike">
                <a:solidFill>
                  <a:srgbClr val="ff0000"/>
                </a:solidFill>
                <a:latin typeface="Arial"/>
              </a:rPr>
              <a:t>blanco o viciado</a:t>
            </a:r>
            <a:r>
              <a:rPr b="0" i="1" lang="es-PE" sz="4000" spc="-1" strike="noStrike">
                <a:solidFill>
                  <a:srgbClr val="000000"/>
                </a:solidFill>
                <a:latin typeface="Arial"/>
              </a:rPr>
              <a:t>? ¿Lo haces </a:t>
            </a:r>
            <a:r>
              <a:rPr b="1" i="1" lang="es-PE" sz="4000" spc="-1" strike="noStrike">
                <a:solidFill>
                  <a:srgbClr val="ff0000"/>
                </a:solidFill>
                <a:latin typeface="Arial"/>
              </a:rPr>
              <a:t>por hígado</a:t>
            </a:r>
            <a:r>
              <a:rPr b="0" i="1" lang="es-PE" sz="4000" spc="-1" strike="noStrike">
                <a:solidFill>
                  <a:srgbClr val="000000"/>
                </a:solidFill>
                <a:latin typeface="Arial"/>
              </a:rPr>
              <a:t>? </a:t>
            </a:r>
            <a:br>
              <a:rPr sz="4000"/>
            </a:br>
            <a:br>
              <a:rPr sz="4000"/>
            </a:b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Es justificable sentirse con cólera por algunos hechos ocurridos durante el gobierno fujimorista.</a:t>
            </a:r>
            <a:br>
              <a:rPr sz="4000"/>
            </a:br>
            <a:br>
              <a:rPr sz="4000"/>
            </a:b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Pero en esta, y cualquier otra situación, lo mejor es pensar con la cabeza y no con el hígad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507160" cy="64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Imagínate que por tu ausencia de voto se da pie a que </a:t>
            </a:r>
            <a:r>
              <a:rPr b="1" lang="es-PE" sz="4000" spc="-1" strike="noStrike">
                <a:solidFill>
                  <a:srgbClr val="ff0000"/>
                </a:solidFill>
                <a:latin typeface="Arial"/>
              </a:rPr>
              <a:t>Humala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 suba al poder, y te quite </a:t>
            </a:r>
            <a:r>
              <a:rPr b="1" lang="es-PE" sz="4000" spc="-1" strike="noStrike">
                <a:solidFill>
                  <a:srgbClr val="000000"/>
                </a:solidFill>
                <a:latin typeface="Arial"/>
              </a:rPr>
              <a:t>tus libertades individuales y económicas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. ¿Acaso eso, que te quiten </a:t>
            </a:r>
            <a:r>
              <a:rPr b="1" lang="es-PE" sz="4000" spc="-1" strike="noStrike">
                <a:solidFill>
                  <a:srgbClr val="000000"/>
                </a:solidFill>
                <a:latin typeface="Arial"/>
              </a:rPr>
              <a:t>tu futuro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, no te daría mucha rabia, tanta o más de la que ahora sientes?</a:t>
            </a:r>
            <a:br>
              <a:rPr sz="4000"/>
            </a:br>
            <a:br>
              <a:rPr sz="4000"/>
            </a:b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Por eso, vota con la cabeza, por el bien de tu hígad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507160" cy="64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Por todo lo expuesto, te pido – no sin cierto sinsabor – que votes por </a:t>
            </a:r>
            <a:r>
              <a:rPr b="1" lang="es-PE" sz="4000" spc="-1" strike="noStrike">
                <a:solidFill>
                  <a:srgbClr val="0066ff"/>
                </a:solidFill>
                <a:latin typeface="Arial"/>
              </a:rPr>
              <a:t>la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4000" spc="-1" strike="noStrike">
                <a:solidFill>
                  <a:srgbClr val="0066ff"/>
                </a:solidFill>
                <a:latin typeface="Arial"/>
              </a:rPr>
              <a:t>candidata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 que es </a:t>
            </a:r>
            <a:r>
              <a:rPr b="1" lang="es-PE" sz="4000" spc="-1" strike="noStrike">
                <a:solidFill>
                  <a:srgbClr val="0066ff"/>
                </a:solidFill>
                <a:latin typeface="Arial"/>
              </a:rPr>
              <a:t>rival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 de </a:t>
            </a:r>
            <a:r>
              <a:rPr b="1" lang="es-PE" sz="4000" spc="-1" strike="noStrike">
                <a:solidFill>
                  <a:srgbClr val="ff0000"/>
                </a:solidFill>
                <a:latin typeface="Arial"/>
              </a:rPr>
              <a:t>Ollanta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507160" cy="64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Por los mercados y el desarrollo.</a:t>
            </a:r>
            <a:br>
              <a:rPr sz="4000"/>
            </a:b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Por las libertades individuales y económicas.</a:t>
            </a:r>
            <a:br>
              <a:rPr sz="4000"/>
            </a:br>
            <a:br>
              <a:rPr sz="4000"/>
            </a:b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Por tu futuro.</a:t>
            </a:r>
            <a:br>
              <a:rPr sz="4000"/>
            </a:b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Por el futuro de tus hijos.</a:t>
            </a:r>
            <a:br>
              <a:rPr sz="4000"/>
            </a:b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Por el futuro de las generaciones por venir.</a:t>
            </a:r>
            <a:br>
              <a:rPr sz="4000"/>
            </a:br>
            <a:br>
              <a:rPr sz="4000"/>
            </a:br>
            <a:r>
              <a:rPr b="1" lang="es-PE" sz="4000" spc="-1" strike="noStrike">
                <a:solidFill>
                  <a:srgbClr val="000000"/>
                </a:solidFill>
                <a:latin typeface="Arial"/>
              </a:rPr>
              <a:t>Por el Per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0" descr=""/>
          <p:cNvPicPr/>
          <p:nvPr/>
        </p:nvPicPr>
        <p:blipFill>
          <a:blip r:embed="rId1"/>
          <a:stretch/>
        </p:blipFill>
        <p:spPr>
          <a:xfrm>
            <a:off x="1979640" y="2278080"/>
            <a:ext cx="5153040" cy="37814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Se asegurará que los medios estén al servicio de la ‘</a:t>
            </a:r>
            <a:r>
              <a:rPr b="0" i="1" lang="es-PE" sz="4000" spc="-1" strike="noStrike">
                <a:solidFill>
                  <a:srgbClr val="000000"/>
                </a:solidFill>
                <a:latin typeface="Arial"/>
              </a:rPr>
              <a:t>democracia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’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 u="sng">
                <a:solidFill>
                  <a:srgbClr val="000000"/>
                </a:solidFill>
                <a:uFillTx/>
                <a:latin typeface="Arial"/>
              </a:rPr>
              <a:t>Verdadero</a:t>
            </a: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 Plan de Gobierno de Humala, pag.5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9"/>
          <p:cNvSpPr/>
          <p:nvPr/>
        </p:nvSpPr>
        <p:spPr>
          <a:xfrm>
            <a:off x="6659640" y="2852640"/>
            <a:ext cx="2016000" cy="1728720"/>
          </a:xfrm>
          <a:prstGeom prst="wedgeRectCallout">
            <a:avLst>
              <a:gd name="adj1" fmla="val -58976"/>
              <a:gd name="adj2" fmla="val 80120"/>
            </a:avLst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Y seguimos, en cadena nacional, con el programa de nuestro presidente Ollanta Huma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8" descr=""/>
          <p:cNvPicPr/>
          <p:nvPr/>
        </p:nvPicPr>
        <p:blipFill>
          <a:blip r:embed="rId1"/>
          <a:stretch/>
        </p:blipFill>
        <p:spPr>
          <a:xfrm>
            <a:off x="1979640" y="2276640"/>
            <a:ext cx="5153040" cy="37717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Afiliación obligatoria en el sistema público de pensiones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 u="sng">
                <a:solidFill>
                  <a:srgbClr val="000000"/>
                </a:solidFill>
                <a:uFillTx/>
                <a:latin typeface="Arial"/>
              </a:rPr>
              <a:t>Verdadero</a:t>
            </a: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 Plan de Gobierno de Humala, pag.17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5"/>
          <p:cNvSpPr/>
          <p:nvPr/>
        </p:nvSpPr>
        <p:spPr>
          <a:xfrm>
            <a:off x="5364000" y="2060640"/>
            <a:ext cx="2808360" cy="936720"/>
          </a:xfrm>
          <a:prstGeom prst="wedgeEllipseCallout">
            <a:avLst>
              <a:gd name="adj1" fmla="val -46550"/>
              <a:gd name="adj2" fmla="val 622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¿Han aumentado tus gasto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6"/>
          <p:cNvSpPr/>
          <p:nvPr/>
        </p:nvSpPr>
        <p:spPr>
          <a:xfrm>
            <a:off x="0" y="1628640"/>
            <a:ext cx="2195640" cy="2232000"/>
          </a:xfrm>
          <a:prstGeom prst="wedgeEllipseCallout">
            <a:avLst>
              <a:gd name="adj1" fmla="val 58240"/>
              <a:gd name="adj2" fmla="val 3093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Jefe, ¿podría trabajar horas extras? Es que ahora mi sueldo no me alca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1979640" y="2276640"/>
            <a:ext cx="5153040" cy="37717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Afiliación obligatoria en el sistema público de pensiones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 u="sng">
                <a:solidFill>
                  <a:srgbClr val="000000"/>
                </a:solidFill>
                <a:uFillTx/>
                <a:latin typeface="Arial"/>
              </a:rPr>
              <a:t>Verdadero</a:t>
            </a: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 Plan de Gobierno de Humala, pag.17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5"/>
          <p:cNvSpPr/>
          <p:nvPr/>
        </p:nvSpPr>
        <p:spPr>
          <a:xfrm>
            <a:off x="5867280" y="2060640"/>
            <a:ext cx="2449800" cy="1512720"/>
          </a:xfrm>
          <a:prstGeom prst="wedgeEllipseCallout">
            <a:avLst>
              <a:gd name="adj1" fmla="val -68342"/>
              <a:gd name="adj2" fmla="val 2534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Yo pensaba que estabas inscrito en una AFP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6"/>
          <p:cNvSpPr/>
          <p:nvPr/>
        </p:nvSpPr>
        <p:spPr>
          <a:xfrm>
            <a:off x="0" y="1700280"/>
            <a:ext cx="2268360" cy="2879640"/>
          </a:xfrm>
          <a:prstGeom prst="wedgeEllipseCallout">
            <a:avLst>
              <a:gd name="adj1" fmla="val 60916"/>
              <a:gd name="adj2" fmla="val -1135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No, lo que pasa es que me están  descontando un monto por el sistema público de pension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1979640" y="2276640"/>
            <a:ext cx="5153040" cy="377172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Afiliación obligatoria en el sistema público de pensiones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 u="sng">
                <a:solidFill>
                  <a:srgbClr val="000000"/>
                </a:solidFill>
                <a:uFillTx/>
                <a:latin typeface="Arial"/>
              </a:rPr>
              <a:t>Verdadero</a:t>
            </a: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 Plan de Gobierno de Humala, pag.17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5"/>
          <p:cNvSpPr/>
          <p:nvPr/>
        </p:nvSpPr>
        <p:spPr>
          <a:xfrm>
            <a:off x="5796000" y="2276640"/>
            <a:ext cx="3168720" cy="1657080"/>
          </a:xfrm>
          <a:prstGeom prst="wedgeEllipseCallout">
            <a:avLst>
              <a:gd name="adj1" fmla="val -61925"/>
              <a:gd name="adj2" fmla="val 5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Se pasaron. Este gobierno quiere forrarse con la plata de los trabajad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0" y="1700280"/>
            <a:ext cx="2268360" cy="2016000"/>
          </a:xfrm>
          <a:prstGeom prst="wedgeEllipseCallout">
            <a:avLst>
              <a:gd name="adj1" fmla="val 60916"/>
              <a:gd name="adj2" fmla="val 51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Lo estoy. Pero aparte me hacen ese descuento obligator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7T17:12:59Z</dcterms:created>
  <dc:creator/>
  <dc:description/>
  <dc:language>en-US</dc:language>
  <cp:lastModifiedBy>MARIPILI</cp:lastModifiedBy>
  <dcterms:modified xsi:type="dcterms:W3CDTF">2011-05-14T00:07:49Z</dcterms:modified>
  <cp:revision>23</cp:revision>
  <dc:subject/>
  <dc:title>EL FUTURO DEL PERÚ SI SALE ELEGIDO</dc:title>
</cp:coreProperties>
</file>