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88C-8C3B-4A91-9E3B-B321E4B9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BEB-F31B-413E-A2C7-1E93612F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270-E152-497C-B5CA-0267D20A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194-75F4-467C-90A6-0C3D96E1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10CA-7774-4A47-A3FA-72ACBE7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B23-4F85-4691-A781-9E687EC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54A2-71DE-417A-903E-DB71616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767-24B6-4FB4-8650-C5BA2BC5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1827-16E3-4E49-9689-6E9803E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3C94-469F-4AD3-9868-5D2FA26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0A82-7C66-4D49-94FB-3E84973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4E8-722B-4C10-BB61-34E5A8A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0EB-302A-4E47-86A4-B32819C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8D0D-0684-4C66-B2B5-5C832D91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20F0-6D18-4CDE-8E6C-81635B0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58C4-1BDE-45BC-B48F-96C0C15C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3A8D-CDFA-4985-9D7C-97146CBA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BF1-EEBE-4DA4-B6FF-C38D8A7F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868-D1D6-4B3A-AAFE-DEF0723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6F9-3C07-4732-800F-6C44DEF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F89-BAA2-401E-993E-F9D384C1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2C3-1CE0-4450-B68D-DA38C6E8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C93-6BAA-4373-8D8C-C00458B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EA0-0CF3-499E-9A42-C1518E7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9D6B-6992-4AAA-882E-B00DF2B1CDC0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5C3A-BB29-4856-BA5C-B373F8EA644C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d1ddd4"/>
                </a:solidFill>
                <a:latin typeface="Arial"/>
              </a:rPr>
              <a:t>EL VALOR DE UN MARIDO</a:t>
            </a:r>
            <a:br>
              <a:rPr sz="4400"/>
            </a:br>
            <a:br>
              <a:rPr sz="4400"/>
            </a:br>
            <a:r>
              <a:rPr b="1" lang="ca-ES" sz="3600" spc="-1" strike="noStrike">
                <a:solidFill>
                  <a:srgbClr val="d1ddd4"/>
                </a:solidFill>
                <a:latin typeface="Arial"/>
              </a:rPr>
              <a:t>(NADIE SABE EL VALOR DE LO QUE TIENE, HASTA QUE LO PIERDE)</a:t>
            </a:r>
            <a:br>
              <a:rPr sz="5100"/>
            </a:b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Tres operarios limpian las ventanas en lo alto de un rascacielos.</a:t>
            </a:r>
            <a:br>
              <a:rPr sz="2800"/>
            </a:b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Uno de ellos tiene necesidad de ir urgentemente al baño y decide bajar de su andamio.</a:t>
            </a:r>
            <a:r>
              <a:rPr b="1" lang="ca-ES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Mientras está en el baño, un viento fortísimo azota el  edificio y hace precipitar al vacío a sus dos compañeros, quienes se estrellan contra el pavimento...</a:t>
            </a:r>
            <a:br>
              <a:rPr sz="2800"/>
            </a:b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Esa misma noche, nuestro amigo, que no tiene consuelo por lo ocurrido, acude con su esposa al velatorio de sus compañeros y trata de dar ánimo a las viudas... pero no encuentra suficientes palabras de aliento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De pronto irrumpen en la sala dos señores muy circunspectos, que preguntan por las viudas y se dirigen a ellas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.-Señoras: el seguro previsto por la empresa de siniestros...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e trata de un cheque por 1.250.000,00 EUROS para cada una de ustedes.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.-Tengan los cheques y reciban nuestras más profundas condolencia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La esposa de nuestro amigo mira anonadada la escena y se dirige a su marido y le dice:</a:t>
            </a:r>
            <a:br>
              <a:rPr sz="2800"/>
            </a:b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.-¡Claro!  Y el señoritoooooo... ¡¡Cagando!!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1:15:42Z</dcterms:created>
  <dc:creator>GM</dc:creator>
  <dc:description/>
  <dc:language>en-US</dc:language>
  <cp:lastModifiedBy>GM</cp:lastModifiedBy>
  <dcterms:modified xsi:type="dcterms:W3CDTF">2007-06-03T11:24:45Z</dcterms:modified>
  <cp:revision>1</cp:revision>
  <dc:subject/>
  <dc:title>EL VALOR DE UN MARIDO  (NADIE SABE EL VALOR DE LO QUE TIENE, HASTA QUE LO PIERDE) </dc:title>
</cp:coreProperties>
</file>