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378A-77D9-4931-A933-51045318F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7C56-1B32-4532-9000-DC9C9E399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E651-F193-459D-BB89-5ADF4D46E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EADD-9037-4935-B8E1-175096AE3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4D301-523E-48F2-904E-EB7C930F9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07FF2-8D82-47D7-92A4-5F7BA5701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364D2-3353-45C3-8E53-6360DEBDF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4A9CC-EF92-41B9-BDE7-3A262CEB3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59C02-C83C-4E23-9756-63C6471D2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568F9-F50A-4DAA-9A4F-9FA1CDC52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E4D0D-CE45-4DB4-8B65-0E342F3D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E7BE-251D-4FD5-B0BB-779BB4C23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CB1DB-3D3E-4718-A7DE-DE0E78B9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7DDB8-8D09-432D-92B5-854AC6EEE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67552-8D6C-492A-A735-2C2A6BAFD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9CAB6-F7B4-4001-8E75-15881CD20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70C90-64FB-45DA-9456-6A8E22CB6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D3E8-8D75-4559-B43E-8E9269F5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3248-95E4-4337-99AE-1CFA8F0C5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C36E-C2D4-4ED5-87D9-D3034D3CB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C4F2-10FE-42D8-B2DE-D03442188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10C8-229C-489B-825B-65CDBE6E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5F14-8D34-4A39-9902-C41087CC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A6DF-2EFC-46F7-915E-0810634F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0033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2187E-10F6-4D5B-A9F9-37D3D30CAD98}" type="slidenum">
              <a:rPr b="0" lang="en-US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0033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B0246-BC6F-49DE-8477-F41767E2F92B}" type="slidenum">
              <a:rPr b="0" lang="en-US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8f8f8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d1ddd4"/>
                </a:solidFill>
                <a:latin typeface="Arial"/>
              </a:rPr>
              <a:t>EL VALOR DE UN MARIDO</a:t>
            </a:r>
            <a:br>
              <a:rPr sz="4400"/>
            </a:br>
            <a:br>
              <a:rPr sz="4400"/>
            </a:br>
            <a:r>
              <a:rPr b="1" lang="ca-ES" sz="3600" spc="-1" strike="noStrike">
                <a:solidFill>
                  <a:srgbClr val="d1ddd4"/>
                </a:solidFill>
                <a:latin typeface="Arial"/>
              </a:rPr>
              <a:t>(NADIE SABE EL VALOR DE LO QUE TIENE, HASTA QUE LO PIERDE)</a:t>
            </a:r>
            <a:br>
              <a:rPr sz="5100"/>
            </a:br>
            <a:endParaRPr b="0" lang="en-US" sz="3600" spc="-1" strike="noStrike">
              <a:solidFill>
                <a:srgbClr val="d1ddd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10920" y="1341360"/>
            <a:ext cx="784836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f8f8f8"/>
                </a:solidFill>
                <a:latin typeface="Verdana"/>
              </a:rPr>
              <a:t>Tres operarios limpian las ventanas en lo alto de un rascacielos.</a:t>
            </a:r>
            <a:br>
              <a:rPr sz="2800"/>
            </a:br>
            <a:r>
              <a:rPr b="1" lang="ca-ES" sz="2800" spc="-1" strike="noStrike">
                <a:solidFill>
                  <a:srgbClr val="f8f8f8"/>
                </a:solidFill>
                <a:latin typeface="Verdana"/>
              </a:rPr>
              <a:t>Uno de ellos tiene necesidad de ir urgentemente al baño y decide bajar de su andamio.</a:t>
            </a:r>
            <a:r>
              <a:rPr b="1" lang="ca-ES" sz="3200" spc="-1" strike="noStrike">
                <a:solidFill>
                  <a:srgbClr val="f8f8f8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f8f8f8"/>
                </a:solidFill>
                <a:latin typeface="Verdana"/>
              </a:rPr>
              <a:t>Mientras está en el baño, un viento fortísimo azota el  edificio y hace precipitar al vacío a sus dos compañeros, quienes se estrellan contra el pavimento...</a:t>
            </a:r>
            <a:br>
              <a:rPr sz="2800"/>
            </a:br>
            <a:r>
              <a:rPr b="1" lang="ca-ES" sz="2800" spc="-1" strike="noStrike">
                <a:solidFill>
                  <a:srgbClr val="f8f8f8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f8f8f8"/>
                </a:solidFill>
                <a:latin typeface="Verdana"/>
              </a:rPr>
              <a:t>Esa misma noche, nuestro amigo, que no tiene consuelo por lo ocurrido, acude con su esposa al velatorio de sus compañeros y trata de dar ánimo a las viudas... pero no encuentra suficientes palabras de aliento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250920" y="692280"/>
            <a:ext cx="8642160" cy="54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Verdana"/>
              </a:rPr>
              <a:t>De pronto irrumpen en la sala dos señores muy circunspectos, que preguntan por las viudas y se dirigen a ellas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8f8f8"/>
                </a:solidFill>
                <a:latin typeface="Verdana"/>
              </a:rPr>
              <a:t>.-Señoras: el seguro previsto por la empresa de siniestros...</a:t>
            </a:r>
            <a:br>
              <a:rPr sz="2800"/>
            </a:br>
            <a:r>
              <a:rPr b="1" lang="en-US" sz="2800" spc="-1" strike="noStrike">
                <a:solidFill>
                  <a:srgbClr val="f8f8f8"/>
                </a:solidFill>
                <a:latin typeface="Verdana"/>
              </a:rPr>
              <a:t>Se trata de un cheque por 1.250.000,00 EUROS para cada una de ustedes.</a:t>
            </a:r>
            <a:br>
              <a:rPr sz="2800"/>
            </a:br>
            <a:r>
              <a:rPr b="1" lang="en-US" sz="2800" spc="-1" strike="noStrike">
                <a:solidFill>
                  <a:srgbClr val="f8f8f8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f8f8f8"/>
                </a:solidFill>
                <a:latin typeface="Verdana"/>
              </a:rPr>
              <a:t>.-Tengan los cheques y reciban nuestras más profundas condolencias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8f8f8"/>
                </a:solidFill>
                <a:latin typeface="Verdana"/>
              </a:rPr>
              <a:t>La esposa de nuestro amigo mira anonadada la escena y se dirige a su marido y le dice:</a:t>
            </a:r>
            <a:br>
              <a:rPr sz="2800"/>
            </a:br>
            <a:r>
              <a:rPr b="1" lang="es-ES" sz="2800" spc="-1" strike="noStrike">
                <a:solidFill>
                  <a:srgbClr val="f8f8f8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8f8f8"/>
                </a:solidFill>
                <a:latin typeface="Verdana"/>
              </a:rPr>
              <a:t>   </a:t>
            </a:r>
            <a:r>
              <a:rPr b="1" lang="es-ES" sz="2800" spc="-1" strike="noStrike">
                <a:solidFill>
                  <a:srgbClr val="f8f8f8"/>
                </a:solidFill>
                <a:latin typeface="Verdana"/>
              </a:rPr>
              <a:t>.-¡Claro!  Y el señoritoooooo... ¡¡Cagando!!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3T11:15:42Z</dcterms:created>
  <dc:creator>GM</dc:creator>
  <dc:description/>
  <dc:language>en-US</dc:language>
  <cp:lastModifiedBy>GM</cp:lastModifiedBy>
  <dcterms:modified xsi:type="dcterms:W3CDTF">2007-06-03T11:24:45Z</dcterms:modified>
  <cp:revision>1</cp:revision>
  <dc:subject/>
  <dc:title>EL VALOR DE UN MARIDO  (NADIE SABE EL VALOR DE LO QUE TIENE, HASTA QUE LO PIERDE) </dc:title>
</cp:coreProperties>
</file>