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3C5-B659-4483-A747-D41A0D76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B9D-D180-4C40-96C8-02AA5E73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1986-56EF-4DD4-95FB-869AEEA7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D3F-A39F-4DA3-B1C8-C5E38400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95BA7-5658-432D-B72D-08099FEA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590D7-D8F1-4F92-A535-2B7113A1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C256B-6DBA-437D-B2D6-0582304F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2CE02-034B-473F-98DE-4C84A3C0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87224-0E1C-41E2-AA5A-90C55313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A43BD-4F0A-491E-AA85-C3EF8B53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19C9D-8C0E-4EC5-8C55-6C9BA659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844-7268-49DB-9054-746316F5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95143-DB5B-4A7D-A631-DAA70651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54A8F-DD07-4040-AD4B-8EDB626F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EC559-E5B8-4AD3-AE37-D7A40BDB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DC32A-F420-48F6-A1EF-6652B212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4A3B4-B752-408E-B98A-DFECAC6F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0F6-52C1-464D-AD2C-7B1FC35D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82F-6B0C-4E79-A4D3-632D7BA6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8B2-8FDE-48C4-99B8-17FEECAF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8B1-46E7-4E9C-8D0C-44356A8D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D95-4165-438F-A8D0-A4707602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19A-E5B9-45EE-96CA-5D7871D5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23F-00D4-4BCE-8450-6F968233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75D7-9A62-4F39-A1F7-6114671D5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F714-35E4-4A3D-A9DE-F52A4C8B6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4221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cademy Engraved LET"/>
              </a:rPr>
              <a:t>HÚHA KÉPEK</a:t>
            </a:r>
            <a:br>
              <a:rPr sz="7200"/>
            </a:br>
            <a:br>
              <a:rPr sz="4000"/>
            </a:br>
            <a:r>
              <a:rPr b="1" lang="en-US" sz="7200" spc="-1" strike="noStrike">
                <a:solidFill>
                  <a:srgbClr val="ff0000"/>
                </a:solidFill>
                <a:latin typeface="Academy Engraved LET"/>
              </a:rPr>
              <a:t>A NYÁRI</a:t>
            </a:r>
            <a:br>
              <a:rPr sz="4000"/>
            </a:br>
            <a:br>
              <a:rPr sz="4000"/>
            </a:br>
            <a:r>
              <a:rPr b="1" lang="en-US" sz="7200" spc="-1" strike="noStrike">
                <a:solidFill>
                  <a:srgbClr val="ff0000"/>
                </a:solidFill>
                <a:latin typeface="Academy Engraved LET"/>
              </a:rPr>
              <a:t>STRANDOKRÓL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835280" y="-243000"/>
            <a:ext cx="546228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604360" cy="6910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238400" y="-666720"/>
            <a:ext cx="6667200" cy="8191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77708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627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2120" y="-1652760"/>
            <a:ext cx="7619760" cy="10163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9540720" cy="6896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71480" y="-857160"/>
            <a:ext cx="5801040" cy="8572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-1189080" y="0"/>
            <a:ext cx="10333080" cy="6962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63640" y="-171360"/>
            <a:ext cx="5607000" cy="7245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232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-541440" y="765000"/>
            <a:ext cx="9685440" cy="5000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7488360" cy="6815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-55440"/>
            <a:ext cx="9145440" cy="6913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8675640" cy="6832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692360" y="-892080"/>
            <a:ext cx="5443560" cy="7750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5290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5864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5962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4660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404640" y="214200"/>
            <a:ext cx="9953280" cy="6429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459640" cy="6880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9:07:36Z</dcterms:created>
  <dc:creator>Felhasználó</dc:creator>
  <dc:description/>
  <dc:language>en-US</dc:language>
  <cp:lastModifiedBy>Felhasználó</cp:lastModifiedBy>
  <dcterms:modified xsi:type="dcterms:W3CDTF">2009-03-07T19:59:14Z</dcterms:modified>
  <cp:revision>2</cp:revision>
  <dc:subject/>
  <dc:title>1. dia</dc:title>
</cp:coreProperties>
</file>