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17F-47BC-4603-B838-679DC7EF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88E-5FF8-4A5D-BADB-666CEC6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50C-6531-4F25-A66B-50FFCE54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A14-7DBB-4D3C-AD56-F08C1C4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CDDDC-E110-4477-B626-101F006B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8E7AA-2FEF-41B1-B94A-4E30FC6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D5FFF-86C2-4B4D-A711-34AA5D1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AECEA-565E-4D16-8F1B-23478567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4B7A7-45FC-4530-A09C-9A64A151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29AAF-9DC7-4967-99B8-025BE21E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33C8C-C0B9-43E5-ACE6-92A9C01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C8-77B2-4E4D-B123-C8E3DE3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B458-D1CC-45CE-9C44-3132D31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33AE7-ABCD-4EC7-93DB-B49FADB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DA7FB-EB03-4588-82C9-89F33F63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1C433-B67E-4CCA-8ACF-71EB33B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EA302-E6F0-40EE-B56D-1C8DCA96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6B3-183F-4E97-B4FB-8C2170ED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061-C901-4D7B-89BD-A111630F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8C0-D1F5-4AA4-A046-658300C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94F-B5DA-4AD1-A0D3-B0ECA69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616-FEEC-4E6C-A126-F20B572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E5B-98C5-40A3-B65F-E5EEA695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E53-EDBE-4AD0-A143-71A21F3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9EF-6285-4BDC-9887-09ABBBC6C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070-28EB-4602-A70A-4FC519CA3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22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HÚHA KÉPEK</a:t>
            </a:r>
            <a:br>
              <a:rPr sz="7200"/>
            </a:br>
            <a:br>
              <a:rPr sz="4000"/>
            </a:b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A NYÁRI</a:t>
            </a:r>
            <a:br>
              <a:rPr sz="4000"/>
            </a:br>
            <a:br>
              <a:rPr sz="4000"/>
            </a:br>
            <a:r>
              <a:rPr b="1" lang="en-US" sz="7200" spc="-1" strike="noStrike">
                <a:solidFill>
                  <a:srgbClr val="ff0000"/>
                </a:solidFill>
                <a:latin typeface="Academy Engraved LET"/>
              </a:rPr>
              <a:t>STRANDOKRÓL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35280" y="-243000"/>
            <a:ext cx="546228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04360" cy="6910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38400" y="-666720"/>
            <a:ext cx="6667200" cy="819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77708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627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-1652760"/>
            <a:ext cx="7619760" cy="1016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1480" y="-857160"/>
            <a:ext cx="5801040" cy="8572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1189080" y="0"/>
            <a:ext cx="10333080" cy="696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63640" y="-171360"/>
            <a:ext cx="5607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3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-541440" y="765000"/>
            <a:ext cx="9685440" cy="500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48836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9145440" cy="6913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92360" y="-892080"/>
            <a:ext cx="5443560" cy="7750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290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86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62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4660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404640" y="214200"/>
            <a:ext cx="9953280" cy="642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5964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9:07:36Z</dcterms:created>
  <dc:creator>Felhasználó</dc:creator>
  <dc:description/>
  <dc:language>en-US</dc:language>
  <cp:lastModifiedBy>Felhasználó</cp:lastModifiedBy>
  <dcterms:modified xsi:type="dcterms:W3CDTF">2009-03-07T19:59:14Z</dcterms:modified>
  <cp:revision>2</cp:revision>
  <dc:subject/>
  <dc:title>1. dia</dc:title>
</cp:coreProperties>
</file>