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Secret%20Garden%20-%20Ode%20To%20Simplicity%20-%2002.wav" ContentType="audio/x-wav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093-E485-43D4-81AD-B7885EF6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90B-CBAD-4098-B5B6-EC45EA58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2FA-4523-491C-83E0-17FE7D87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6DD-971A-41CA-B78A-DB8F01A5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D5D-EC40-48D1-952D-58CA2F5A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B17-0D67-4F0E-8C64-87FA6DD5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E47-1C13-41E5-89EC-EEC4F052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200-3846-41B8-8CEC-6481CF0C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225-04A4-4D2F-9D6F-AD25275C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828-E01A-44E4-BF03-242F5A5E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0A4-701F-43CD-8F97-2515B14B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197-B754-45C3-B831-720C49CA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C587-6326-42CC-9B7B-314275F18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ecret%20Garden%20-%20Ode%20To%20Simplicity%20-%200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404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99"/>
                </a:solidFill>
                <a:latin typeface="Verdana"/>
              </a:rPr>
              <a:t>La Muer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112536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99"/>
                </a:solidFill>
                <a:latin typeface="Verdana"/>
              </a:rPr>
              <a:t>Una gran re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2" name="Secret%20Garden%20-%20Ode%20To%20Simplicity%20-%200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48120" y="187920"/>
            <a:ext cx="42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Verdana"/>
              </a:rPr>
              <a:t>La evolución requiere de la mutación de las for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4815360"/>
            <a:ext cx="77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Nadie llora por la semilla cuando se transforma en árb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ni por el gusano cuando resu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en marip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048200" cy="620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2408040"/>
            <a:ext cx="396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¿Acaso una madre se apena porque su hijo ya no está en su vient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-1080"/>
            <a:ext cx="4767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Verdana"/>
              </a:rPr>
              <a:t>La vida fluye como una interminable suce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Verdana"/>
              </a:rPr>
              <a:t>de misteriosas transformaciones</a:t>
            </a: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3280" y="245160"/>
            <a:ext cx="865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Hasta cierto punto, la ciencia y la tecnología nos permiten 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qué es lo que sucede antes de na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52480" y="1411920"/>
            <a:ext cx="77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or ahora, los recursos son limi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1080" y="5373360"/>
            <a:ext cx="881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Sólo podemos conocer hasta el instante en que el cuerpo finaliza su ciclo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56544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6680" y="399600"/>
            <a:ext cx="876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De todos modos, ¿cuántas pruebas más necesitamos para darnos cuenta de que lo que llamamos vida y muerte no son más que dos caras de una misma moneda?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4740" t="0" r="7481" b="455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42640"/>
            <a:ext cx="43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Buscamos certez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a vida es incertidumbre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9400" y="5373360"/>
            <a:ext cx="89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Verdana"/>
              </a:rPr>
              <a:t>La materia es necesaria para la experiencia en el mundo de las formas.</a:t>
            </a:r>
            <a:r>
              <a:rPr b="0" lang="en-US" sz="3200" spc="-1" strike="noStrike">
                <a:solidFill>
                  <a:srgbClr val="00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76500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5ff8b"/>
                </a:solidFill>
                <a:latin typeface="Verdana"/>
              </a:rPr>
              <a:t>La muerte no exis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141300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5ff8b"/>
                </a:solidFill>
                <a:latin typeface="Verdana"/>
              </a:rPr>
              <a:t>Sólo la trans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653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La muerte es una tran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31120" y="4867920"/>
            <a:ext cx="6887880" cy="581400"/>
          </a:xfrm>
          <a:prstGeom prst="rect">
            <a:avLst/>
          </a:prstGeom>
          <a:solidFill>
            <a:srgbClr val="0a171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uera de ese entorno ya no si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444280"/>
            <a:ext cx="862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Nadie se angustia por abandonar los zapatos a la hora de dormir.</a:t>
            </a:r>
            <a:r>
              <a:rPr b="0" lang="es-ES" sz="32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33336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cc"/>
                </a:solidFill>
                <a:latin typeface="Verdana"/>
              </a:rPr>
              <a:t>Cumplieron una fu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360" y="5059080"/>
            <a:ext cx="90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cc"/>
                </a:solidFill>
                <a:latin typeface="Verdana"/>
              </a:rPr>
              <a:t>Lo mismo sucede con nuestro cuerpo, nos permite movernos en esta dimensión, pero llegado cierto punto habremos de dejarlo.</a:t>
            </a:r>
            <a:r>
              <a:rPr b="0" lang="es-ES" sz="3200" spc="-1" strike="noStrike">
                <a:solidFill>
                  <a:srgbClr val="ffcc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476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Verdana"/>
              </a:rPr>
              <a:t>Es  un proceso 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42640"/>
            <a:ext cx="72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Deberíamos aprender a liberar de tanta negatividad a la mu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924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Verdana"/>
              </a:rPr>
              <a:t>Sólo es 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08200" y="5012280"/>
            <a:ext cx="586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¿Crees que hablo así por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no soy humano?</a:t>
            </a:r>
            <a:r>
              <a:rPr b="0" lang="es-ES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50835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laro que las ausencias duel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y mucho. Y tardan un gran tiempo el curar su depen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32000" y="5172480"/>
            <a:ext cx="54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9ff"/>
                </a:solidFill>
                <a:latin typeface="Arial"/>
              </a:rPr>
              <a:t>Es cierto que el vacío por los que ya no están es insondable.</a:t>
            </a:r>
            <a:r>
              <a:rPr b="0" lang="es-ES" sz="3200" spc="-1" strike="noStrike">
                <a:solidFill>
                  <a:srgbClr val="ffc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8902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El corazón queda herido, lo s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Pero si vivimos con intensidad cada momento, amando y disfrutan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de todo lo que nos rodea, reconoceremos la muerte como parte indivisible de la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7640" y="691920"/>
            <a:ext cx="41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iras con pánico a la tumba, como si allí todo acaba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299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No t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9520" y="563472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Verdana"/>
              </a:rPr>
              <a:t>Habremos trascendido las fronteras de nuestras limitaciones.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1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5327640" cy="585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92720" y="1294200"/>
            <a:ext cx="3851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Verdana"/>
              </a:rPr>
              <a:t>Si cambiamos nuestra percepció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Verdana"/>
              </a:rPr>
              <a:t>ya no lamentaremos la partida de nuestros seres queridos.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38408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eremos conscientes de que simplemente se adelantaron en el camino para seguir evolucion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 los podemos ver, es ciert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ero los podemos sent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abemos que está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6920" y="83664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f1ff"/>
                </a:solidFill>
                <a:latin typeface="Verdana"/>
              </a:rPr>
              <a:t>Mira hacia tu Cielo In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372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f1ff"/>
                </a:solidFill>
                <a:latin typeface="Verdana"/>
              </a:rPr>
              <a:t>Agradece, desde lo más profundo de tu alma, por los momentos viv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2595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Envíales millones de besos y tus más puras inten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3213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f1ff"/>
                </a:solidFill>
                <a:latin typeface="Verdana"/>
              </a:rPr>
              <a:t>Libéra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95640" y="259200"/>
            <a:ext cx="637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Ellos deben seguir su camino y encontrar su luz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ya llegará el tiempo del reencuentro.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36840" y="3933000"/>
            <a:ext cx="801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b7f1ff"/>
                </a:solidFill>
                <a:latin typeface="Verdana"/>
              </a:rPr>
              <a:t>Sigue vivie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7f1ff"/>
                </a:solidFill>
                <a:latin typeface="Verdana"/>
              </a:rPr>
              <a:t>También te irás cuando llegue tu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4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f1ff"/>
                </a:solidFill>
                <a:latin typeface="Verdana"/>
              </a:rPr>
              <a:t>No cierres tu coraz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5012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1e7ff"/>
                </a:solidFill>
                <a:latin typeface="Verdana"/>
              </a:rPr>
              <a:t>Aún queda mucho por aprender, mucho por disfrutar.</a:t>
            </a:r>
            <a:r>
              <a:rPr b="0" lang="es-ES" sz="3200" spc="-1" strike="noStrike">
                <a:solidFill>
                  <a:srgbClr val="c1e7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508880" cy="4127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47628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ff"/>
                </a:solidFill>
                <a:latin typeface="Verdana"/>
              </a:rPr>
              <a:t>Observa, la única certeza</a:t>
            </a:r>
            <a:br>
              <a:rPr sz="3200"/>
            </a:br>
            <a:r>
              <a:rPr b="1" lang="es-ES" sz="3200" spc="-1" strike="noStrike">
                <a:solidFill>
                  <a:srgbClr val="66ffff"/>
                </a:solidFill>
                <a:latin typeface="Verdana"/>
              </a:rPr>
              <a:t> es el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0000" y="55155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e7ff"/>
                </a:solidFill>
                <a:latin typeface="Verdana"/>
              </a:rPr>
              <a:t>Sólo quien te ama te dice lo que a veces no te gusta escuch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35280" y="332280"/>
            <a:ext cx="69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Nunca lo olvides, este mensaje llegó a tus manos por amor a la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521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dff"/>
                </a:solidFill>
                <a:latin typeface="Verdana"/>
              </a:rPr>
              <a:t>StGer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645336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652140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9ff"/>
                </a:solidFill>
                <a:latin typeface="Verdana"/>
              </a:rPr>
              <a:t>Música:  Secret Ga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3280" y="333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Verdana"/>
              </a:rPr>
              <a:t>Nada permanece ig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24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41192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00"/>
                </a:solidFill>
                <a:latin typeface="Verdana"/>
              </a:rPr>
              <a:t>Debemos ser conscientes de nuestro limitado tiempo en este plano.</a:t>
            </a:r>
            <a:r>
              <a:rPr b="0" lang="es-ES" sz="32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562500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Verdana"/>
              </a:rPr>
              <a:t>Sólo así viviremos de una manera intensa y profunda; celebr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No te asus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1052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Continua leyend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19640" y="3140640"/>
            <a:ext cx="5114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Aunque cueste reconocerl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este mensaje llega a tus manos por amor a la v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7:31:05Z</dcterms:created>
  <dc:creator>Josep Oto</dc:creator>
  <dc:description>CREADO 21 JULIO 2009</dc:description>
  <dc:language>en-US</dc:language>
  <cp:lastModifiedBy>JOSEP OTO</cp:lastModifiedBy>
  <dcterms:modified xsi:type="dcterms:W3CDTF">2010-03-27T00:31:29Z</dcterms:modified>
  <cp:revision>7</cp:revision>
  <dc:subject>Aceptando la realidad</dc:subject>
  <dc:title>La Muerte, una gran realidad</dc:title>
</cp:coreProperties>
</file>