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Secret%20Garden%20-%20Ode%20To%20Simplicity%20-%2002.wav" ContentType="audio/x-wav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40F-8EF8-4BD6-86A1-B004AFE5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E91-D651-4B7B-87DE-BC646F5C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522-FCE5-4C93-97B1-B01563D2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E97-039A-4FAF-AE29-BE53D685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788-912F-4C97-BF24-4880A89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46C-0653-4958-91FF-E0156CA6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C9C-CFD7-49A7-BD34-D963B99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A50-6BA6-4477-9905-2721C1CA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4FD-3E14-4DAB-A4A3-6483601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06D-FE37-4635-9E55-B9CFEDFA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7AD-A297-4E1E-84B2-18E1519E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F20-006E-4D14-8867-635E9AD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38A3-AFC6-4264-A599-C48F108DA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Ode%20To%20Simplicity%20-%200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404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99"/>
                </a:solidFill>
                <a:latin typeface="Verdana"/>
              </a:rPr>
              <a:t>La Muer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125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99"/>
                </a:solidFill>
                <a:latin typeface="Verdana"/>
              </a:rPr>
              <a:t>Una gran re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Secret%20Garden%20-%20Ode%20To%20Simplicity%20-%20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48120" y="18792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Verdana"/>
              </a:rPr>
              <a:t>La evolución requiere de la mutación de las f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481536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adie llora por la semilla cuando se transforma en árb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i por el gusano cuando resu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en marip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048200" cy="620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240804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¿Acaso una madre se apena porque su hijo ya no está en su vien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-1080"/>
            <a:ext cx="476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Verdana"/>
              </a:rPr>
              <a:t>La vida fluye como una interminable suc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Verdana"/>
              </a:rPr>
              <a:t>de misteriosas transformaciones</a:t>
            </a: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3280" y="24516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Hasta cierto punto, la ciencia y la tecnología nos permiten 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qué es lo que sucede antes de n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52480" y="1411920"/>
            <a:ext cx="77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or ahora, los recursos son limi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1080" y="5373360"/>
            <a:ext cx="881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Sólo podemos conocer hasta el instante en que el cuerpo finaliza su ciclo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56544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6680" y="399600"/>
            <a:ext cx="876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De todos modos, ¿cuántas pruebas más necesitamos para darnos cuenta de que lo que llamamos vida y muerte no son más que dos caras de una misma moneda?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740" t="0" r="7481" b="455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4264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Buscamos certez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a vida es incertidumbre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9400" y="5373360"/>
            <a:ext cx="89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Verdana"/>
              </a:rPr>
              <a:t>La materia es necesaria para la experiencia en el mundo de las formas.</a:t>
            </a:r>
            <a:r>
              <a:rPr b="0" lang="en-US" sz="3200" spc="-1" strike="noStrike">
                <a:solidFill>
                  <a:srgbClr val="00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765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5ff8b"/>
                </a:solidFill>
                <a:latin typeface="Verdana"/>
              </a:rPr>
              <a:t>La muerte no exis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4130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5ff8b"/>
                </a:solidFill>
                <a:latin typeface="Verdana"/>
              </a:rPr>
              <a:t>Sólo la trans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653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La muerte es una tran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31120" y="4867920"/>
            <a:ext cx="6887880" cy="581400"/>
          </a:xfrm>
          <a:prstGeom prst="rect">
            <a:avLst/>
          </a:prstGeom>
          <a:solidFill>
            <a:srgbClr val="0a1718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era de ese entorno ya no si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444280"/>
            <a:ext cx="862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Nadie se angustia por abandonar los zapatos a la hora de dormir.</a:t>
            </a:r>
            <a:r>
              <a:rPr b="0" lang="es-ES" sz="3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3333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cc"/>
                </a:solidFill>
                <a:latin typeface="Verdana"/>
              </a:rPr>
              <a:t>Cumplieron una fu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360" y="5059080"/>
            <a:ext cx="90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cc"/>
                </a:solidFill>
                <a:latin typeface="Verdana"/>
              </a:rPr>
              <a:t>Lo mismo sucede con nuestro cuerpo, nos permite movernos en esta dimensión, pero llegado cierto punto habremos de dejarlo.</a:t>
            </a:r>
            <a:r>
              <a:rPr b="0" lang="es-ES" sz="3200" spc="-1" strike="noStrike">
                <a:solidFill>
                  <a:srgbClr val="ffcc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7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Verdana"/>
              </a:rPr>
              <a:t>Es  un proceso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4264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Deberíamos aprender a liberar de tanta negatividad a la 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924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Verdana"/>
              </a:rPr>
              <a:t>Sólo es trans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08200" y="5012280"/>
            <a:ext cx="586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¿Crees que hablo así p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Verdana"/>
              </a:rPr>
              <a:t>no soy humano?</a:t>
            </a:r>
            <a:r>
              <a:rPr b="0" lang="es-E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0835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laro que las ausencias duel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y mucho. Y tardan un gran tiempo el curar su depen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32000" y="5172480"/>
            <a:ext cx="54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9ff"/>
                </a:solidFill>
                <a:latin typeface="Arial"/>
              </a:rPr>
              <a:t>Es cierto que el vacío por los que ya no están es insondable.</a:t>
            </a:r>
            <a:r>
              <a:rPr b="0" lang="es-ES" sz="3200" spc="-1" strike="noStrike">
                <a:solidFill>
                  <a:srgbClr val="ffc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8902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El corazón queda herido, lo 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Pero si vivimos con intensidad cada momento, amando y disfrutan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de todo lo que nos rodea, reconoceremos la muerte como parte indivisible de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7640" y="69192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Miras con pánico a la tumba, como si allí todo acab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9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No t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9520" y="563472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Verdana"/>
              </a:rPr>
              <a:t>Habremos trascendido las fronteras de nuestras limitaciones.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1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27640" cy="585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1294200"/>
            <a:ext cx="385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Verdana"/>
              </a:rPr>
              <a:t>Si cambiamos nuestra percepció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Verdana"/>
              </a:rPr>
              <a:t>ya no lamentaremos la partida de nuestros seres queridos.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384084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eremos conscientes de que simplemente se adelantaron en el camino para seguir evolucion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 los podemos ver, es ciert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ero los podemos sent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abemos que está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836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Mira hacia tu Cielo In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372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f1ff"/>
                </a:solidFill>
                <a:latin typeface="Verdana"/>
              </a:rPr>
              <a:t>Agradece, desde lo más profundo de tu alma, por los momentos viv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2595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Envíales millones de besos y tus más puras inten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3213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Libéra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5640" y="259200"/>
            <a:ext cx="637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Ellos deben seguir su camino y encontrar su luz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ya llegará el tiempo del reencuentro.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36840" y="3933000"/>
            <a:ext cx="801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7f1ff"/>
                </a:solidFill>
                <a:latin typeface="Verdana"/>
              </a:rPr>
              <a:t>Sigue vivi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7f1ff"/>
                </a:solidFill>
                <a:latin typeface="Verdana"/>
              </a:rPr>
              <a:t>También te irás cuando llegue tu 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44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f1ff"/>
                </a:solidFill>
                <a:latin typeface="Verdana"/>
              </a:rPr>
              <a:t>No cierres tu coraz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5012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1e7ff"/>
                </a:solidFill>
                <a:latin typeface="Verdana"/>
              </a:rPr>
              <a:t>Aún queda mucho por aprender, mucho por disfrutar.</a:t>
            </a:r>
            <a:r>
              <a:rPr b="0" lang="es-ES" sz="3200" spc="-1" strike="noStrike">
                <a:solidFill>
                  <a:srgbClr val="c1e7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508880" cy="4127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4762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Verdana"/>
              </a:rPr>
              <a:t>Observa, la única certeza</a:t>
            </a:r>
            <a:br>
              <a:rPr sz="3200"/>
            </a:br>
            <a:r>
              <a:rPr b="1" lang="es-ES" sz="3200" spc="-1" strike="noStrike">
                <a:solidFill>
                  <a:srgbClr val="66ffff"/>
                </a:solidFill>
                <a:latin typeface="Verdana"/>
              </a:rPr>
              <a:t> es e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5155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e7ff"/>
                </a:solidFill>
                <a:latin typeface="Verdana"/>
              </a:rPr>
              <a:t>Sólo quien te ama te dice lo que a veces no te gusta escuch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332280"/>
            <a:ext cx="69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unca lo olvides, este mensaje llegó a tus manos por amor a la v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214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dff"/>
                </a:solidFill>
                <a:latin typeface="Verdana"/>
              </a:rPr>
              <a:t>StGer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45336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9ff"/>
                </a:solidFill>
                <a:latin typeface="Verdana"/>
              </a:rPr>
              <a:t>Música:  Secret Ga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333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Verdana"/>
              </a:rPr>
              <a:t>Nada permanece ig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41192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Debemos ser conscientes de nuestro limitado tiempo en este plano.</a:t>
            </a:r>
            <a:r>
              <a:rPr b="0" lang="es-ES" sz="32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562500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Verdana"/>
              </a:rPr>
              <a:t>Sólo así viviremos de una manera intensa y profunda; celeb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333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No te asus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1052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Continua leyend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19640" y="3140640"/>
            <a:ext cx="51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Aunque cueste reconocerl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este mensaje llega a tus manos por amor a la v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7:31:05Z</dcterms:created>
  <dc:creator>Josep Oto</dc:creator>
  <dc:description>CREADO 21 JULIO 2009</dc:description>
  <dc:language>en-US</dc:language>
  <cp:lastModifiedBy>JOSEP OTO</cp:lastModifiedBy>
  <dcterms:modified xsi:type="dcterms:W3CDTF">2010-03-27T00:31:29Z</dcterms:modified>
  <cp:revision>7</cp:revision>
  <dc:subject>Aceptando la realidad</dc:subject>
  <dc:title>La Muerte, una gran realidad</dc:title>
</cp:coreProperties>
</file>