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Musicbox%20dancer.wav" ContentType="audio/x-wav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300-A344-4CA0-80AA-62CF0EB9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6E1-AA2D-4136-BBE8-8FF87574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552B9-A584-4ECD-8076-EA968957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D7206-6281-4389-AFDF-55DB3223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8AC41-31E6-4786-814B-F6B01ACE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76D8D-06AE-4316-BD02-F1742A7F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D775B-37B5-4DAE-8D32-2E71F222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7B91D-0AA7-499A-BA4C-0A5EC7BD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76F9B-0470-467B-A445-39789430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2C005-D9F5-4358-B4E9-BC4A8816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F9CBC-CD76-4EA6-A879-8F39857A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47829-B5D8-4A74-AE44-57993E94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CC9-C83B-4AAC-A50B-B2260193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CB12C-B542-4023-B499-79E3CAFA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60017-4200-42B7-BC3B-2322AB55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6BD25-A8F6-4CC1-9B3C-7A69079C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3FBCA-348D-4E97-98D7-1518D4A2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857EA-68A9-4CCA-9024-9E03090D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333F5-BF77-464F-A680-28F50B25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D23A7-1E5B-4EE3-98A9-2D86BB04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B9F29-CECE-4C24-B22E-8EC9CA66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0EF11-39F9-40AD-924A-B1EC5691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BEC15-F2AB-4295-AB5E-DD4ABBBE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8DD-E47A-4106-A8FB-5860315A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110C2-F50D-4621-B83E-DC5BDC5D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ABBD5-6F0B-4B97-BF8B-3CCBFAA7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DD7B7-A3CE-4F51-9F65-42AB9583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06036-E400-4FF4-B12A-5CA4094F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EBA7D-2E85-432C-9E2D-98351823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6587C-3575-4D54-8E42-A55354E4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2F8EA-32EB-4B5B-8D24-3FEE5ADA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B606B-05B9-407A-A0FA-C606A537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D2EEB-F659-431E-BFE4-D150BAEB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6383C-116A-4802-9BFF-20A0703C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BCC3-8087-4156-AF58-C56CFE1E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A9630-64DB-42C1-98C5-DE3646D9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0AC6B-BEDA-40D3-9B08-38ACBF16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B1506-27A6-4EC7-932D-1CE8195D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ED9F3-5283-4537-A3C6-41C9ED19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B0A4E-E3DE-4DA4-B8C1-109F2762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780CF-EEF9-4B84-A577-7C399D51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91511-D633-45A2-8D95-257C90B2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5C2C8-8483-484C-8E77-D787A316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77D6F-B5B2-4E03-B4E0-E714E95E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2C997-BB3A-4FB8-8E03-E4D933FC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5E7A-40AF-471A-A234-245FD866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1DC65-94B5-452F-B1D4-14881EA7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F940E-ACC1-4E12-8A8B-E5BFE58A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52B55-1F1B-467C-A334-2063CA4E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5397B-D51B-46E8-B19A-1252D6ED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515CC-5DDB-4674-B5B4-3F080EBD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4F63-B936-437F-9156-CD39D936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BC9F-06F1-438C-80D3-38A535CE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EB40-1C8C-47EF-8BD1-4A49BE88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CB8A-FBCB-47B2-8364-3EA7BAE3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0321-4BCD-42D2-B879-E00C7AE7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004-D378-49AA-A715-B35768F1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445E-3E3E-4657-88B7-B9B91E7F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00BB-29CD-45BF-8C2F-8F2424C0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7B7C-6624-49A8-B21C-D0F696F7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BF04-8ED4-4874-A3CA-C3465AB8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18E6-1898-44A7-B9AA-C1D6544A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5C540-2FEF-4A09-A7FE-51C29BE1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BE24B-56F6-4C74-9ABB-2F6B520F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1850-18A5-4282-A2E1-6B1897FD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65BC-653B-40F6-9183-ADB8C397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4A20-21E3-49C8-A1C1-99DC732E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B34-B574-47C2-AFD8-2978B0A6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3551-F317-4EBD-8085-4B021E93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36DB-7015-471D-AD3F-81CF55E5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8522-CB4B-473E-ACE1-73C2D614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5A6B-CE1D-45C6-B5FE-2242C6A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5C62-2740-4C5E-B50B-B0F03493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E1FE1-3E66-4756-822F-839072EB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C4EE-2C16-4799-A19F-1384E2C2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3B48-FB3B-492A-955B-3F26B5B2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6089E-FC90-46A5-AD11-8E75B8D9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D16C6-EF7D-42D1-A949-F99438B2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D45-0059-4019-9B33-531A2C07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FA2D3-04A2-41E6-828F-5F62D871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48C4-DDB3-4C7F-B743-6FC4129D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32F9-1249-4DDA-BEBB-08E12E7E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95108-2831-4FFF-9532-3F9AD588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798C3-C2A1-420B-90CD-1D78BBC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81F8D-AD91-45E6-BEF3-881F779C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D70E-192F-497C-81C7-102EA72A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9377-E28B-42F3-9EA4-87DB531D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332A-0A08-4360-A252-AC5111C1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7ABA3-FAE2-424D-B27E-E81CF35D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EF7-71CC-43F4-98B6-24A5120C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E4BDA-5615-419B-9ACB-CA495228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94060-3351-40FB-A915-299B6B19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A0896-D4A2-4BCD-98B7-B31171AF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0C01A-3FD8-4A42-9796-09FDF9E7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2D245-E9F8-4062-B78E-F22F84D3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122C1-B682-4BBE-8CA6-C2307671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841BB-D033-4763-A704-9638F92C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3B3BD-ED9C-46EA-A985-3E07A182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47552-C9C1-4329-BE13-44699B59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194EF-CCE8-40D4-957B-B550019E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909-6CDA-4152-B1F5-0AE7921A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B758D-E13B-49DD-9631-D1A5F4F5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F1076-D0C1-4133-8039-683822A8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5BAAA-2379-4A99-83E2-5AC42D30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B22E2-7BCA-4F23-9A5C-3AE3612B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2B609-C25E-4D92-9F3C-B83E09F1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8235A-4706-46A7-8067-6AFB62FB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66BC2-8BFA-416F-B199-25177C23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02EC9-2E69-4679-AF01-FA0A6235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BE7CA-BA46-4C35-89BB-5B81C98C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28A54-5427-4C3E-909D-FDF95860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EA3-D560-45E0-837A-5B6E325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1727B-3F1F-4C7B-B83F-5378D5F2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1CA69-4EB1-4071-B963-DA4BA80D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03C98-7B76-4BC8-950A-75CA57CF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BCB5F-C99F-4EB6-B9EE-9E6AC978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62DCB-7C15-4C4E-9139-A3B15633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ED0EB-D51C-4132-8BC2-FB1E0DEE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A3E14-6C17-4EAE-BEAA-6B85DF4A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BCA48-1D0D-4EFD-9961-345C1147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86844-E8AC-44F3-A5D8-706F8D6D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27CE9-C1FC-4094-9CF5-47706A98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FA6-709A-4970-AA7B-1A53056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9DAE9-AE91-43C2-B8D5-4A22259C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3320F-FCAE-403A-BC3D-9BD77AE7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2B75D-4A0D-4580-B0AB-D145FA24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E37B2-50BB-4710-AE6B-93A30955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EEC61-022F-4A7D-A55D-BE703B10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55923-2367-4331-9385-7CAE2F84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508AC-CE77-4B53-8CBB-9FDC156C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DD493-0659-4980-A956-58300356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E11BE-B538-4A9A-BBF1-66192E77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CC974-101D-4378-AA4B-BB036C53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7C2-3252-4297-A6F1-BA475BCD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3658F-8B7D-4434-B784-D3B43317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FB02E-9F86-4DE0-BB39-EC9F4A58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F962D-A79B-4965-8018-D58372DE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24CD7-3FA8-4FBD-9605-902A1FEE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CEF03-98C4-4E55-AF27-212DDD7C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876B0-02BB-4F7E-8D52-1DEE7202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A5160-98A0-425C-9FF2-AE13E71C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B7C80-0CD7-4220-B062-C08F2D5A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8AD8E-B5CF-4073-85B2-293C8677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4B5DD-964C-4F04-9E01-3DC15A42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2492-2B81-409A-9F7E-EED2D39EA74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3527-A439-41A7-91AC-0C8AD7A7282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DB92-7BAD-4E46-92C1-624BF4360D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0463-9741-4364-9309-5862CCB6AE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1BC3-9872-495A-B841-F05FB741694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88B5-EBC4-4A51-AC27-0CF3712111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D8E6-B3EA-4CFC-B200-095A0458739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23FB-46EC-43A3-A626-9570E11993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F872-11CD-47B0-A335-9175C4AF79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1D4D-A262-46D2-8C39-103805FB21F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7320-5D99-4908-827D-65896D4E961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F6F1-1ADF-4E3C-92BC-DFBCFE44684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Musicbox%20dancer.wav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4 Imagen" descr="Image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93" name="WordArt 5" descr=""/>
          <p:cNvPicPr/>
          <p:nvPr/>
        </p:nvPicPr>
        <p:blipFill>
          <a:blip r:embed="rId2"/>
          <a:stretch/>
        </p:blipFill>
        <p:spPr>
          <a:xfrm>
            <a:off x="1914480" y="658800"/>
            <a:ext cx="6327720" cy="227952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6"/>
          <p:cNvSpPr/>
          <p:nvPr/>
        </p:nvSpPr>
        <p:spPr>
          <a:xfrm>
            <a:off x="7429320" y="4289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v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Altavoz+ratón"/>
          <p:cNvPicPr/>
          <p:nvPr/>
        </p:nvPicPr>
        <p:blipFill>
          <a:blip r:embed="rId3"/>
          <a:stretch/>
        </p:blipFill>
        <p:spPr>
          <a:xfrm>
            <a:off x="2000160" y="4218120"/>
            <a:ext cx="1285920" cy="61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  <p:sndAc>
      <p:stSnd>
        <p:snd r:embed="rId4" name="Musicbox%20danc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1 Imagen" descr="Imagen91.jpg"/>
          <p:cNvPicPr/>
          <p:nvPr/>
        </p:nvPicPr>
        <p:blipFill>
          <a:blip r:embed="rId1"/>
          <a:stretch/>
        </p:blipFill>
        <p:spPr>
          <a:xfrm>
            <a:off x="0" y="27000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Imagen" descr="Imagen2.jpg"/>
          <p:cNvPicPr/>
          <p:nvPr/>
        </p:nvPicPr>
        <p:blipFill>
          <a:blip r:embed="rId1"/>
          <a:stretch/>
        </p:blipFill>
        <p:spPr>
          <a:xfrm>
            <a:off x="1357200" y="0"/>
            <a:ext cx="63579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1 Imagen" descr="Imagen4.jpg"/>
          <p:cNvPicPr/>
          <p:nvPr/>
        </p:nvPicPr>
        <p:blipFill>
          <a:blip r:embed="rId1"/>
          <a:stretch/>
        </p:blipFill>
        <p:spPr>
          <a:xfrm>
            <a:off x="1571760" y="0"/>
            <a:ext cx="592920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1 Imagen" descr="1001305_10151439582722133_2146343055_n.jpg"/>
          <p:cNvPicPr/>
          <p:nvPr/>
        </p:nvPicPr>
        <p:blipFill>
          <a:blip r:embed="rId1"/>
          <a:stretch/>
        </p:blipFill>
        <p:spPr>
          <a:xfrm>
            <a:off x="1571760" y="0"/>
            <a:ext cx="592920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1 Imagen" descr="1176298_10151530181557133_214605963_n.jpg"/>
          <p:cNvPicPr/>
          <p:nvPr/>
        </p:nvPicPr>
        <p:blipFill>
          <a:blip r:embed="rId1"/>
          <a:stretch/>
        </p:blipFill>
        <p:spPr>
          <a:xfrm>
            <a:off x="1714680" y="0"/>
            <a:ext cx="56433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1 Imagen" descr="484862_10151297583952133_679425790_n.jpg"/>
          <p:cNvPicPr/>
          <p:nvPr/>
        </p:nvPicPr>
        <p:blipFill>
          <a:blip r:embed="rId1"/>
          <a:stretch/>
        </p:blipFill>
        <p:spPr>
          <a:xfrm>
            <a:off x="1143000" y="144360"/>
            <a:ext cx="678672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untitled"/>
          <p:cNvPicPr/>
          <p:nvPr/>
        </p:nvPicPr>
        <p:blipFill>
          <a:blip r:embed="rId1"/>
          <a:stretch/>
        </p:blipFill>
        <p:spPr>
          <a:xfrm>
            <a:off x="1500120" y="0"/>
            <a:ext cx="607212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untitled"/>
          <p:cNvPicPr/>
          <p:nvPr/>
        </p:nvPicPr>
        <p:blipFill>
          <a:blip r:embed="rId1"/>
          <a:stretch/>
        </p:blipFill>
        <p:spPr>
          <a:xfrm>
            <a:off x="1500120" y="58680"/>
            <a:ext cx="61437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1 Imagen" descr="Imagen6.jpg"/>
          <p:cNvPicPr/>
          <p:nvPr/>
        </p:nvPicPr>
        <p:blipFill>
          <a:blip r:embed="rId1"/>
          <a:stretch/>
        </p:blipFill>
        <p:spPr>
          <a:xfrm>
            <a:off x="1082520" y="0"/>
            <a:ext cx="69789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untitled"/>
          <p:cNvPicPr/>
          <p:nvPr/>
        </p:nvPicPr>
        <p:blipFill>
          <a:blip r:embed="rId1"/>
          <a:stretch/>
        </p:blipFill>
        <p:spPr>
          <a:xfrm>
            <a:off x="1428840" y="31680"/>
            <a:ext cx="607212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ci"/>
          <p:cNvPicPr/>
          <p:nvPr/>
        </p:nvPicPr>
        <p:blipFill>
          <a:blip r:embed="rId1"/>
          <a:stretch/>
        </p:blipFill>
        <p:spPr>
          <a:xfrm>
            <a:off x="755640" y="46080"/>
            <a:ext cx="7632720" cy="505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2 Imagen" descr="555607_10150971686332133_2073404994_n.jpg"/>
          <p:cNvPicPr/>
          <p:nvPr/>
        </p:nvPicPr>
        <p:blipFill>
          <a:blip r:embed="rId1"/>
          <a:stretch/>
        </p:blipFill>
        <p:spPr>
          <a:xfrm>
            <a:off x="1101600" y="0"/>
            <a:ext cx="694080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untitled"/>
          <p:cNvPicPr/>
          <p:nvPr/>
        </p:nvPicPr>
        <p:blipFill>
          <a:blip r:embed="rId1"/>
          <a:stretch/>
        </p:blipFill>
        <p:spPr>
          <a:xfrm>
            <a:off x="1428840" y="0"/>
            <a:ext cx="621504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1 Imagen" descr="Imagen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432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1 Imagen" descr="944795_10151362306012133_9439810_n.jpg"/>
          <p:cNvPicPr/>
          <p:nvPr/>
        </p:nvPicPr>
        <p:blipFill>
          <a:blip r:embed="rId1"/>
          <a:stretch/>
        </p:blipFill>
        <p:spPr>
          <a:xfrm>
            <a:off x="1996920" y="0"/>
            <a:ext cx="51483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1 Imagen" descr="483614_10151334969807133_18856392_n.jpg"/>
          <p:cNvPicPr/>
          <p:nvPr/>
        </p:nvPicPr>
        <p:blipFill>
          <a:blip r:embed="rId1"/>
          <a:stretch/>
        </p:blipFill>
        <p:spPr>
          <a:xfrm>
            <a:off x="642960" y="0"/>
            <a:ext cx="774684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1 Imagen" descr="Imagen7.jpg"/>
          <p:cNvPicPr/>
          <p:nvPr/>
        </p:nvPicPr>
        <p:blipFill>
          <a:blip r:embed="rId1"/>
          <a:stretch/>
        </p:blipFill>
        <p:spPr>
          <a:xfrm>
            <a:off x="928800" y="0"/>
            <a:ext cx="714348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becedario moderno"/>
          <p:cNvPicPr/>
          <p:nvPr/>
        </p:nvPicPr>
        <p:blipFill>
          <a:blip r:embed="rId1"/>
          <a:stretch/>
        </p:blipFill>
        <p:spPr>
          <a:xfrm>
            <a:off x="0" y="20520"/>
            <a:ext cx="9144000" cy="5127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1 Imagen" descr="Imagen92.jpg"/>
          <p:cNvPicPr/>
          <p:nvPr/>
        </p:nvPicPr>
        <p:blipFill>
          <a:blip r:embed="rId1"/>
          <a:stretch/>
        </p:blipFill>
        <p:spPr>
          <a:xfrm>
            <a:off x="1500120" y="0"/>
            <a:ext cx="607212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1 Imagen" descr="Imagen1.jpg"/>
          <p:cNvPicPr/>
          <p:nvPr/>
        </p:nvPicPr>
        <p:blipFill>
          <a:blip r:embed="rId1"/>
          <a:stretch/>
        </p:blipFill>
        <p:spPr>
          <a:xfrm>
            <a:off x="142920" y="144360"/>
            <a:ext cx="885816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4" descr="Imagen2"/>
          <p:cNvPicPr/>
          <p:nvPr/>
        </p:nvPicPr>
        <p:blipFill>
          <a:blip r:embed="rId1"/>
          <a:stretch/>
        </p:blipFill>
        <p:spPr>
          <a:xfrm>
            <a:off x="108000" y="270000"/>
            <a:ext cx="8928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1 Imagen" descr="Imagen7.jpg"/>
          <p:cNvPicPr/>
          <p:nvPr/>
        </p:nvPicPr>
        <p:blipFill>
          <a:blip r:embed="rId1"/>
          <a:stretch/>
        </p:blipFill>
        <p:spPr>
          <a:xfrm>
            <a:off x="1285920" y="0"/>
            <a:ext cx="65721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2 CuadroTexto"/>
          <p:cNvSpPr/>
          <p:nvPr/>
        </p:nvSpPr>
        <p:spPr>
          <a:xfrm>
            <a:off x="697680" y="414360"/>
            <a:ext cx="4702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ólo el que sabe es lib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y más libre el que más sab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ólo la cultura da liberta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No proclaméis la libertad de vo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ino dad al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no la de pens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ino dad pens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libertad que hay que dar al pueb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s l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Miguel de Unam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3 Imagen" descr="93901bnb.png"/>
          <p:cNvPicPr/>
          <p:nvPr/>
        </p:nvPicPr>
        <p:blipFill>
          <a:blip r:embed="rId1"/>
          <a:stretch/>
        </p:blipFill>
        <p:spPr>
          <a:xfrm>
            <a:off x="5508720" y="347760"/>
            <a:ext cx="3051000" cy="4449600"/>
          </a:xfrm>
          <a:prstGeom prst="rect">
            <a:avLst/>
          </a:prstGeom>
          <a:ln w="0">
            <a:noFill/>
          </a:ln>
        </p:spPr>
      </p:pic>
      <p:sp>
        <p:nvSpPr>
          <p:cNvPr id="527" name="4 Rectángulo"/>
          <p:cNvSpPr/>
          <p:nvPr/>
        </p:nvSpPr>
        <p:spPr>
          <a:xfrm>
            <a:off x="503280" y="324000"/>
            <a:ext cx="8066160" cy="4464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cultura"/>
          <p:cNvPicPr/>
          <p:nvPr/>
        </p:nvPicPr>
        <p:blipFill>
          <a:blip r:embed="rId1"/>
          <a:stretch/>
        </p:blipFill>
        <p:spPr>
          <a:xfrm>
            <a:off x="684360" y="125280"/>
            <a:ext cx="7848360" cy="502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1 Imagen" descr="Imagen1.jpg"/>
          <p:cNvPicPr/>
          <p:nvPr/>
        </p:nvPicPr>
        <p:blipFill>
          <a:blip r:embed="rId1"/>
          <a:stretch/>
        </p:blipFill>
        <p:spPr>
          <a:xfrm>
            <a:off x="1714680" y="0"/>
            <a:ext cx="578628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1 Imagen" descr="Imagen3.jpg"/>
          <p:cNvPicPr/>
          <p:nvPr/>
        </p:nvPicPr>
        <p:blipFill>
          <a:blip r:embed="rId1"/>
          <a:stretch/>
        </p:blipFill>
        <p:spPr>
          <a:xfrm>
            <a:off x="1547640" y="0"/>
            <a:ext cx="590400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Imagen3"/>
          <p:cNvPicPr/>
          <p:nvPr/>
        </p:nvPicPr>
        <p:blipFill>
          <a:blip r:embed="rId1"/>
          <a:stretch/>
        </p:blipFill>
        <p:spPr>
          <a:xfrm>
            <a:off x="1168560" y="-212760"/>
            <a:ext cx="6748200" cy="5361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1 Imagen" descr="521857_10151346164882133_1587282772_n.jpg"/>
          <p:cNvPicPr/>
          <p:nvPr/>
        </p:nvPicPr>
        <p:blipFill>
          <a:blip r:embed="rId1"/>
          <a:stretch/>
        </p:blipFill>
        <p:spPr>
          <a:xfrm>
            <a:off x="2286000" y="0"/>
            <a:ext cx="450072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1 Imagen" descr="Imagen9.jpg"/>
          <p:cNvPicPr/>
          <p:nvPr/>
        </p:nvPicPr>
        <p:blipFill>
          <a:blip r:embed="rId1"/>
          <a:stretch/>
        </p:blipFill>
        <p:spPr>
          <a:xfrm>
            <a:off x="928800" y="0"/>
            <a:ext cx="7248240" cy="4503600"/>
          </a:xfrm>
          <a:prstGeom prst="rect">
            <a:avLst/>
          </a:prstGeom>
          <a:ln w="0">
            <a:noFill/>
          </a:ln>
        </p:spPr>
      </p:pic>
      <p:sp>
        <p:nvSpPr>
          <p:cNvPr id="504" name="2 CuadroTexto"/>
          <p:cNvSpPr/>
          <p:nvPr/>
        </p:nvSpPr>
        <p:spPr>
          <a:xfrm>
            <a:off x="3071880" y="45752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kashi"/>
              </a:rPr>
              <a:t>LEER  ES  SEXY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20:23:44Z</dcterms:created>
  <dc:creator>*</dc:creator>
  <dc:description/>
  <dc:language>en-US</dc:language>
  <cp:lastModifiedBy>Usuario</cp:lastModifiedBy>
  <dcterms:modified xsi:type="dcterms:W3CDTF">2014-04-30T22:18:36Z</dcterms:modified>
  <cp:revision>25</cp:revision>
  <dc:subject/>
  <dc:title>Diapositiva 1</dc:title>
</cp:coreProperties>
</file>