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Musicbox%20dancer.wav" ContentType="audio/x-wav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7AB-7A5B-462D-9075-EB6D2F15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730-3033-4827-A92A-C9A1A771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38845-3E8F-4131-903A-00740F31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EBF38-71F6-4A92-8D6B-860D2CF6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B4A18-98E8-4CB8-91E6-A6E5E60F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5F580-A046-4C2C-9A07-FD80CAD7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C2647-7F7A-4731-8519-5F51D0E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E8038-28AE-45DC-912F-0E607150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1DA66-A67F-4EF7-9E11-F947B6EA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16DF6-7980-45EA-AE6B-911A2610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6E5C1-28DB-4469-9474-06BBC892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4A533-5EB9-458F-B336-9104C239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DF2-7F57-4FB4-9438-6E6CC649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292CA-320F-437F-B8AE-3E02747C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5B00B-04E7-4ACE-B10D-31A69F54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DA767-47C3-47E1-AFBB-4F935D5C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780BC-2FA4-4BCA-8FAE-9A1DD69C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1E2F2-E906-4BE5-A273-3974A979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4B8A7-D466-41F0-B884-D357D119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DB15C-88C6-479B-9444-D7AACEFF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F3838-7A89-4E12-8DBF-274959A8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A69AA-BDE0-4630-B583-C6190C47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2A190-2E4A-4E1B-B804-3982E57F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45B-7CA6-4D1C-960B-0918255E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C8041-0D6A-48C3-B289-99F5677F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9605E-F71A-407F-8E43-C25E4430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2CD41-A972-4604-8ECD-9795C683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74B94-1D2E-4BDF-83AA-B78EA2EE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65E9D-B0D8-487E-A493-09FB3354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1D19A-4A8A-4B99-AE55-453C2622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415ED-59FC-4735-B0FC-CA276641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96434-A93C-4070-9435-4328521F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18DB2-5097-40AE-80C8-52A044C2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9A654-AEA0-464C-83F5-A37CB6CD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8ECF-A69F-4E63-A445-BCB1234E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E7BB3-8799-469C-A09A-7EA24273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B039D-A8E7-4679-BAB5-9F5577D7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C915D-E86A-4B8A-AA87-E4B680E7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963C1-D9FF-466C-A392-E3D4B2E9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2CB58-2C2C-4DB6-9473-035C6839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D63EB-F59A-43EC-8E57-AC6DF906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6C105-C7FE-4DE6-8357-07FCAC64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33425-5BDF-409E-997D-7F36611C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0D7E0-F067-41B0-8932-98DAF375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9351A-041D-43B4-AE60-8A285D41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4E54-A3C2-4A3C-BA92-7F75EA5C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30C95-EABB-444D-B911-10D9266A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2E9C5-FF31-4FB2-82D4-B3F17189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DA539-0E93-4D47-92B7-77F963A1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46CEC-1BD5-4583-A111-0E9A5F85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3ADD2-AB24-4F78-9015-D7D24C37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C5B7-7DBE-41E9-A5A7-D1621621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F2BA-0FE8-4805-AEE4-96E97364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A991-2062-4984-95ED-464A2857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954D-543F-41EC-B5C5-F5044899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6731-D9AC-4AD5-BF2C-8495201E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59A-0181-41F0-9C10-CE9F35A3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7F90-6ED5-43C7-ABED-1BB91F8A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5A26-C4A4-487F-8893-8B838994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EB91-8870-415C-BB0A-49133B34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9EB6-FC5C-4311-BB24-3B6CE22B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74A4-8B4C-43FD-9F9F-C8B71E2D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B12D0-35CA-47C4-9298-4414CCD6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2EB0E-D039-4119-86A1-845E94C1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A171-41A9-409B-8310-78F9CCEC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052C-7AE2-44D6-98F9-DD789456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EE167-9004-4FDD-89D0-63F847BF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F60-6F68-4401-A70F-93091791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ABFAC-D088-455F-A133-8FE22C4F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EF07C-91DA-473D-862E-85F9F4CC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CD7FE-F57A-43EA-AB7D-7884127C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E0D05-3A56-4C3C-991C-A63BF1F9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A0628-5FC6-4807-9394-D1D21A63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88324-1ED0-4888-B1AA-4CDBB6B3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EF21-7710-40B1-993B-0A685606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F6CB9-6FBF-47B2-898D-297F04CE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E374A-ECA4-4065-982B-757D17AD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BE4B7-520F-4025-980D-995DD5A0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1F6-1AC0-415B-9F24-441252F7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608E1-1EFC-4BFE-AD1E-5A0D80A1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8BD44-EC37-418C-8648-E9F305D8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9150F-F595-4C6A-998D-3C332111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6E8B5-9C85-4717-9C6F-3B2EAFD5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AE4D6-1DFF-4443-9AA1-1B102BB4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29D43-A5B7-4187-9C54-EA95159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DBA84-1206-48FA-A46D-FBC8D8EB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CE23B-695C-4F0B-9E22-CE2F878D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7DCF1-951A-4608-9F14-81B21A2A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83C78-681B-4C2E-A903-2C800F2E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A81-B4A0-4381-88EA-6B153E48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4C0C3-31C9-44ED-B41F-DF25C240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2FE7E-68CE-4711-AD54-E244E0A5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5E0AB-57EA-4A2B-B25C-5538D86F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112D0-FF3D-4293-8457-2EEEA9E1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183F0-A763-46B1-BDBA-6DD47B51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DDEB4-EA58-439E-943E-6F0FA81E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B17E2-5C5D-460F-A722-A4A2817A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6A562-0880-41F8-8D2D-08D1A2DB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ABA62-708F-45DE-88F0-B7686E82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7ED51-88B4-4500-8045-84E9C002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6F9-0891-459B-AC41-3469BEA1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18069-20F0-4C20-94B7-BDB6ECF8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D4815-768A-442C-A84F-0C43FB40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A41A2-9601-43B7-B3B4-4DFECA60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B7BEB-FC91-4A1D-8FE6-DF94274B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740F9-8E99-4E2D-A265-012D9A7F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461AA-76D6-495F-95D4-6E2D7561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B65C4-FE7B-4814-8388-0F8BEE64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C0FDC-3DC1-4E9E-A2F8-DB04F86C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50446-ECA9-4D7B-B3FD-7C563370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65767-FB01-49AE-A384-99F4A739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340-FDBC-4708-8D8B-CE1F0737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27C1C-37F4-47B5-8B87-6BB7DB74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153CB-3493-4B2E-AEF4-969E777E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6B900-57C2-435D-864F-D9F5558A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D7E72-EC3A-4C2F-8C17-D7837B52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E0A27-29D8-4291-B0FF-D5C9FC08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D2C8E-19BB-4159-B38E-E8A2BF2B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BBBF4-F62A-40F5-8A0C-9632B53F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655C6-D326-4AA8-94B1-75FB5E3B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9998F-2BF4-45BC-AC3D-092BA93E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F6FDB-982A-438B-95B7-D88D1D77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737-830B-4977-962A-F4228E2B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4E060-1D7C-4CA8-BEDD-AA36D44E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FBC5C-A269-4B96-B116-3F56FD2C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FC2EC-06B9-4759-B9DD-B96590FA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C3AAB-E9BF-45AF-A2F4-15C9A026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3BADC-8E58-4144-9B72-8AE38C8B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82198-7571-409B-873B-5BB26E67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9CEAB-C356-4388-97AD-DC0E10B7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2D052-2A5F-4AF0-9381-1285065B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3F5D7-50E9-4F79-9267-031557EB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38EDE-9998-4B3B-9A93-2942C97A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431-D97E-4A6A-BF83-6DC5E93F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63EDE-93E7-4CAF-B3DA-C5A589B7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A8C8D-7D1F-4562-A436-62F8B250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66811-F08C-4A76-B290-836C7C5A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ADAC7-2711-45D4-97F5-7C0028DF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89AF8-C6E7-42B7-BEE0-0DB878D7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FE79E-24A3-4A45-A835-C27FA8EF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35944-3BF3-4467-B53A-0505F907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43EFC-21BF-4A58-AF31-501611CD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5AE29-12C7-48F5-AECF-51D3BE77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89FD3-442C-453F-9B73-938D5234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D606-4CB3-4548-A504-DF345D27542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ACDE-C7FD-4673-8A78-57CAC98B6DC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0652-5615-4FEE-AE21-2BB03DC1222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5B65-37C4-476C-8102-7ACD3F010DB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02CF-807B-4F5A-A6A5-E6C3D7BDB23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4D9C-9366-4036-8604-278A7BAF1D9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C602-C50C-4E7B-8909-26192CCEEAA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5CBE-6783-4792-B1FC-E68CBABA0B8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6A05-91EB-4035-86CD-EFA67D6CD29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D0E7-F8B7-4CE7-8568-9AD330E7D44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FCD7-3655-4D72-9F86-498E1ABC65C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CAA8-5E79-47F8-AE6C-E7787780FEC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Musicbox%20dancer.wav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4 Imagen" descr="Imagen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93" name="WordArt 5" descr=""/>
          <p:cNvPicPr/>
          <p:nvPr/>
        </p:nvPicPr>
        <p:blipFill>
          <a:blip r:embed="rId2"/>
          <a:stretch/>
        </p:blipFill>
        <p:spPr>
          <a:xfrm>
            <a:off x="1914480" y="658800"/>
            <a:ext cx="6327720" cy="227952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6"/>
          <p:cNvSpPr/>
          <p:nvPr/>
        </p:nvSpPr>
        <p:spPr>
          <a:xfrm>
            <a:off x="7429320" y="42894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v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7" descr="Altavoz+ratón"/>
          <p:cNvPicPr/>
          <p:nvPr/>
        </p:nvPicPr>
        <p:blipFill>
          <a:blip r:embed="rId3"/>
          <a:stretch/>
        </p:blipFill>
        <p:spPr>
          <a:xfrm>
            <a:off x="2000160" y="4218120"/>
            <a:ext cx="1285920" cy="618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  <p:sndAc>
      <p:stSnd>
        <p:snd r:embed="rId4" name="Musicbox%20danc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1 Imagen" descr="Imagen91.jpg"/>
          <p:cNvPicPr/>
          <p:nvPr/>
        </p:nvPicPr>
        <p:blipFill>
          <a:blip r:embed="rId1"/>
          <a:stretch/>
        </p:blipFill>
        <p:spPr>
          <a:xfrm>
            <a:off x="0" y="270000"/>
            <a:ext cx="91440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1 Imagen" descr="Imagen2.jpg"/>
          <p:cNvPicPr/>
          <p:nvPr/>
        </p:nvPicPr>
        <p:blipFill>
          <a:blip r:embed="rId1"/>
          <a:stretch/>
        </p:blipFill>
        <p:spPr>
          <a:xfrm>
            <a:off x="1357200" y="0"/>
            <a:ext cx="635796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1 Imagen" descr="Imagen4.jpg"/>
          <p:cNvPicPr/>
          <p:nvPr/>
        </p:nvPicPr>
        <p:blipFill>
          <a:blip r:embed="rId1"/>
          <a:stretch/>
        </p:blipFill>
        <p:spPr>
          <a:xfrm>
            <a:off x="1571760" y="0"/>
            <a:ext cx="592920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1 Imagen" descr="1001305_10151439582722133_2146343055_n.jpg"/>
          <p:cNvPicPr/>
          <p:nvPr/>
        </p:nvPicPr>
        <p:blipFill>
          <a:blip r:embed="rId1"/>
          <a:stretch/>
        </p:blipFill>
        <p:spPr>
          <a:xfrm>
            <a:off x="1571760" y="0"/>
            <a:ext cx="5929200" cy="554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1 Imagen" descr="1176298_10151530181557133_214605963_n.jpg"/>
          <p:cNvPicPr/>
          <p:nvPr/>
        </p:nvPicPr>
        <p:blipFill>
          <a:blip r:embed="rId1"/>
          <a:stretch/>
        </p:blipFill>
        <p:spPr>
          <a:xfrm>
            <a:off x="1714680" y="0"/>
            <a:ext cx="564336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1 Imagen" descr="484862_10151297583952133_679425790_n.jpg"/>
          <p:cNvPicPr/>
          <p:nvPr/>
        </p:nvPicPr>
        <p:blipFill>
          <a:blip r:embed="rId1"/>
          <a:stretch/>
        </p:blipFill>
        <p:spPr>
          <a:xfrm>
            <a:off x="1143000" y="144360"/>
            <a:ext cx="6786720" cy="485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untitled"/>
          <p:cNvPicPr/>
          <p:nvPr/>
        </p:nvPicPr>
        <p:blipFill>
          <a:blip r:embed="rId1"/>
          <a:stretch/>
        </p:blipFill>
        <p:spPr>
          <a:xfrm>
            <a:off x="1500120" y="0"/>
            <a:ext cx="607212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untitled"/>
          <p:cNvPicPr/>
          <p:nvPr/>
        </p:nvPicPr>
        <p:blipFill>
          <a:blip r:embed="rId1"/>
          <a:stretch/>
        </p:blipFill>
        <p:spPr>
          <a:xfrm>
            <a:off x="1500120" y="58680"/>
            <a:ext cx="614376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1 Imagen" descr="Imagen6.jpg"/>
          <p:cNvPicPr/>
          <p:nvPr/>
        </p:nvPicPr>
        <p:blipFill>
          <a:blip r:embed="rId1"/>
          <a:stretch/>
        </p:blipFill>
        <p:spPr>
          <a:xfrm>
            <a:off x="1082520" y="0"/>
            <a:ext cx="697896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untitled"/>
          <p:cNvPicPr/>
          <p:nvPr/>
        </p:nvPicPr>
        <p:blipFill>
          <a:blip r:embed="rId1"/>
          <a:stretch/>
        </p:blipFill>
        <p:spPr>
          <a:xfrm>
            <a:off x="1428840" y="31680"/>
            <a:ext cx="607212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ci"/>
          <p:cNvPicPr/>
          <p:nvPr/>
        </p:nvPicPr>
        <p:blipFill>
          <a:blip r:embed="rId1"/>
          <a:stretch/>
        </p:blipFill>
        <p:spPr>
          <a:xfrm>
            <a:off x="755640" y="46080"/>
            <a:ext cx="7632720" cy="505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2 Imagen" descr="555607_10150971686332133_2073404994_n.jpg"/>
          <p:cNvPicPr/>
          <p:nvPr/>
        </p:nvPicPr>
        <p:blipFill>
          <a:blip r:embed="rId1"/>
          <a:stretch/>
        </p:blipFill>
        <p:spPr>
          <a:xfrm>
            <a:off x="1101600" y="0"/>
            <a:ext cx="694080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untitled"/>
          <p:cNvPicPr/>
          <p:nvPr/>
        </p:nvPicPr>
        <p:blipFill>
          <a:blip r:embed="rId1"/>
          <a:stretch/>
        </p:blipFill>
        <p:spPr>
          <a:xfrm>
            <a:off x="1428840" y="0"/>
            <a:ext cx="621504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1 Imagen" descr="Imagen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432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1 Imagen" descr="944795_10151362306012133_9439810_n.jpg"/>
          <p:cNvPicPr/>
          <p:nvPr/>
        </p:nvPicPr>
        <p:blipFill>
          <a:blip r:embed="rId1"/>
          <a:stretch/>
        </p:blipFill>
        <p:spPr>
          <a:xfrm>
            <a:off x="1996920" y="0"/>
            <a:ext cx="514836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1 Imagen" descr="483614_10151334969807133_18856392_n.jpg"/>
          <p:cNvPicPr/>
          <p:nvPr/>
        </p:nvPicPr>
        <p:blipFill>
          <a:blip r:embed="rId1"/>
          <a:stretch/>
        </p:blipFill>
        <p:spPr>
          <a:xfrm>
            <a:off x="642960" y="0"/>
            <a:ext cx="774684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1 Imagen" descr="Imagen7.jpg"/>
          <p:cNvPicPr/>
          <p:nvPr/>
        </p:nvPicPr>
        <p:blipFill>
          <a:blip r:embed="rId1"/>
          <a:stretch/>
        </p:blipFill>
        <p:spPr>
          <a:xfrm>
            <a:off x="928800" y="0"/>
            <a:ext cx="714348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abecedario moderno"/>
          <p:cNvPicPr/>
          <p:nvPr/>
        </p:nvPicPr>
        <p:blipFill>
          <a:blip r:embed="rId1"/>
          <a:stretch/>
        </p:blipFill>
        <p:spPr>
          <a:xfrm>
            <a:off x="0" y="20520"/>
            <a:ext cx="9144000" cy="5127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1 Imagen" descr="Imagen92.jpg"/>
          <p:cNvPicPr/>
          <p:nvPr/>
        </p:nvPicPr>
        <p:blipFill>
          <a:blip r:embed="rId1"/>
          <a:stretch/>
        </p:blipFill>
        <p:spPr>
          <a:xfrm>
            <a:off x="1500120" y="0"/>
            <a:ext cx="607212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1 Imagen" descr="Imagen1.jpg"/>
          <p:cNvPicPr/>
          <p:nvPr/>
        </p:nvPicPr>
        <p:blipFill>
          <a:blip r:embed="rId1"/>
          <a:stretch/>
        </p:blipFill>
        <p:spPr>
          <a:xfrm>
            <a:off x="142920" y="144360"/>
            <a:ext cx="8858160" cy="485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4" descr="Imagen2"/>
          <p:cNvPicPr/>
          <p:nvPr/>
        </p:nvPicPr>
        <p:blipFill>
          <a:blip r:embed="rId1"/>
          <a:stretch/>
        </p:blipFill>
        <p:spPr>
          <a:xfrm>
            <a:off x="108000" y="270000"/>
            <a:ext cx="8928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1 Imagen" descr="Imagen7.jpg"/>
          <p:cNvPicPr/>
          <p:nvPr/>
        </p:nvPicPr>
        <p:blipFill>
          <a:blip r:embed="rId1"/>
          <a:stretch/>
        </p:blipFill>
        <p:spPr>
          <a:xfrm>
            <a:off x="1285920" y="0"/>
            <a:ext cx="657216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2 CuadroTexto"/>
          <p:cNvSpPr/>
          <p:nvPr/>
        </p:nvSpPr>
        <p:spPr>
          <a:xfrm>
            <a:off x="697680" y="414360"/>
            <a:ext cx="4702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Sólo el que sabe es lib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y más libre el que más sab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Sólo la cultura da liberta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No proclaméis la libertad de vo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sino dad al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no la de pens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sino dad pens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libertad que hay que dar al pueb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es la 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Miguel de Unam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3 Imagen" descr="93901bnb.png"/>
          <p:cNvPicPr/>
          <p:nvPr/>
        </p:nvPicPr>
        <p:blipFill>
          <a:blip r:embed="rId1"/>
          <a:stretch/>
        </p:blipFill>
        <p:spPr>
          <a:xfrm>
            <a:off x="5508720" y="347760"/>
            <a:ext cx="3051000" cy="4449600"/>
          </a:xfrm>
          <a:prstGeom prst="rect">
            <a:avLst/>
          </a:prstGeom>
          <a:ln w="0">
            <a:noFill/>
          </a:ln>
        </p:spPr>
      </p:pic>
      <p:sp>
        <p:nvSpPr>
          <p:cNvPr id="527" name="4 Rectángulo"/>
          <p:cNvSpPr/>
          <p:nvPr/>
        </p:nvSpPr>
        <p:spPr>
          <a:xfrm>
            <a:off x="503280" y="324000"/>
            <a:ext cx="8066160" cy="4464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cultura"/>
          <p:cNvPicPr/>
          <p:nvPr/>
        </p:nvPicPr>
        <p:blipFill>
          <a:blip r:embed="rId1"/>
          <a:stretch/>
        </p:blipFill>
        <p:spPr>
          <a:xfrm>
            <a:off x="684360" y="125280"/>
            <a:ext cx="7848360" cy="5023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1 Imagen" descr="Imagen1.jpg"/>
          <p:cNvPicPr/>
          <p:nvPr/>
        </p:nvPicPr>
        <p:blipFill>
          <a:blip r:embed="rId1"/>
          <a:stretch/>
        </p:blipFill>
        <p:spPr>
          <a:xfrm>
            <a:off x="1714680" y="0"/>
            <a:ext cx="578628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1 Imagen" descr="Imagen3.jpg"/>
          <p:cNvPicPr/>
          <p:nvPr/>
        </p:nvPicPr>
        <p:blipFill>
          <a:blip r:embed="rId1"/>
          <a:stretch/>
        </p:blipFill>
        <p:spPr>
          <a:xfrm>
            <a:off x="1547640" y="0"/>
            <a:ext cx="590400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Imagen3"/>
          <p:cNvPicPr/>
          <p:nvPr/>
        </p:nvPicPr>
        <p:blipFill>
          <a:blip r:embed="rId1"/>
          <a:stretch/>
        </p:blipFill>
        <p:spPr>
          <a:xfrm>
            <a:off x="1168560" y="-212760"/>
            <a:ext cx="6748200" cy="5361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1 Imagen" descr="521857_10151346164882133_1587282772_n.jpg"/>
          <p:cNvPicPr/>
          <p:nvPr/>
        </p:nvPicPr>
        <p:blipFill>
          <a:blip r:embed="rId1"/>
          <a:stretch/>
        </p:blipFill>
        <p:spPr>
          <a:xfrm>
            <a:off x="2286000" y="0"/>
            <a:ext cx="450072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1 Imagen" descr="Imagen9.jpg"/>
          <p:cNvPicPr/>
          <p:nvPr/>
        </p:nvPicPr>
        <p:blipFill>
          <a:blip r:embed="rId1"/>
          <a:stretch/>
        </p:blipFill>
        <p:spPr>
          <a:xfrm>
            <a:off x="928800" y="0"/>
            <a:ext cx="7248240" cy="4503600"/>
          </a:xfrm>
          <a:prstGeom prst="rect">
            <a:avLst/>
          </a:prstGeom>
          <a:ln w="0">
            <a:noFill/>
          </a:ln>
        </p:spPr>
      </p:pic>
      <p:sp>
        <p:nvSpPr>
          <p:cNvPr id="504" name="2 CuadroTexto"/>
          <p:cNvSpPr/>
          <p:nvPr/>
        </p:nvSpPr>
        <p:spPr>
          <a:xfrm>
            <a:off x="3071880" y="45752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kashi"/>
              </a:rPr>
              <a:t>LEER  ES  SEXY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20:23:44Z</dcterms:created>
  <dc:creator>*</dc:creator>
  <dc:description/>
  <dc:language>en-US</dc:language>
  <cp:lastModifiedBy>Usuario</cp:lastModifiedBy>
  <dcterms:modified xsi:type="dcterms:W3CDTF">2014-04-30T22:18:36Z</dcterms:modified>
  <cp:revision>25</cp:revision>
  <dc:subject/>
  <dc:title>Diapositiva 1</dc:title>
</cp:coreProperties>
</file>