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png" ContentType="image/png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5.gif" ContentType="image/gif"/>
  <Override PartName="/ppt/media/image1.png" ContentType="image/png"/>
  <Override PartName="/ppt/media/image35.wmf" ContentType="image/x-wmf"/>
  <Override PartName="/ppt/media/image16.jpeg" ContentType="image/jpeg"/>
  <Override PartName="/ppt/media/image17.wmf" ContentType="image/x-wmf"/>
  <Override PartName="/ppt/media/image57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60.wmf" ContentType="image/x-wmf"/>
  <Override PartName="/ppt/media/Nueva%20ma%C3%B1ana.wav" ContentType="audio/x-wav"/>
  <Override PartName="/ppt/media/image63.wmf" ContentType="image/x-wmf"/>
  <Override PartName="/ppt/media/image26.wmf" ContentType="image/x-wmf"/>
  <Override PartName="/ppt/media/image72.jpeg" ContentType="image/jpeg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69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71.wmf" ContentType="image/x-wmf"/>
  <Override PartName="/ppt/media/image65.jpeg" ContentType="image/jpeg"/>
  <Override PartName="/ppt/media/image8.jpeg" ContentType="image/jpeg"/>
  <Override PartName="/ppt/media/image4.gif" ContentType="image/gif"/>
  <Override PartName="/ppt/media/image41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4.wmf" ContentType="image/x-wmf"/>
  <Override PartName="/ppt/media/image24.wmf" ContentType="image/x-wmf"/>
  <Override PartName="/ppt/media/image59.wmf" ContentType="image/x-wmf"/>
  <Override PartName="/ppt/media/image21.jpeg" ContentType="image/jpeg"/>
  <Override PartName="/ppt/media/image22.wmf" ContentType="image/x-wmf"/>
  <Override PartName="/ppt/media/image61.wmf" ContentType="image/x-wmf"/>
  <Override PartName="/ppt/media/image23.wmf" ContentType="image/x-wmf"/>
  <Override PartName="/ppt/media/image2.wmf" ContentType="image/x-wmf"/>
  <Override PartName="/ppt/media/image14.wmf" ContentType="image/x-wmf"/>
  <Override PartName="/ppt/media/image11.wmf" ContentType="image/x-wmf"/>
  <Override PartName="/ppt/media/image48.wmf" ContentType="image/x-wmf"/>
  <Override PartName="/ppt/media/image58.png" ContentType="image/png"/>
  <Override PartName="/ppt/media/image15.wmf" ContentType="image/x-wmf"/>
  <Override PartName="/ppt/media/image6.jpeg" ContentType="image/jpeg"/>
  <Override PartName="/ppt/media/image19.wmf" ContentType="image/x-wmf"/>
  <Override PartName="/ppt/media/image7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12.jpeg" ContentType="image/jpeg"/>
  <Override PartName="/ppt/media/image29.jpeg" ContentType="image/jpeg"/>
  <Override PartName="/ppt/media/image33.wmf" ContentType="image/x-wmf"/>
  <Override PartName="/ppt/media/image34.wmf" ContentType="image/x-wmf"/>
  <Override PartName="/ppt/media/image38.wmf" ContentType="image/x-wmf"/>
  <Override PartName="/ppt/media/image3.gif" ContentType="image/gif"/>
  <Override PartName="/ppt/media/image4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21A-057F-4259-89EE-0CFFFBA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6AF-F320-4EBC-BA7D-44FD87ED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470-F6B0-4E4D-8B0B-A6B75E3D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999-55D1-462C-BD58-8AC77CF7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506-AD1E-4F42-BAD1-F5D7E3E0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0BD-2165-42D8-908E-4FCFE65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98E-D44E-4CD2-B4C3-133BEEC5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BCF-DAD4-4987-9B0F-28EF3AB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382-2B40-4480-A3ED-9A2A197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272-37FD-4AC9-8B18-4E2AA61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231-42FC-4528-A3CC-B3F13AB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0D1-0E93-49C9-AD56-D43776A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45D7-BBAA-49FC-A6B1-932DD376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audio" Target="../media/Nueva%20ma&#241;ana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UNTOS VERD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e_ve_14"/>
          <p:cNvPicPr/>
          <p:nvPr/>
        </p:nvPicPr>
        <p:blipFill>
          <a:blip r:embed="rId3"/>
          <a:stretch/>
        </p:blipFill>
        <p:spPr>
          <a:xfrm>
            <a:off x="7093080" y="3429000"/>
            <a:ext cx="1800000" cy="3166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/>
          <p:cNvSpPr/>
          <p:nvPr/>
        </p:nvSpPr>
        <p:spPr>
          <a:xfrm>
            <a:off x="1116000" y="907920"/>
            <a:ext cx="5616720" cy="324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63640" y="1700280"/>
            <a:ext cx="439272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NALIZAND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I VIDA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1143000" y="5429160"/>
            <a:ext cx="43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C:\Documents and Settings\Francisco\Escritorio\barramusica.gif"/>
          <p:cNvPicPr/>
          <p:nvPr/>
        </p:nvPicPr>
        <p:blipFill>
          <a:blip r:embed="rId9"/>
          <a:stretch/>
        </p:blipFill>
        <p:spPr>
          <a:xfrm>
            <a:off x="1214280" y="6143760"/>
            <a:ext cx="571500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1662120" cy="4321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3276720" y="256536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Después de este análisis me ha venido una idea a la cabeza para llevarla a la práctica en mi vid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3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4"/>
          <p:cNvGraphicFramePr/>
          <p:nvPr/>
        </p:nvGraphicFramePr>
        <p:xfrm>
          <a:off x="250920" y="2349360"/>
          <a:ext cx="150156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349360"/>
                    <a:ext cx="1501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Object 5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133360" cy="123516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6" descr=""/>
          <p:cNvPicPr/>
          <p:nvPr/>
        </p:nvPicPr>
        <p:blipFill>
          <a:blip r:embed="rId7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7" descr=""/>
          <p:cNvPicPr/>
          <p:nvPr/>
        </p:nvPicPr>
        <p:blipFill>
          <a:blip r:embed="rId8"/>
          <a:stretch/>
        </p:blipFill>
        <p:spPr>
          <a:xfrm>
            <a:off x="4140360" y="4653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121840" y="351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Voy a tomar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las cosas más 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rom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386400" y="42696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Voy a intent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brir mi coraz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l am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477080" y="2570040"/>
            <a:ext cx="26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Escucharé má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 la gente de m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lreded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168960" y="2492280"/>
            <a:ext cx="297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provecharé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alquier mom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ra tomar algo con quienes considero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649880" y="5157720"/>
            <a:ext cx="22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or supuesto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viajaré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6264360" y="5013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No sé si en el karaoke, pero cantaré má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8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4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2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88840" cy="9604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4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633320" cy="175392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" descr=""/>
          <p:cNvPicPr/>
          <p:nvPr/>
        </p:nvPicPr>
        <p:blipFill>
          <a:blip r:embed="rId5"/>
          <a:stretch/>
        </p:blipFill>
        <p:spPr>
          <a:xfrm>
            <a:off x="4716360" y="2565360"/>
            <a:ext cx="1752840" cy="13464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6"/>
          <a:stretch/>
        </p:blipFill>
        <p:spPr>
          <a:xfrm>
            <a:off x="244440" y="483552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7" descr=""/>
          <p:cNvPicPr/>
          <p:nvPr/>
        </p:nvPicPr>
        <p:blipFill>
          <a:blip r:embed="rId7"/>
          <a:stretch/>
        </p:blipFill>
        <p:spPr>
          <a:xfrm>
            <a:off x="4859280" y="502920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2166480" y="3510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Iré al mar 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más frecuenc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00720" y="620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omic Sans MS"/>
              </a:rPr>
              <a:t>Fomentaré mi faceta de anfitr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124000" y="2637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Me juntaré 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alor de los buenos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13560" y="285264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Quizás un poquito de más am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803600" y="5089680"/>
            <a:ext cx="33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e alegrarán much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ás las noti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 los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16400" y="54450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No perderé s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contacto y buscar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metas conjunt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2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8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8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3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4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5" descr=""/>
          <p:cNvPicPr/>
          <p:nvPr/>
        </p:nvPicPr>
        <p:blipFill>
          <a:blip r:embed="rId5"/>
          <a:stretch/>
        </p:blipFill>
        <p:spPr>
          <a:xfrm>
            <a:off x="5148360" y="2565360"/>
            <a:ext cx="2133360" cy="17305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6" descr=""/>
          <p:cNvPicPr/>
          <p:nvPr/>
        </p:nvPicPr>
        <p:blipFill>
          <a:blip r:embed="rId6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7" descr=""/>
          <p:cNvPicPr/>
          <p:nvPr/>
        </p:nvPicPr>
        <p:blipFill>
          <a:blip r:embed="rId7"/>
          <a:stretch/>
        </p:blipFill>
        <p:spPr>
          <a:xfrm>
            <a:off x="5364000" y="4581360"/>
            <a:ext cx="2057400" cy="1575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627280" y="30960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No sé, creo que no me hará daño algo de depor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394320" y="33336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mostraré más mi af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 quienes am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304000" y="2595600"/>
            <a:ext cx="30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Cooperaré pa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limpiar el mun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de impresentab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7236000" y="2421000"/>
            <a:ext cx="17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Otras copitas no harán dañ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¡Hip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987560" y="457668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Lo que de ver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quiero es que no 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aquen tarjeta ro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7442280" y="5157720"/>
            <a:ext cx="1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cuando llegue mi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8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2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8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2" descr=""/>
          <p:cNvPicPr/>
          <p:nvPr/>
        </p:nvPicPr>
        <p:blipFill>
          <a:blip r:embed="rId2"/>
          <a:stretch/>
        </p:blipFill>
        <p:spPr>
          <a:xfrm>
            <a:off x="2411280" y="152280"/>
            <a:ext cx="4321440" cy="3652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11280" y="4038480"/>
            <a:ext cx="79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o sé si valdrá la pena o no, lo único que sé es que las personas que amo la habrán pasado bien en mi compañía y que al final del camino sabré que disfruté y que tal vez dejé alguna huella en algún corazón, que es al fin y al cabo lo que cuenta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¿No te parec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UNTOS VER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Que la vida te sonría"/>
          <p:cNvPicPr/>
          <p:nvPr/>
        </p:nvPicPr>
        <p:blipFill>
          <a:blip r:embed="rId2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  <p:sp>
        <p:nvSpPr>
          <p:cNvPr id="163" name="3 CuadroTexto"/>
          <p:cNvSpPr/>
          <p:nvPr/>
        </p:nvSpPr>
        <p:spPr>
          <a:xfrm>
            <a:off x="428760" y="5786280"/>
            <a:ext cx="814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0AE-F48C-47FF-8279-D583A5F871BF}" type="datetime2">
              <a:rPr b="1" lang="es-UY" sz="2400" spc="-1" strike="noStrike">
                <a:solidFill>
                  <a:srgbClr val="c00000"/>
                </a:solidFill>
                <a:latin typeface="Comic Sans MS"/>
              </a:rPr>
              <a:t>viernes, 31 de julio de 2026</a:t>
            </a:fld>
            <a:r>
              <a:rPr b="1" lang="es-UY" sz="2400" spc="-1" strike="noStrike">
                <a:solidFill>
                  <a:srgbClr val="c00000"/>
                </a:solidFill>
                <a:latin typeface="Comic Sans MS"/>
              </a:rPr>
              <a:t>           </a:t>
            </a:r>
            <a:fld id="{96A76752-E7E4-46C7-B923-0DC142028F94}" type="datetime13">
              <a:rPr b="1" lang="es-UY" sz="2400" spc="-1" strike="noStrike">
                <a:solidFill>
                  <a:srgbClr val="c00000"/>
                </a:solidFill>
                <a:latin typeface="Comic Sans MS"/>
              </a:rPr>
              <a:t>05:05:02 p.m.</a:t>
            </a:fld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1024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564000" y="1557360"/>
            <a:ext cx="46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Comic Sans MS"/>
              </a:rPr>
              <a:t>¿Sabes?… He estado pensando todo este tiempo qué es lo que más o menos hacemos  a lo largo de nuestra vid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1024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50" name="Object 1025" descr=""/>
          <p:cNvPicPr/>
          <p:nvPr/>
        </p:nvPicPr>
        <p:blipFill>
          <a:blip r:embed="rId3"/>
          <a:stretch/>
        </p:blipFill>
        <p:spPr>
          <a:xfrm>
            <a:off x="865080" y="3860640"/>
            <a:ext cx="1297080" cy="25686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1026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64120" y="476280"/>
            <a:ext cx="53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Empezamos bien pequeñitos nuest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educación para ser gente de bie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35480" y="234936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Continuamos una parte mu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importante de nuestra infanci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 esos menester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11280" y="4941720"/>
            <a:ext cx="63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Y al final conseguimos un preciado “título”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Ese “papel” que nos pondrá “en el lugar que merecemos”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1024" descr=""/>
          <p:cNvPicPr/>
          <p:nvPr/>
        </p:nvPicPr>
        <p:blipFill>
          <a:blip r:embed="rId2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6" name="Object 102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7" name="Object 1026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819520" y="609480"/>
            <a:ext cx="60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Poco después, empezamos a engrosar las temidas listas del desemple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99736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Hasta que definitivame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un día encontramos un “buen trabajo”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684520" y="5157720"/>
            <a:ext cx="63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…</a:t>
            </a: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tras duras situaciones que soportam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a lo largo del período de prueb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0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Object 1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2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1955880" cy="2119320"/>
          </a:xfrm>
          <a:prstGeom prst="rect">
            <a:avLst/>
          </a:prstGeom>
          <a:ln w="0">
            <a:noFill/>
          </a:ln>
        </p:spPr>
      </p:pic>
      <p:pic>
        <p:nvPicPr>
          <p:cNvPr id="64" name="Object 3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194200" y="47628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Empezamos una bonita carrera profesi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recargada de actividad y trabaj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078640" y="2637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ff"/>
                </a:solidFill>
                <a:latin typeface="Comic Sans MS"/>
              </a:rPr>
              <a:t>Mucho, mucho trabajo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761920" y="407664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...hasta que caemos exhaust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258920" y="53737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¡Ahhh...! Pero somos “Grandes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Profesionales” y con gr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Éxito”</a:t>
            </a:r>
            <a:r>
              <a:rPr b="0" lang="es-ES_tradnl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8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8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1" name="Object 4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2" name="Object 5" descr=""/>
          <p:cNvPicPr/>
          <p:nvPr/>
        </p:nvPicPr>
        <p:blipFill>
          <a:blip r:embed="rId5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3" name="Object 6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7" descr=""/>
          <p:cNvPicPr/>
          <p:nvPr/>
        </p:nvPicPr>
        <p:blipFill>
          <a:blip r:embed="rId7"/>
          <a:stretch/>
        </p:blipFill>
        <p:spPr>
          <a:xfrm>
            <a:off x="3124080" y="4419720"/>
            <a:ext cx="1290600" cy="1253880"/>
          </a:xfrm>
          <a:prstGeom prst="rect">
            <a:avLst/>
          </a:prstGeom>
          <a:ln w="0">
            <a:noFill/>
          </a:ln>
        </p:spPr>
      </p:pic>
      <p:pic>
        <p:nvPicPr>
          <p:cNvPr id="75" name="Object 8" descr=""/>
          <p:cNvPicPr/>
          <p:nvPr/>
        </p:nvPicPr>
        <p:blipFill>
          <a:blip r:embed="rId8"/>
          <a:stretch/>
        </p:blipFill>
        <p:spPr>
          <a:xfrm>
            <a:off x="7391520" y="4343400"/>
            <a:ext cx="709560" cy="1397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851120" y="54936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ff"/>
                </a:solidFill>
                <a:latin typeface="Comic Sans MS"/>
              </a:rPr>
              <a:t>El tiempo empiez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ff"/>
                </a:solidFill>
                <a:latin typeface="Comic Sans MS"/>
              </a:rPr>
              <a:t>a pasar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249600" y="5619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buscamos nuev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objetiv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65400" y="2695680"/>
            <a:ext cx="249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contramos 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amor de nuest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vida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633360" y="254304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 prometem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amor etern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295280" y="4648320"/>
            <a:ext cx="173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Llega el consabido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embarazo, fruto de la pasión, y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22320" y="4437000"/>
            <a:ext cx="244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la cigüeña visit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nuestro nid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de amo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019560" y="581976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¡Vaya, otra noch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que no pego ojo!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2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6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1569960" cy="1576080"/>
          </a:xfrm>
          <a:prstGeom prst="rect">
            <a:avLst/>
          </a:prstGeom>
          <a:ln w="0">
            <a:noFill/>
          </a:ln>
        </p:spPr>
      </p:pic>
      <p:pic>
        <p:nvPicPr>
          <p:cNvPr id="86" name="Object 5" descr=""/>
          <p:cNvPicPr/>
          <p:nvPr/>
        </p:nvPicPr>
        <p:blipFill>
          <a:blip r:embed="rId5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87" name="Object 6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Object 7" descr=""/>
          <p:cNvPicPr/>
          <p:nvPr/>
        </p:nvPicPr>
        <p:blipFill>
          <a:blip r:embed="rId7"/>
          <a:stretch/>
        </p:blipFill>
        <p:spPr>
          <a:xfrm>
            <a:off x="5791320" y="426708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1593360" y="692280"/>
            <a:ext cx="30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Seguimos escaland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puestos en la vida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20800" y="56196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intentando ganarl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iempo al tiemp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895760" y="2997360"/>
            <a:ext cx="25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Somos la estr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donde vam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332400" y="263700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poseemos 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cuerno de 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abundanc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20120" y="443700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Pero… necesitamos aú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más horas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818520" y="5972040"/>
            <a:ext cx="51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...para ser un verdadero triunfado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2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6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3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4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99" name="Object 5" descr=""/>
          <p:cNvPicPr/>
          <p:nvPr/>
        </p:nvPicPr>
        <p:blipFill>
          <a:blip r:embed="rId5"/>
          <a:stretch/>
        </p:blipFill>
        <p:spPr>
          <a:xfrm>
            <a:off x="4356000" y="256536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6" descr=""/>
          <p:cNvPicPr/>
          <p:nvPr/>
        </p:nvPicPr>
        <p:blipFill>
          <a:blip r:embed="rId6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8" descr=""/>
          <p:cNvPicPr/>
          <p:nvPr/>
        </p:nvPicPr>
        <p:blipFill>
          <a:blip r:embed="rId7"/>
          <a:stretch/>
        </p:blipFill>
        <p:spPr>
          <a:xfrm>
            <a:off x="4724280" y="4800600"/>
            <a:ext cx="1629000" cy="1814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734120" y="404640"/>
            <a:ext cx="34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Pero un día te dic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¡que prescinden de ti! 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simplemente te olvidan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432480" y="83664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n ese moment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crees volverte loc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332000" y="2997360"/>
            <a:ext cx="27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Te sientes abatido,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cepcionad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valuad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732720" y="2781360"/>
            <a:ext cx="241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Y te das cue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que has perdi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la comunicación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la “verdadera”, la del corazó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545120" y="5084640"/>
            <a:ext cx="33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e vuelves cons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e que has estad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errado a lo important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l afecto de quienes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precian por lo que E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364440" y="4724280"/>
            <a:ext cx="26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 intentas aho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ujetar el tiemp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ara que no pas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ero se te va de l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man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4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3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4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68580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5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6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7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038320" y="620640"/>
            <a:ext cx="299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e das cuenta que h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vivido en una corti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e hum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314760" y="119700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iguiendo u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stúpida zanahori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278720" y="2565360"/>
            <a:ext cx="23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Te conviertes 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un fantasma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deambula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549840" y="2455920"/>
            <a:ext cx="259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intentando sort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os golpes que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mpieza a dar l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vid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899720" y="5373720"/>
            <a:ext cx="270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Sólo te qued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ver pasar el tiemp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a tu alrededor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999480" y="530064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asta que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legue la hor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2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6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8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31:54Z</dcterms:created>
  <dc:creator>Nelson Tobon y Adolfofo.</dc:creator>
  <dc:description/>
  <dc:language>en-US</dc:language>
  <cp:lastModifiedBy>PC</cp:lastModifiedBy>
  <dcterms:modified xsi:type="dcterms:W3CDTF">2010-08-13T12:43:41Z</dcterms:modified>
  <cp:revision>36</cp:revision>
  <dc:subject>10-3/19-4-8</dc:subject>
  <dc:title>Analizando mi vida</dc:title>
</cp:coreProperties>
</file>