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9DC-8457-468E-9406-BF142ECF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E68-4B8F-4A3B-B2C9-D3B2D29E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CB5-D63E-48E1-8351-080CD726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1D5-A6D9-4C8C-B827-2D856077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58E9-EAE5-4258-ABE9-8F6F81C5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0124-A412-4903-843C-A593A120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4AFD-1911-4339-85D5-9DA4CD4A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9E83-91DA-4351-A64A-962A335F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DBF2-911A-47CA-AE3C-2EEEC060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77E1-369D-4380-804F-8E7FEBDB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4E8B-F967-4B72-A5C6-1D70DBF0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5397-02E5-4BC6-AD3C-A06B5976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B3CB-398F-4433-9843-CE471D84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752B-A229-4944-8E7B-20B5FC77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A44C-FDF3-45C1-93E6-EC49B82C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0215-861E-4FFF-92AF-EC3ECBF2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F386-1404-4430-B075-86F97B1C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831-09F3-4FCB-9E23-97EC18C0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F44-7B1B-45A7-8BCD-55534822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859-9948-47E9-9BE1-661917DD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388-B309-4B11-9A0F-3A2F9F35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B26E-991F-4F95-AD27-841A6F96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66E-CE36-40A7-ABCA-1EC4FFE9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C1C-7B3A-4128-B93A-5534E7BB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C4CC-AC10-44CF-9C96-B0F1DAFCED8E}" type="slidenum">
              <a:rPr b="0" lang="es-MX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C03E-E0EE-4FE6-B25F-87C15BF75537}" type="slidenum">
              <a:rPr b="0" lang="es-MX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 Título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Muy buen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Un borrachito olía a caña pura por los 4 costados, se sube a un autobús con su roñoso bolso y un periódico viejo, se sienta al lado de un Cura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Saca una botella con aguardiente barato y se toma todo lo que queda de un solo trago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Satisfecho, hace hip y eructa, agarra el periódico y se pone a leer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El Cura finge que el borracho no existe y disimula su incomodida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Al rato, el borracho se le queda mirando al Cura y le pregunta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Oiga Padre, ¿Puede decirme qué carajo causa la artritis?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El cura molesto, le responde en tono sarcástico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Ciertamente la artritis es causada por llevar una vida profana, el andar frecuentando mujeres mundanas, los excesos con el tabaco y la bebida, en especial el alcohol; esas borracheras que terminan en noches de putas y muchas más de esas basuras y porquerías...”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-pa'laaaaaa mieeeeerda' responde el borracho volviendo a su lectur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El Cura al rato, pensando en lo que le dijo al pobre infeliz, se conduele y decide disculparse y le dice en tono comprensivo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Disculpe usted, no quise ser tan rudo hijo mío pero ¿desde cuándo sufre de artritis?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-'¿Yoooo? Noooo.... nunca Padre!!!... sólo estaba leyendo este artículo del periódico que dice: ..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es-MX" sz="5400" spc="-1" strike="noStrike">
                <a:solidFill>
                  <a:srgbClr val="ffffff"/>
                </a:solidFill>
                <a:latin typeface="Book Antiqua"/>
              </a:rPr>
              <a:t>El Papa sufre de artritis desde hace varios años”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22:39:06Z</dcterms:created>
  <dc:creator>Familia López Trejo</dc:creator>
  <dc:description/>
  <dc:language>en-US</dc:language>
  <cp:lastModifiedBy>Familia López Trejo</cp:lastModifiedBy>
  <dcterms:modified xsi:type="dcterms:W3CDTF">2008-05-07T22:47:12Z</dcterms:modified>
  <cp:revision>1</cp:revision>
  <dc:subject/>
  <dc:title>BORRACHOS Y CURAS</dc:title>
</cp:coreProperties>
</file>