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7C6F-49D1-4C67-B074-6699A589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C53-06C6-4D10-BF54-95C2159D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717-0D3A-4FDF-929F-CF02EDB2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2BD-947A-4258-9D16-DAA3F6DD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7616-7688-4189-8F97-BFE3BFA6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C9F3-AC63-44CD-B979-BA614F54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FABE-C564-437A-AC72-60565CAD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306F-FFE4-439A-BD82-89522ED9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1210-DED0-4FAA-A914-99D3FFB1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A3FD-3978-45F6-A09A-8E8B2674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9DF7-4D9E-4E36-8043-6C93A462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7EB-4045-4001-8543-6340E78C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2DE2-12D5-4F5D-9D23-C360A21C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45B6-C82B-45C6-A5F8-58CA987B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08B2-2E35-476F-85BF-EF26F251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D229-D1AC-47C5-88C7-6FE0DB8D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8F23-1A3F-4A06-8CAA-B4C61769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47DE-D5B8-413C-AC1A-25BE3641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FFF0-AC7D-4FB6-A699-71FA2F36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687-8AC1-4147-A0FF-038B9219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6E7B-4ECE-45F9-8A54-9E16DC4F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A07-986B-47B6-9143-A14A4305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EEBD-6674-4937-8D51-76305560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4A1-B4F8-4743-B68F-0FBF0F82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1D94-194F-4A6D-89EC-FD76FCBB7DFD}" type="slidenum">
              <a:rPr b="0" lang="es-MX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4FB6-DA3E-4D7E-977B-A79E4F1854F3}" type="slidenum">
              <a:rPr b="0" lang="es-MX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 Título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Muy buen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Un borrachito olía a caña pura por los 4 costados, se sube a un autobús con su roñoso bolso y un periódico viejo, se sienta al lado de un Cura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Saca una botella con aguardiente barato y se toma todo lo que queda de un solo trago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Satisfecho, hace hip y eructa, agarra el periódico y se pone a leer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El Cura finge que el borracho no existe y disimula su incomodida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Al rato, el borracho se le queda mirando al Cura y le pregunta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Oiga Padre, ¿Puede decirme qué carajo causa la artritis?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El cura molesto, le responde en tono sarcástico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Ciertamente la artritis es causada por llevar una vida profana, el andar frecuentando mujeres mundanas, los excesos con el tabaco y la bebida, en especial el alcohol; esas borracheras que terminan en noches de putas y muchas más de esas basuras y porquerías...”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-pa'laaaaaa mieeeeerda' responde el borracho volviendo a su lectur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El Cura al rato, pensando en lo que le dijo al pobre infeliz, se conduele y decide disculparse y le dice en tono comprensivo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Disculpe usted, no quise ser tan rudo hijo mío pero ¿desde cuándo sufre de artritis?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ook Antiqua"/>
              </a:rPr>
              <a:t>-'¿Yoooo? Noooo.... nunca Padre!!!... sólo estaba leyendo este artículo del periódico que dice: ..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lang="es-MX" sz="5400" spc="-1" strike="noStrike">
                <a:solidFill>
                  <a:srgbClr val="ffffff"/>
                </a:solidFill>
                <a:latin typeface="Book Antiqua"/>
              </a:rPr>
              <a:t>El Papa sufre de artritis desde hace varios años”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22:39:06Z</dcterms:created>
  <dc:creator>Familia López Trejo</dc:creator>
  <dc:description/>
  <dc:language>en-US</dc:language>
  <cp:lastModifiedBy>Familia López Trejo</cp:lastModifiedBy>
  <dcterms:modified xsi:type="dcterms:W3CDTF">2008-05-07T22:47:12Z</dcterms:modified>
  <cp:revision>1</cp:revision>
  <dc:subject/>
  <dc:title>BORRACHOS Y CURAS</dc:title>
</cp:coreProperties>
</file>