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Sarah%20Brightman%20&amp;%20Jim%20Brickman%20-%20My%20Valentine.wav" ContentType="audio/x-wav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4.jpeg" ContentType="image/jpeg"/>
  <Override PartName="/ppt/media/image13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46DE-8C8A-4946-9428-BB54EE66F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BF0F-DBAD-4171-A845-22C0CE7A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4839-1DC1-4F13-AC72-9A3DFD912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096E-43E7-4BDF-AC34-8734C9D64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7A34-D01F-4C93-9278-6ACA0A14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3BAC-BF89-4272-9A47-FC234E43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22DB-48BC-4215-A1B9-A0F2A518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0B62-654C-4B44-9303-392499A3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02C9-4F89-4CAF-9905-8CB04AA2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3643-9177-4665-8CFB-AACC53C3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98DE-F86B-4347-A05D-B632511C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E96C-741B-4D80-BE88-1B3570E9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50000">
              <a:srgbClr val="ccff99"/>
            </a:gs>
            <a:gs pos="100000">
              <a:srgbClr val="6666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350B-9EC2-4EA6-84D6-ACFEC7779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audio" Target="../media/Sarah%20Brightman%20&amp;%20Jim%20Brickman%20-%20My%20Valentine.wav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920" y="189000"/>
            <a:ext cx="5472000" cy="18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ff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ff0000"/>
                  </a:outerShdw>
                </a:effectLst>
                <a:latin typeface="Perpetua Titling MT"/>
              </a:rPr>
              <a:t>"A.S.E. Producciones"</a:t>
            </a:r>
            <a:endParaRPr b="1" lang="en-US" sz="4400" spc="1" strike="noStrike">
              <a:ln w="9360">
                <a:solidFill>
                  <a:srgbClr val="00ff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ff0000"/>
                </a:outerShdw>
              </a:effectLst>
              <a:latin typeface="Perpetua Titling MT"/>
              <a:ea typeface="Perpetua Titling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ff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ff0000"/>
                  </a:outerShdw>
                </a:effectLst>
                <a:latin typeface="Perpetua Titling MT"/>
              </a:rPr>
              <a:t>Presenta:</a:t>
            </a:r>
            <a:endParaRPr b="1" lang="en-US" sz="4400" spc="1" strike="noStrike">
              <a:ln w="9360">
                <a:solidFill>
                  <a:srgbClr val="00ff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ff0000"/>
                </a:outerShdw>
              </a:effectLst>
              <a:latin typeface="Perpetua Titling MT"/>
              <a:ea typeface="Perpetua Titling M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64000" y="2708280"/>
            <a:ext cx="3448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00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64600" dir="674838" blurRad="0" rotWithShape="0">
                    <a:srgbClr val="99ff33"/>
                  </a:outerShdw>
                </a:effectLst>
                <a:latin typeface="Perpetua Titling MT"/>
              </a:rPr>
              <a:t>"KOALAS"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64600" dir="674838" blurRad="0" rotWithShape="0">
                  <a:srgbClr val="99ff33"/>
                </a:outerShdw>
              </a:effectLst>
              <a:latin typeface="Perpetua Titling MT"/>
              <a:ea typeface="Perpetua Titling MT"/>
            </a:endParaRPr>
          </a:p>
        </p:txBody>
      </p:sp>
    </p:spTree>
  </p:cSld>
  <p:transition spd="med">
    <p:dissolve/>
    <p:sndAc>
      <p:stSnd>
        <p:snd r:embed="rId8" name="Sarah%20Brightman%20&amp;%20Jim%20Brickman%20-%20My%20Valentin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50000">
              <a:srgbClr val="ccff99"/>
            </a:gs>
            <a:gs pos="100000">
              <a:srgbClr val="6666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11640" cy="3790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211640" y="2852640"/>
            <a:ext cx="4932360" cy="400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843280" y="3284640"/>
            <a:ext cx="1347840" cy="431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64680" y="4653000"/>
            <a:ext cx="33170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Hasta una casa se acerc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otro koala, pidiendo agu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821120" y="612720"/>
            <a:ext cx="322272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Rounded MT Bold"/>
              </a:rPr>
              <a:t>Le pusieron un recip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Rounded MT Bold"/>
              </a:rPr>
              <a:t>con agua fresc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Rounded MT Bold"/>
              </a:rPr>
              <a:t>miren lo que pasó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50000">
              <a:srgbClr val="ccff99"/>
            </a:gs>
            <a:gs pos="100000">
              <a:srgbClr val="6666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614920" cy="518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1089720" y="5730840"/>
            <a:ext cx="69868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Rounded MT Bold"/>
              </a:rPr>
              <a:t>Se acercó tímidamente y después de beber</a:t>
            </a:r>
            <a:r>
              <a:rPr b="0" lang="es-E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 Rounded MT Bold"/>
              </a:rPr>
              <a:t>p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Rounded MT Bold"/>
              </a:rPr>
              <a:t>un rato, hizo esto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50000">
              <a:srgbClr val="ccff99"/>
            </a:gs>
            <a:gs pos="100000">
              <a:srgbClr val="6666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842160" cy="513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6443640" y="4797360"/>
            <a:ext cx="1346400" cy="360360"/>
          </a:xfrm>
          <a:prstGeom prst="rect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O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95000" y="5734080"/>
            <a:ext cx="831276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La destrucción de los bosques, el cambio climático, el calent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global, el accionar humano esta diezmando la vida salvaj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50000">
              <a:srgbClr val="ccff99"/>
            </a:gs>
            <a:gs pos="100000">
              <a:srgbClr val="6666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116000" y="333360"/>
            <a:ext cx="6769080" cy="5079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1167120" y="5670720"/>
            <a:ext cx="72702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Rounded MT Bold"/>
              </a:rPr>
              <a:t>No esperemos que ya no existan para reacciona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Rounded MT Bold"/>
              </a:rPr>
              <a:t>el cambio es ahora….estamos a tiempo aú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50000">
              <a:srgbClr val="ccff99"/>
            </a:gs>
            <a:gs pos="100000">
              <a:srgbClr val="6666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148360" y="333360"/>
            <a:ext cx="3278160" cy="256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2">
            <a:lum contrast="8000"/>
          </a:blip>
          <a:stretch/>
        </p:blipFill>
        <p:spPr>
          <a:xfrm>
            <a:off x="5508720" y="3141720"/>
            <a:ext cx="2482920" cy="2463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175320" y="6021360"/>
            <a:ext cx="88675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Hasta que no hayas amado a un animal, tu alma permanecerá dormid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>
            <a:lum contrast="8000"/>
          </a:blip>
          <a:stretch/>
        </p:blipFill>
        <p:spPr>
          <a:xfrm>
            <a:off x="684360" y="333360"/>
            <a:ext cx="3571560" cy="541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50000">
              <a:srgbClr val="ccff99"/>
            </a:gs>
            <a:gs pos="100000">
              <a:srgbClr val="6666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979640" y="260280"/>
            <a:ext cx="4840200" cy="6202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7681680" y="5805360"/>
            <a:ext cx="700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-Fin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50000">
              <a:srgbClr val="ccff99"/>
            </a:gs>
            <a:gs pos="100000">
              <a:srgbClr val="6666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4572000" cy="3063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476360" y="3068640"/>
            <a:ext cx="4667400" cy="378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048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376200" y="37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16720" y="3933720"/>
            <a:ext cx="24890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cen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forestal 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ustral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50000">
              <a:srgbClr val="ccff99"/>
            </a:gs>
            <a:gs pos="100000">
              <a:srgbClr val="6666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90920" cy="299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030560" y="3024360"/>
            <a:ext cx="5113440" cy="383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125280" y="3854520"/>
            <a:ext cx="359604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Rounded MT Bold"/>
              </a:rPr>
              <a:t>El bombero voluntario Dav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Rounded MT Bold"/>
              </a:rPr>
              <a:t>Tree,  detectó a Sam 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Rounded MT Bold"/>
              </a:rPr>
              <a:t>norte de Melbour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40920" y="836640"/>
            <a:ext cx="364032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Rounded MT Bold"/>
              </a:rPr>
              <a:t>Durante el incendio, la koa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Rounded MT Bold"/>
              </a:rPr>
              <a:t>Sam caminaba sobr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Rounded MT Bold"/>
              </a:rPr>
              <a:t>maleza ard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50000">
              <a:srgbClr val="ccff99"/>
            </a:gs>
            <a:gs pos="100000">
              <a:srgbClr val="6666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332000" y="476280"/>
            <a:ext cx="6851520" cy="456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632520" y="5516640"/>
            <a:ext cx="76910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Rounded MT Bold"/>
              </a:rPr>
              <a:t>Esta foto recorrió el mundo, cuando Sam muerta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Rounded MT Bold"/>
              </a:rPr>
              <a:t>sed acepta el agua del bomber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50000">
              <a:srgbClr val="ccff99"/>
            </a:gs>
            <a:gs pos="100000">
              <a:srgbClr val="6666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5768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084720" y="0"/>
            <a:ext cx="305928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843280" y="3448080"/>
            <a:ext cx="3217680" cy="340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257400" y="4437000"/>
            <a:ext cx="23342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Koalas resca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del incend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06440" y="1197000"/>
            <a:ext cx="259164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El fuego vora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destruyó ciento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kilómetro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bos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86560" y="4213080"/>
            <a:ext cx="219852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Rounded MT Bold"/>
              </a:rPr>
              <a:t>Y dejó aproxima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Rounded MT Bold"/>
              </a:rPr>
              <a:t>damente un mi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Rounded MT Bold"/>
              </a:rPr>
              <a:t>llón de anim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Rounded MT Bold"/>
              </a:rPr>
              <a:t>muer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50000">
              <a:srgbClr val="ccff99"/>
            </a:gs>
            <a:gs pos="100000">
              <a:srgbClr val="6666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7470720" cy="4206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620280" y="5229360"/>
            <a:ext cx="800352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Rounded MT Bold"/>
              </a:rPr>
              <a:t>La extinción de los Koalas podría darse en pocos años, debido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Rounded MT Bold"/>
              </a:rPr>
              <a:t>la continua urbanización, los incendios y a la destrucción del 80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Rounded MT Bold"/>
              </a:rPr>
              <a:t>de los bosques de eucaliptus, ya que los ellos se alimentan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Rounded MT Bold"/>
              </a:rPr>
              <a:t>sus hoj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50000">
              <a:srgbClr val="ccff99"/>
            </a:gs>
            <a:gs pos="100000">
              <a:srgbClr val="6666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95280" y="907920"/>
            <a:ext cx="9434520" cy="545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Rounded MT Bold"/>
              </a:rPr>
              <a:t>El cambio climático es tan evidente, que durante una larga semana la temperatu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Rounded MT Bold"/>
              </a:rPr>
              <a:t>en Australia, no bajo de los 48º y ocurri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Rounded MT Bold"/>
              </a:rPr>
              <a:t>algo nunca antes vist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Rounded MT Bold"/>
              </a:rPr>
              <a:t>Los koalas que se ocultan de la g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Rounded MT Bold"/>
              </a:rPr>
              <a:t>y que solo se los puede ver en los Zo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Rounded MT Bold"/>
              </a:rPr>
              <a:t>en esos días se vió esto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50000">
              <a:srgbClr val="ccff99"/>
            </a:gs>
            <a:gs pos="100000">
              <a:srgbClr val="6666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>
            <a:lum contrast="14000"/>
          </a:blip>
          <a:stretch/>
        </p:blipFill>
        <p:spPr>
          <a:xfrm>
            <a:off x="1187280" y="404640"/>
            <a:ext cx="6161400" cy="462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761400" y="5516640"/>
            <a:ext cx="69717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e acercaban a la gente para pedir agu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para be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50000">
              <a:srgbClr val="ccff99"/>
            </a:gs>
            <a:gs pos="100000">
              <a:srgbClr val="6666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67280" cy="314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2">
            <a:lum contrast="16000"/>
          </a:blip>
          <a:stretch/>
        </p:blipFill>
        <p:spPr>
          <a:xfrm>
            <a:off x="4076640" y="3057480"/>
            <a:ext cx="5067360" cy="380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0" y="4221000"/>
            <a:ext cx="43308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Los ciclistas se detuvier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en una carretera australi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80560" y="1052640"/>
            <a:ext cx="402264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Inesperadamente, tuvieron 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ompartir su agua con un koa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ed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01:22:58Z</dcterms:created>
  <dc:creator>A.S.E. Producciones</dc:creator>
  <dc:description/>
  <dc:language>en-US</dc:language>
  <cp:lastModifiedBy>pc</cp:lastModifiedBy>
  <dcterms:modified xsi:type="dcterms:W3CDTF">2009-02-23T02:11:59Z</dcterms:modified>
  <cp:revision>14</cp:revision>
  <dc:subject>Incendios</dc:subject>
  <dc:title>Koalas</dc:title>
</cp:coreProperties>
</file>