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Sarah%20Brightman%20&amp;%20Jim%20Brickman%20-%20My%20Valentine.wav" ContentType="audio/x-wav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1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707-647C-4354-AC99-A0ECB35C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1B0-7D60-4CF3-A08D-D4B2C4BF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395-E52C-4711-8413-788908C3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B9C-10D3-4A53-B1E1-A323745C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140-2B6D-4FAC-8BC2-42B19FE0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690-283F-488F-8E9E-005AF09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5B6-E676-4125-89A3-1CE5C01E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36F-9F96-4952-AB9F-18B73F9F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D5D-5599-4F00-89B8-F28B1AD3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F07-6E1C-45E7-B1D3-9B87BF9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DC3-3704-46A9-A273-962FEF8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E29-2F87-4B4F-A786-C165FD1D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6FC9-AFED-4825-993C-DD377D11D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Sarah%20Brightman%20&amp;%20Jim%20Brickman%20-%20My%20Valentine.wav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89000"/>
            <a:ext cx="547200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0000"/>
                  </a:outerShdw>
                </a:effectLst>
                <a:latin typeface="Perpetua Titling MT"/>
              </a:rPr>
              <a:t>"A.S.E. Producciones"</a:t>
            </a:r>
            <a:endParaRPr b="1" lang="en-US" sz="44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0000"/>
                </a:outerShdw>
              </a:effectLst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0000"/>
                  </a:outerShdw>
                </a:effectLst>
                <a:latin typeface="Perpetua Titling MT"/>
              </a:rPr>
              <a:t>Presenta:</a:t>
            </a:r>
            <a:endParaRPr b="1" lang="en-US" sz="44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0000"/>
                </a:outerShdw>
              </a:effectLst>
              <a:latin typeface="Perpetua Titling MT"/>
              <a:ea typeface="Perpetua Titling M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64000" y="2708280"/>
            <a:ext cx="3448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64600" dir="674838" blurRad="0" rotWithShape="0">
                    <a:srgbClr val="99ff33"/>
                  </a:outerShdw>
                </a:effectLst>
                <a:latin typeface="Perpetua Titling MT"/>
              </a:rPr>
              <a:t>"KOALAS"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64600" dir="674838" blurRad="0" rotWithShape="0">
                  <a:srgbClr val="99ff33"/>
                </a:outerShdw>
              </a:effectLst>
              <a:latin typeface="Perpetua Titling MT"/>
              <a:ea typeface="Perpetua Titling MT"/>
            </a:endParaRPr>
          </a:p>
        </p:txBody>
      </p:sp>
    </p:spTree>
  </p:cSld>
  <p:transition spd="med">
    <p:dissolve/>
    <p:sndAc>
      <p:stSnd>
        <p:snd r:embed="rId8" name="Sarah%20Brightman%20&amp;%20Jim%20Brickman%20-%20My%20Valenti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379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9323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843280" y="3284640"/>
            <a:ext cx="1347840" cy="431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4680" y="4653000"/>
            <a:ext cx="331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sta una casa se acerc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tro koala, pidiendo a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21120" y="612720"/>
            <a:ext cx="32227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Le pusieron un recip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con agua fres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miren lo que pasó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6149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089720" y="5730840"/>
            <a:ext cx="6986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Se acercó tímidamente y después de beber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un rato, hizo esto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42160" cy="51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6443640" y="4797360"/>
            <a:ext cx="1346400" cy="3603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000" y="5734080"/>
            <a:ext cx="83127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 destrucción de los bosques, el cambio climático, el calen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lobal, el accionar humano esta diezmando la vida salva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116000" y="333360"/>
            <a:ext cx="676908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167120" y="5670720"/>
            <a:ext cx="7270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No esperemos que ya no existan para reaccion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el cambio es ahora….estamos a tiempo a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27816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>
            <a:lum contrast="8000"/>
          </a:blip>
          <a:stretch/>
        </p:blipFill>
        <p:spPr>
          <a:xfrm>
            <a:off x="5508720" y="3141720"/>
            <a:ext cx="248292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75320" y="6021360"/>
            <a:ext cx="8867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sta que no hayas amado a un animal, tu alma permanecerá dormid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>
            <a:lum contrast="8000"/>
          </a:blip>
          <a:stretch/>
        </p:blipFill>
        <p:spPr>
          <a:xfrm>
            <a:off x="684360" y="333360"/>
            <a:ext cx="3571560" cy="541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260280"/>
            <a:ext cx="4840200" cy="620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7681680" y="5805360"/>
            <a:ext cx="700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-Fi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4572000" cy="30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4667400" cy="37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7620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3933720"/>
            <a:ext cx="2489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cen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estal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0920" cy="29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30560" y="3024360"/>
            <a:ext cx="511344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25280" y="3854520"/>
            <a:ext cx="35960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El bombero voluntario D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Tree,  detectó a Sam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norte de Melbou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0920" y="836640"/>
            <a:ext cx="36403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Durante el incendio, la koa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Sam caminaba sob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maleza ar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332000" y="476280"/>
            <a:ext cx="6851520" cy="456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32520" y="5516640"/>
            <a:ext cx="7691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Esta foto recorrió el mundo, cuando Sam muert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sed acepta el agua del bomb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843280" y="3448080"/>
            <a:ext cx="3217680" cy="34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57400" y="4437000"/>
            <a:ext cx="2334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Koalas resca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el incen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06440" y="1197000"/>
            <a:ext cx="25916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l fuego v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estruyó cient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kilómetr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os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6560" y="4213080"/>
            <a:ext cx="2198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Y dejó aproxim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damente un m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llón de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mue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70720" cy="420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620280" y="5229360"/>
            <a:ext cx="8003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La extinción de los Koalas podría darse en pocos años, debid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la continua urbanización, los incendios y a la destrucción del 8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de los bosques de eucaliptus, ya que los ellos se aliment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sus ho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907920"/>
            <a:ext cx="943452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El cambio climático es tan evidente, que durante una larga semana la tempera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en Australia, no bajo de los 48º y ocurri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algo nunca antes vis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Los koalas que se ocultan de la 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y que solo se los puede ver en los Zo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en esos días se vió esto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87280" y="404640"/>
            <a:ext cx="6161400" cy="462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761400" y="5516640"/>
            <a:ext cx="6971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 acercaban a la gente para pedir ag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ra be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314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4076640" y="3057480"/>
            <a:ext cx="5067360" cy="38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4221000"/>
            <a:ext cx="4330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os ciclistas se detuvier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n una carretera austral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80560" y="1052640"/>
            <a:ext cx="4022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esperadamente, tuvieron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artir su agua con un koa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d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1:22:58Z</dcterms:created>
  <dc:creator>A.S.E. Producciones</dc:creator>
  <dc:description/>
  <dc:language>en-US</dc:language>
  <cp:lastModifiedBy>pc</cp:lastModifiedBy>
  <dcterms:modified xsi:type="dcterms:W3CDTF">2009-02-23T02:11:59Z</dcterms:modified>
  <cp:revision>14</cp:revision>
  <dc:subject>Incendios</dc:subject>
  <dc:title>Koalas</dc:title>
</cp:coreProperties>
</file>