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E71-5E5A-41E6-BDF0-3E2D3572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141-7153-4CC2-B245-D33C2CF2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37D-19ED-4C90-A240-969F2EA8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55E-4EEE-4B04-B753-32B4C86C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5358-3F71-4BEF-BD79-4F7BC855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F62A-D432-4164-98FF-E9745748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FC8B-5CD3-4CBF-B2E6-973F3154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405A-61FF-4DB6-966D-39892769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66D0-2356-4A48-8E5C-EB5DBBE0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BB77-14B3-4648-B8BD-EA957579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DB40-2083-4BD9-97DD-9CF3E99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C68-E9B0-4C28-A478-1BA383DC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F309-D447-4036-9E94-257C658A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2324-2F47-4609-ABE4-C7E2CC02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F0D9-88B9-454C-A04A-BE57653D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3DA8-8F18-4BF5-ACC8-4C957926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9FA7-5CD5-4F2E-B556-4E63CDAE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CF5-9525-4034-A400-E8AA58FD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091-2929-4247-B027-7FD5896B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80B-DB9D-4162-B19E-EEA4D110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30A-37EE-4AD7-A158-49EC2F43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A01-5388-483E-AE94-8FAE7AA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22C-0ABC-48F3-9F07-07FB2B5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A56-B334-42DD-B1F5-A812996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335F-90D9-4344-B448-49EC4C1C0BC2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9B74-1BFF-4A81-A159-5F0D69565D48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484360"/>
            <a:ext cx="8569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Por culpa de estos judíos!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203600" y="6045120"/>
            <a:ext cx="18320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Kunstler Script"/>
              </a:rPr>
              <a:t>G.M.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6280" y="2862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9efee"/>
                </a:solidFill>
                <a:latin typeface="Garamond"/>
              </a:rPr>
              <a:t>POR CULPA DE ESTOS JUDÍOS ISRAELÍES EL CÁNCER ESTÁ EN UN ESTADO AVANZADO DE INVESTIGACIÓN Y DESARROLLO.</a:t>
            </a:r>
            <a:br>
              <a:rPr sz="3200"/>
            </a:br>
            <a:r>
              <a:rPr b="1" lang="es-ES_tradnl" sz="3200" spc="-1" strike="noStrike">
                <a:solidFill>
                  <a:srgbClr val="b9efee"/>
                </a:solidFill>
                <a:latin typeface="Garamond"/>
              </a:rPr>
              <a:t>EN BREVE, CON LA NARIZ ASPERSORA DESARROLLADA EN HAIFA, EL 90 % DE LOS CÁNCERES SERÁN CURADOS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b9efee"/>
                </a:solidFill>
                <a:latin typeface="Garamond"/>
              </a:rPr>
              <a:t>SI UN HIJO DE NASRALLAH O DE AHMADINEJAD NECESITARA DE LA CIENCIA ISRAELÍ, SON CAPACES DE DEJARLOS MORIR CON TAL DE BORRARLOS DEL MAPA.</a:t>
            </a:r>
            <a:r>
              <a:rPr b="0" lang="es-ES_tradnl" sz="3200" spc="-1" strike="noStrike">
                <a:solidFill>
                  <a:srgbClr val="b9efee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0160" y="104472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 u="sng">
                <a:solidFill>
                  <a:srgbClr val="ff3300"/>
                </a:solidFill>
                <a:uFillTx/>
                <a:latin typeface="Garamond"/>
              </a:rPr>
              <a:t>Israel: desarrollan una 'nariz artificial' para detectar tumores cancerosos</a:t>
            </a:r>
            <a:r>
              <a:rPr b="1" lang="es-ES_tradnl" sz="48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es-ES_tradnl" sz="4800" spc="-1" strike="noStrike">
                <a:solidFill>
                  <a:srgbClr val="ff3300"/>
                </a:solidFill>
                <a:latin typeface="Garamond"/>
              </a:rPr>
              <a:t>(11/10/2007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60000" y="3645000"/>
            <a:ext cx="83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dispositivo permitirá a través de la respiración y el olor, descubrir la existencia y la ubicación de las células enfermas en el organ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La semana que viene, los investigadores del Politécnico de Haifa probarán el sensor en centenares de personas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6280" y="2933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Un grupo de científicos israelíes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diseñó una 'nariz artificial'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 que, a través de la respiración y el olor, permitirá descubrir en sólo 30 segundos la existencia y la ubicación en el organismo de tumores cancerosos. Para ello, utilizará 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un sensor del tamaño de la cabeza de un alfiler.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nuevo dispositivo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podrá comenzarse a utilizar dentro de dos años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.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Al frente del diseño se encuentra el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doctor Husan Jaiek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, de 32 años, quien dirige un equipo de 17 investigadores del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Politécnico de la ciudad de Haifa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6280" y="2862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proyecto, que ya fue probado con éxito en personas, esta siendo patentado y cuenta con la ayuda de 1,7 millones de euros del Fondo de Investigaciones de la Union Europea (UE)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Su mecanismo de utilización es simple: el paciente debe respirar hacia una especie de antena hueca adosada al dispositivo que contiene el sensor y una pantalla.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6280" y="2997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Medio minuto después se podrá leer en ella el resultado de la prueba 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.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beneficio: en el futuro podrán evitarse pruebas como las biopsias y radiografías para descubrir el cáncer, explica el doctor Jaiek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La semana próxima comenzará una primera investigación en la que se probará en todo el país el sensor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con centenares de personas enfermas de cáncer y sanas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 .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6280" y="3077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La idea es detectar el tumor canceroso antes de que se encuentre desarrollado. 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 'Si se pudiese detectar el cáncer desde las primeras células enfermas, el porcentaje de quienes pueden sobrevivir podrá elevarse a un 90 por ciento', concluyó el médico israelí.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" y="404280"/>
            <a:ext cx="882036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b9efee"/>
                </a:solidFill>
                <a:latin typeface="Garamond"/>
              </a:rPr>
              <a:t>Ajmadinehad debiera saber que:</a:t>
            </a:r>
            <a:r>
              <a:rPr b="1" lang="es-ES_tradnl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0560" y="333216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culpa de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A. Wasserman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uchos iraníes curaron enfermedadades venéreas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Carl Koll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pudieron operar sus ojos con anestesia local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Spiro y Flenne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superaron el dolor de cabeza con piramidon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Ludwing Traub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conocieron la digitalina, usada en padecimientos cardíacos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Oscar Liebrich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tuvieron menos convulsiones utilizando hidrato de coral.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6280" y="2933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Simón Flexn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uchos iraníes curaron de disenterí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George Widal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no enfermaron de fiebre tifoide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Karl Landstein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evitaron la posibilidad de un shock en caso de recibir un tipo de sangre incompatible.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6280" y="336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Oskar Minkowsky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eludieron el mal uso de la insulin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Jonas E Salk y Albert B .Sabin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iles de niños iraníes no murieron de poliomelitis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Isaac Michael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pudieron ser intervenidos mediante la luz fría.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6280" y="321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Paul Ehrlich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uchos iraníes mitigaron la sífilis con el sarvasán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Valdemar Mordecai Haffkine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curaron de cóler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Bela Schik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no enfermaron de difteria.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6280" y="2997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Kurt Holdschinsky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a luz solar artificial permitió a los iraníes curar de raquitismo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Tadeusz Reichstein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conocieron la cortisona sintética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Salman Abraham Waksman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iles de iraníes salvaron sus vidas aplicándose estreptomicina.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6280" y="3077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Alexander Marmorek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los iraníes fueron vacunados la vacuna contra la tuberculosis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Moritz Schiff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centenares de iraníes curaron de cretinismo. 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Por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Marian Eiger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 muchos iraníes curaron sus arritmias cardíacas.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6280" y="292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Cientos  de judíos más posibilitaron curar o mitigar padecimientos a millones de iraníes. Cuando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Hans A. Krebs </a:t>
            </a:r>
            <a:r>
              <a:rPr b="0" lang="es-ES_tradnl" sz="4000" spc="-1" strike="noStrike">
                <a:solidFill>
                  <a:srgbClr val="b9efee"/>
                </a:solidFill>
                <a:latin typeface="Garamond"/>
              </a:rPr>
              <a:t>recibió el premio Nobel de medicina en 1953, en su discurso expresó lo siguiente: ¡Cuantos niños matados por el nazismo </a:t>
            </a:r>
            <a:r>
              <a:rPr b="1" lang="es-ES_tradnl" sz="4000" spc="-1" strike="noStrike">
                <a:solidFill>
                  <a:srgbClr val="b9efee"/>
                </a:solidFill>
                <a:latin typeface="Garamond"/>
              </a:rPr>
              <a:t>habrían podido ser útiles para la humanidad entera, inclusive para los mismo que los mataron...!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9:20:47Z</dcterms:created>
  <dc:creator>WinuE</dc:creator>
  <dc:description/>
  <dc:language>en-US</dc:language>
  <cp:lastModifiedBy>berni</cp:lastModifiedBy>
  <dcterms:modified xsi:type="dcterms:W3CDTF">2010-03-04T13:10:44Z</dcterms:modified>
  <cp:revision>1</cp:revision>
  <dc:subject/>
  <dc:title>Por culpa de estos judíos!</dc:title>
</cp:coreProperties>
</file>