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3AB-8A05-4AC8-A57D-38DB3BD7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A6B-54BB-4B76-8DFE-4B98B0C4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C3A-9151-42C7-AC75-B0194D49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AB5-43DF-48AC-9892-4C67B902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B5BF-1F17-4C85-AF72-43EDB347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693F-8C2D-4FB7-837E-A9D85D01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2B12-8CC0-45B3-B754-D6E3FC80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9607-461B-4B2E-A347-3C790B3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0D4D-1C1E-4AC4-BA04-61C16B52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AE8B-9DD7-461A-9C3F-F499518F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5750-BDEB-4DD8-B507-4418DAEE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1A2-63C5-4279-9273-1FDF4AAA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DFF4-303B-48DC-B51A-F15A94D8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8B8A-3C63-457F-8522-841C4AD3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1D0C-3140-4D1E-A2E8-354C1248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24E3-FF40-467E-B701-1DCE640D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5F51-439D-4CCE-B981-8341E244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9F1-FBFA-4F76-82E0-B9E1D5C0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9AF-2E82-4A24-92C3-54BF3394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785-59AC-479F-9525-209E940C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4F1-E991-4821-BD15-1A950474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B86-CC7E-4A46-B32A-8E6A5405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0F2-1792-4722-9730-4FF28DBD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054-F9CD-472C-97A2-3835C230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F7A-3473-429B-87FC-DF1DFB6FCF38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E44C-6CCE-4C40-8F34-8F274A5C948E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484360"/>
            <a:ext cx="8569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Por culpa de estos judíos!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203600" y="6045120"/>
            <a:ext cx="18320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Kunstler Script"/>
              </a:rPr>
              <a:t>G.M.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6280" y="2862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9efee"/>
                </a:solidFill>
                <a:latin typeface="Garamond"/>
              </a:rPr>
              <a:t>POR CULPA DE ESTOS JUDÍOS ISRAELÍES EL CÁNCER ESTÁ EN UN ESTADO AVANZADO DE INVESTIGACIÓN Y DESARROLLO.</a:t>
            </a:r>
            <a:br>
              <a:rPr sz="3200"/>
            </a:br>
            <a:r>
              <a:rPr b="1" lang="es-ES_tradnl" sz="3200" spc="-1" strike="noStrike">
                <a:solidFill>
                  <a:srgbClr val="b9efee"/>
                </a:solidFill>
                <a:latin typeface="Garamond"/>
              </a:rPr>
              <a:t>EN BREVE, CON LA NARIZ ASPERSORA DESARROLLADA EN HAIFA, EL 90 % DE LOS CÁNCERES SERÁN CURADOS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b9efee"/>
                </a:solidFill>
                <a:latin typeface="Garamond"/>
              </a:rPr>
              <a:t>SI UN HIJO DE NASRALLAH O DE AHMADINEJAD NECESITARA DE LA CIENCIA ISRAELÍ, SON CAPACES DE DEJARLOS MORIR CON TAL DE BORRARLOS DEL MAPA.</a:t>
            </a:r>
            <a:r>
              <a:rPr b="0" lang="es-ES_tradnl" sz="3200" spc="-1" strike="noStrike">
                <a:solidFill>
                  <a:srgbClr val="b9efee"/>
                </a:solidFill>
                <a:latin typeface="Garamond"/>
              </a:rPr>
              <a:t> 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0160" y="104472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ff3300"/>
                </a:solidFill>
                <a:uFillTx/>
                <a:latin typeface="Garamond"/>
              </a:rPr>
              <a:t>Israel: desarrollan una 'nariz artificial' para detectar tumores cancerosos</a:t>
            </a:r>
            <a:r>
              <a:rPr b="1" lang="es-ES_tradnl" sz="48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1" lang="es-ES_tradnl" sz="4800" spc="-1" strike="noStrike">
                <a:solidFill>
                  <a:srgbClr val="ff3300"/>
                </a:solidFill>
                <a:latin typeface="Garamond"/>
              </a:rPr>
              <a:t>(11/10/2007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60000" y="3645000"/>
            <a:ext cx="83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l dispositivo permitirá a través de la respiración y el olor, descubrir la existencia y la ubicación de las células enfermas en el organism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La semana que viene, los investigadores del Politécnico de Haifa probarán el sensor en centenares de personas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6280" y="2933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Un grupo de científicos israelíes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diseñó una 'nariz artificial'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 que, a través de la respiración y el olor, permitirá descubrir en sólo 30 segundos la existencia y la ubicación en el organismo de tumores cancerosos. Para ello, utilizará 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un sensor del tamaño de la cabeza de un alfiler.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l nuevo dispositivo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podrá comenzarse a utilizar dentro de dos años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.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Al frente del diseño se encuentra el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doctor Husan Jaiek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, de 32 años, quien dirige un equipo de 17 investigadores del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Politécnico de la ciudad de Haifa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6280" y="2862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l proyecto, que ya fue probado con éxito en personas, esta siendo patentado y cuenta con la ayuda de 1,7 millones de euros del Fondo de Investigaciones de la Union Europea (UE)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Su mecanismo de utilización es simple: el paciente debe respirar hacia una especie de antena hueca adosada al dispositivo que contiene el sensor y una pantalla.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6280" y="2997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Medio minuto después se podrá leer en ella el resultado de la prueba 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.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l beneficio: en el futuro podrán evitarse pruebas como las biopsias y radiografías para descubrir el cáncer, explica el doctor Jaiek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La semana próxima comenzará una primera investigación en la que se probará en todo el país el sensor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con centenares de personas enfermas de cáncer y sanas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 .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6280" y="3077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La idea es detectar el tumor canceroso antes de que se encuentre desarrollado.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 'Si se pudiese detectar el cáncer desde las primeras células enfermas, el porcentaje de quienes pueden sobrevivir podrá elevarse a un 90 por ciento', concluyó el médico israelí.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000" y="404280"/>
            <a:ext cx="882036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b9efee"/>
                </a:solidFill>
                <a:latin typeface="Garamond"/>
              </a:rPr>
              <a:t>Ajmadinehad debiera saber que:</a:t>
            </a:r>
            <a:r>
              <a:rPr b="1" lang="es-ES_tradnl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0560" y="333216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culpa de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A. Wasserman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uchos iraníes curaron enfermedadades venéreas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Carl Koller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pudieron operar sus ojos con anestesia local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Spiro y Flenne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superaron el dolor de cabeza con piramidon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Ludwing Trauber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conocieron la digitalina, usada en padecimientos cardíacos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Oscar Liebrich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tuvieron menos convulsiones utilizando hidrato de coral.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6280" y="2933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Simón Flexner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uchos iraníes curaron de disentería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George Widal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no enfermaron de fiebre tifoidea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Karl Landsteiner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evitaron la posibilidad de un shock en caso de recibir un tipo de sangre incompatible.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6280" y="336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Oskar Minkowsky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eludieron el mal uso de la insulina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Jonas E Salk y Albert B .Sabin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iles de niños iraníes no murieron de poliomelitis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Isaac Michael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pudieron ser intervenidos mediante la luz fría.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6280" y="321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Paul Ehrlich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uchos iraníes mitigaron la sífilis con el sarvasán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Valdemar Mordecai Haffkine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curaron de cólera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Bela Schik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no enfermaron de difteria.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2997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Kurt Holdschinsky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a luz solar artificial permitió a los iraníes curar de raquitismo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Tadeusz Reichstein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conocieron la cortisona sintética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Salman Abraham Waksman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iles de iraníes salvaron sus vidas aplicándose estreptomicina.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6280" y="3077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Alexander Marmorek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fueron vacunados la vacuna contra la tuberculosis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Moritz Schiff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centenares de iraníes curaron de cretinismo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Marian Eiger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uchos iraníes curaron sus arritmias cardíacas.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6280" y="292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Cientos  de judíos más posibilitaron curar o mitigar padecimientos a millones de iraníes. Cuando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Hans A. Krebs 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recibió el premio Nobel de medicina en 1953, en su discurso expresó lo siguiente: ¡Cuantos niños matados por el nazismo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habrían podido ser útiles para la humanidad entera, inclusive para los mismo que los mataron...!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9:20:47Z</dcterms:created>
  <dc:creator>WinuE</dc:creator>
  <dc:description/>
  <dc:language>en-US</dc:language>
  <cp:lastModifiedBy>berni</cp:lastModifiedBy>
  <dcterms:modified xsi:type="dcterms:W3CDTF">2010-03-04T13:10:44Z</dcterms:modified>
  <cp:revision>1</cp:revision>
  <dc:subject/>
  <dc:title>Por culpa de estos judíos!</dc:title>
</cp:coreProperties>
</file>