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2CFA-CB3A-465E-987C-993F97F18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007A-ED96-4F2C-ADF5-14987391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1314-E30D-4525-859B-FE4353C1C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1C33-5830-4D4A-8780-AE4D1F262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BE57-6B87-498F-829E-D5671EB0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8531-F727-457B-A03B-4D2E82FD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890A-3998-452F-82EB-EE28931E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B81C-CE9E-4939-ADEA-FD66C01A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A708-11A3-422F-8CA4-83741244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4C64-D2A3-41F1-838C-A8F09749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014D-B60B-40AB-8A09-67222D84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333E-68CE-487D-827B-1A8A4C12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2DC2-9CA2-4919-AA40-BA5279629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hyperlink" Target="http://www.diapositivas.com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hyperlink" Target="http://www.diapositivas.com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4.gif"/><Relationship Id="rId4" Type="http://schemas.openxmlformats.org/officeDocument/2006/relationships/hyperlink" Target="http://www.diapositivas.com/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hyperlink" Target="http://www.diapositivas.com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hyperlink" Target="http://www.diapositivas.com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hyperlink" Target="http://www.diapositivas.com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hyperlink" Target="http://www.diapositivas.com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hyperlink" Target="http://www.diapositivas.com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hyperlink" Target="http://www.diapositivas.com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hyperlink" Target="http://www.diapositivas.com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hyperlink" Target="http://www.diapositivas.com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2480" y="274320"/>
            <a:ext cx="829152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000000"/>
                </a:solidFill>
                <a:latin typeface="Arial"/>
              </a:rPr>
              <a:t>Una</a:t>
            </a:r>
            <a:br>
              <a:rPr sz="8000"/>
            </a:br>
            <a:r>
              <a:rPr b="1" i="1" lang="es-ES_tradnl" sz="8000" spc="-1" strike="noStrike">
                <a:solidFill>
                  <a:srgbClr val="000000"/>
                </a:solidFill>
                <a:latin typeface="Arial"/>
              </a:rPr>
              <a:t>placentera</a:t>
            </a:r>
            <a:br>
              <a:rPr sz="8000"/>
            </a:br>
            <a:r>
              <a:rPr b="1" i="1" lang="es-ES_tradnl" sz="8000" spc="-1" strike="noStrike">
                <a:solidFill>
                  <a:srgbClr val="000000"/>
                </a:solidFill>
                <a:latin typeface="Arial"/>
              </a:rPr>
              <a:t>  enfermedad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505560"/>
            <a:ext cx="324000" cy="352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El hombre, un tanto apenado, pero aún curioso, dice: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- Nunca había escuchado algo así. ¿Y qué está tomando para su enfermedad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6505560"/>
            <a:ext cx="324000" cy="352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a mujer sonríe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y contesta: </a:t>
            </a:r>
            <a:br>
              <a:rPr sz="4400"/>
            </a:br>
            <a:r>
              <a:rPr b="1" i="1" lang="en-US" sz="9600" spc="-1" strike="noStrike">
                <a:solidFill>
                  <a:srgbClr val="000000"/>
                </a:solidFill>
                <a:latin typeface="Arial"/>
              </a:rPr>
              <a:t>- Pimien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6505560"/>
            <a:ext cx="324000" cy="352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2381040" cy="1895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   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U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hombre y una mujer están sentados, uno al lado  del otro, en la sección de primera clase de un avión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6505560"/>
            <a:ext cx="324000" cy="352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..La mujer estornuda, saca un kleenex, se limpia cuidadosamente la nariz y se estremece violentamente.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6505560"/>
            <a:ext cx="324000" cy="352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..El hombre no está muy seguro del porqué del estremecimiento y continúa su lectura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6505560"/>
            <a:ext cx="324000" cy="352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..Pocos minutos después, la mujer estornuda de nuevo. </a:t>
            </a:r>
            <a:br>
              <a:rPr sz="4400"/>
            </a:b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..Saca un kleenex, se limpia cuidadosamente la nariz y se </a:t>
            </a:r>
            <a:br>
              <a:rPr sz="4400"/>
            </a:b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estremece violentamente en su asiento.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6505560"/>
            <a:ext cx="324000" cy="352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El hombre está ahora más que curioso acerca del estremecimiento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6505560"/>
            <a:ext cx="324000" cy="352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A los pocos minutos, la dama estornuda de nuevo. Saca un kleenex, se limpia cuidadosamente la nariz y de nuevo se estremece violentamente.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6505560"/>
            <a:ext cx="324000" cy="352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El tipo ya no puede contener la curiosidad y le dice a la mujer: </a:t>
            </a:r>
            <a:br>
              <a:rPr sz="4400"/>
            </a:b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- Tres veces ha estornudado, ha sacado un kleenex y se ha limpiado la nariz, para luego estremecerse </a:t>
            </a:r>
            <a:br>
              <a:rPr sz="4400"/>
            </a:b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violentamente. ¿Qué es lo que le pasa?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6505560"/>
            <a:ext cx="324000" cy="352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a mujer contesta: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- Discúlpeme si lo he molestado. Sufro de una rara enfermedad que provoca que cada vez que estornudo, tenga un orgasmo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6505560"/>
            <a:ext cx="324000" cy="352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21:47:32Z</dcterms:created>
  <dc:creator>pacomiky</dc:creator>
  <dc:description/>
  <dc:language>en-US</dc:language>
  <cp:lastModifiedBy>OEM</cp:lastModifiedBy>
  <dcterms:modified xsi:type="dcterms:W3CDTF">2007-05-16T15:41:36Z</dcterms:modified>
  <cp:revision>5</cp:revision>
  <dc:subject/>
  <dc:title>Diapositiva 1</dc:title>
</cp:coreProperties>
</file>