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038-4FDD-4F8C-8E27-F1086586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768-EB5C-4C90-81E1-B3CF1B5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3E3-6449-443E-9657-83FF328D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C24-A166-45CD-A9D7-065B924A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B8A-0852-4098-B26E-CBB51BA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AB9-DA1F-4918-885D-EC48CDC1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36B-0CC6-4A19-AB3F-EB61274D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6D4-5BA0-489D-9DAC-593D6330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662-7849-4655-A56D-5ED61D5E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31B-5AD2-4090-855F-DC3B911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039-78D9-46BF-A59E-DC483D4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373-9E02-4E16-98AA-070A7FA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172-1A54-490D-91F7-78A7D999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hyperlink" Target="http://www.diapositivas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480" y="274320"/>
            <a:ext cx="8291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Una</a:t>
            </a:r>
            <a:br>
              <a:rPr sz="8000"/>
            </a:b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placentera</a:t>
            </a:r>
            <a:br>
              <a:rPr sz="8000"/>
            </a:b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  enfermedad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 hombre, un tanto apenado, pero aún curioso, dice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Nunca había escuchado algo así. ¿Y qué está tomando para su enfermedad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mujer sonríe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y contesta: </a:t>
            </a:r>
            <a:br>
              <a:rPr sz="4400"/>
            </a:b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- Pimien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381040" cy="189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ombre y una mujer están sentados, uno al lado  del otro, en la sección de primera clase de un avió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La mujer estornuda, saca un kleenex, se limpia cuidadosamente la nariz y se estremece violentamente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..El hombre no está muy seguro del porqué del estremecimiento y continúa su lectur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Pocos minutos después, la mujer estornuda de nuevo.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Saca un kleenex, se limpia cuidadosamente la nariz y se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remece violentamente en su asiento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 hombre está ahora más que curioso acerca del estremecimient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 los pocos minutos, la dama estornuda de nuevo. Saca un kleenex, se limpia cuidadosamente la nariz y de nuevo se estremece violentamente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l tipo ya no puede contener la curiosidad y le dice a la mujer: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- Tres veces ha estornudado, ha sacado un kleenex y se ha limpiado la nariz, para luego estremecerse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violentamente. ¿Qué es lo que le pasa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mujer contesta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Discúlpeme si lo he molestado. Sufro de una rara enfermedad que provoca que cada vez que estornudo, tenga un orgasm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1:47:32Z</dcterms:created>
  <dc:creator>pacomiky</dc:creator>
  <dc:description/>
  <dc:language>en-US</dc:language>
  <cp:lastModifiedBy>OEM</cp:lastModifiedBy>
  <dcterms:modified xsi:type="dcterms:W3CDTF">2007-05-16T15:41:36Z</dcterms:modified>
  <cp:revision>5</cp:revision>
  <dc:subject/>
  <dc:title>Diapositiva 1</dc:title>
</cp:coreProperties>
</file>