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9.png" ContentType="image/png"/>
  <Override PartName="/ppt/media/image20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8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media/image9.jpeg" ContentType="image/jpeg"/>
  <Override PartName="/ppt/media/image12.jpeg" ContentType="image/jpeg"/>
  <Override PartName="/ppt/media/image11.jpeg" ContentType="image/jpeg"/>
  <Override PartName="/ppt/media/image31.gif" ContentType="image/gif"/>
  <Override PartName="/ppt/media/image27.jpeg" ContentType="image/jpeg"/>
  <Override PartName="/ppt/media/Eva%20Cassidy%20over%20rainbow.wav" ContentType="audio/x-wav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4E9C7-E884-4510-99DC-EEFF755892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C0141-9A46-4C2F-A7D9-E86EE5762B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62C3B-0B4C-49F2-9511-F375014D76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1B031-B08D-471E-9653-1DAD01CB4C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DDE98-E7EB-42D6-8B13-5BDC36F887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858C1-726C-4604-9051-4073B4FA68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7D78B-26D2-4E05-BD3E-CA36225E58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DC18-D1E7-42C2-BCE6-060A0015A6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730B-1D5A-46FD-A92E-81739899AA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072F1-579E-4C10-B9FF-857AA0281A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3AAC-AE32-4870-8C32-281BEFBE46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F0AB9-56B3-4F59-8C2F-2C75FEE889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E2E35-489B-4E07-B12E-063999C013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11609-2FBA-4E5C-BB62-2D07788974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F3F40-39DD-483F-8070-452724F3E6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1E16C-B695-4137-92A3-2A1EC59362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3AB6C-136D-4824-9750-3D5377A7A9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2598B-96D1-422E-90B2-6B8B1248A0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8BD60-3A1F-407B-B873-0516EA5F43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F2C2B-7912-4B8A-8BE4-D86A35B65E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8DAB6-F705-45B3-8F58-C6D5F1911A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31D91-B4D6-493E-A27A-75CC9BA818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FE465-3E91-4A0C-A640-31B0533D67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723B7-613D-4F50-97AA-EC58572BCB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37D36-8F51-4567-96E1-64CC4C28FE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90AC9-BC5A-40C0-8D94-4A1BCC2B4D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DDA64-E5A9-4B66-B72D-B420D1DFED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E43D9-F0E1-425C-A1EA-FD559D803E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7AFC3-642C-4F39-8D53-0E386D595B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FEB7-861C-4750-96F3-D5A2B5F54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18DE-E03C-4374-AEA1-D8EC40943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E599-C49E-4149-A854-76BBE9831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BC2E-BFED-43A6-A2E7-FACAFBA00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FA9B-6A3D-4809-BB04-2F3C840B9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F0F5-85FA-4F76-908C-2ABEEF839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B075-CD4A-418E-9CEA-3519BBE74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12CA-4D12-41BA-BF71-C787E83E8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EE71-A43D-42C5-94B5-95BF52199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7DEA-273B-4F24-B5A0-C29090AD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D126-4379-47AD-AA81-1847612B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742E-50E5-4E5F-AFDD-75AD546A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00EFD-E098-4814-8B6C-4E4BDBDD22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Eva%20Cassidy%20over%20rainbow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Galveston Tree Carvin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7215120" y="3929040"/>
            <a:ext cx="1714680" cy="17398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Photos and 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Jack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7643880" y="5572080"/>
            <a:ext cx="150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s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7215120" y="5929200"/>
            <a:ext cx="192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ver the Rainb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7788960" y="5857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6143760" y="6215040"/>
            <a:ext cx="27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ace bar advances Sl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Slide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Slide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Slide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Slide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Slide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Slide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Slide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Slide1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Slide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Slide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Slide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Slide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Slide2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Slide2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Slide2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Slide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Slide2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Slide2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Box 3"/>
          <p:cNvSpPr/>
          <p:nvPr/>
        </p:nvSpPr>
        <p:spPr>
          <a:xfrm>
            <a:off x="5000760" y="285840"/>
            <a:ext cx="4000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y  hats  off  to  the   people of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alveston’s Historic District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o   worked and restored this neighborh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it’s pre 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l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Galveston Isla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Gal2.bmp"/>
          <p:cNvPicPr/>
          <p:nvPr/>
        </p:nvPicPr>
        <p:blipFill>
          <a:blip r:embed="rId2"/>
          <a:stretch/>
        </p:blipFill>
        <p:spPr>
          <a:xfrm>
            <a:off x="7500960" y="5000760"/>
            <a:ext cx="1676520" cy="1857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Gal2.bmp"/>
          <p:cNvPicPr/>
          <p:nvPr/>
        </p:nvPicPr>
        <p:blipFill>
          <a:blip r:embed="rId3"/>
          <a:stretch/>
        </p:blipFill>
        <p:spPr>
          <a:xfrm>
            <a:off x="0" y="5000760"/>
            <a:ext cx="1676520" cy="1857240"/>
          </a:xfrm>
          <a:prstGeom prst="rect">
            <a:avLst/>
          </a:prstGeom>
          <a:ln w="0">
            <a:noFill/>
          </a:ln>
        </p:spPr>
      </p:pic>
      <p:pic>
        <p:nvPicPr>
          <p:cNvPr id="84" name="Rectangle 7" descr=""/>
          <p:cNvPicPr/>
          <p:nvPr/>
        </p:nvPicPr>
        <p:blipFill>
          <a:blip r:embed="rId4"/>
          <a:stretch/>
        </p:blipFill>
        <p:spPr>
          <a:xfrm>
            <a:off x="1743120" y="4614840"/>
            <a:ext cx="5718240" cy="1481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Texas1a3.gif"/>
          <p:cNvPicPr/>
          <p:nvPr/>
        </p:nvPicPr>
        <p:blipFill>
          <a:blip r:embed="rId5"/>
          <a:stretch/>
        </p:blipFill>
        <p:spPr>
          <a:xfrm>
            <a:off x="3981600" y="5857920"/>
            <a:ext cx="1180800" cy="285840"/>
          </a:xfrm>
          <a:prstGeom prst="rect">
            <a:avLst/>
          </a:prstGeom>
          <a:ln w="0">
            <a:noFill/>
          </a:ln>
        </p:spPr>
      </p:pic>
      <p:sp>
        <p:nvSpPr>
          <p:cNvPr id="86" name="TextBox 9"/>
          <p:cNvSpPr/>
          <p:nvPr/>
        </p:nvSpPr>
        <p:spPr>
          <a:xfrm>
            <a:off x="4714920" y="571500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0"/>
          <p:cNvSpPr/>
          <p:nvPr/>
        </p:nvSpPr>
        <p:spPr>
          <a:xfrm>
            <a:off x="3357720" y="621180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jcrossoo2@comcast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1"/>
          <p:cNvSpPr/>
          <p:nvPr/>
        </p:nvSpPr>
        <p:spPr>
          <a:xfrm>
            <a:off x="7215120" y="35712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st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Slide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Slide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Slide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Slide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Slide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Slide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Slide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03:08:45Z</dcterms:created>
  <dc:creator>Jack</dc:creator>
  <dc:description/>
  <dc:language>en-US</dc:language>
  <cp:lastModifiedBy>Jack</cp:lastModifiedBy>
  <dcterms:modified xsi:type="dcterms:W3CDTF">2010-06-09T05:24:29Z</dcterms:modified>
  <cp:revision>6</cp:revision>
  <dc:subject/>
  <dc:title>Slide 1</dc:title>
</cp:coreProperties>
</file>