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27.jpeg" ContentType="image/jpeg"/>
  <Override PartName="/ppt/media/Eva%20Cassidy%20over%20rainbow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75D-0792-4A61-AF17-AFBC1B71D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119-0F5F-4281-82AF-E79F64A37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368-2FB3-4AD4-A8A6-F061A2B66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6FF-A60C-4EF9-82C1-C2D266C4F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34E-0F76-4B0D-873F-B529253F8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5042-9AFF-4CF3-975E-2FE4D050A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8172-09F3-4EE3-B486-A3A36B6A2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E54-ABC3-4971-BB51-902AD640A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436B-06CC-4F7A-A3EF-12855A053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96A-98AB-4C0C-BF73-691D8F808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226-5227-475F-94F9-9FA45F996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881F-B3B2-4D3C-B8EC-95DC6B683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9489-A33F-4395-83F8-66D258427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FD9-F778-4C2B-8E25-0F00C0191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D691-5FAA-41B4-AE3E-A62F77E6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143-D57B-4121-B05A-DB3D63EB0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4B11-7FD9-4F7B-BBE7-A80EA9847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0713-7B5C-4172-89D1-181C7733B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FFD-BEB8-4705-B777-D9B824E0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60AF-36EC-4BD8-9492-33ADD1F7C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6622-CF82-4674-9B2E-2775C6B37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38B-26D5-4D46-B7E0-D62C5F565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538-8255-455F-AD28-A30F345B5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A28-5809-4C81-B025-A6259C09F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C702-1BF4-4091-B0EF-C2BA7A045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6C3-A2A1-42B2-AEC8-8E5C10953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EAE-E609-4EB7-993B-36CE9C8CB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087-CA35-4D74-9F8E-53479FBE8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8B85-7C6F-4616-B565-5E0A7205F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C2F-04A5-449D-87C2-22B66D8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9FB-A1CF-4283-B0D1-7F0F68C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02C-928A-467C-BA5D-5C2CD700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BC-A652-48BB-B3E0-0AF7E74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0B4-0E75-4D60-9CD1-6A9E30ED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D8A-5C73-4047-B6F8-0D15FBD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58E-8B9F-4E0B-A152-7E4A4A0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91E-BCE4-460E-8F5B-37AF0BF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7A1-0071-4E9A-A6D3-C482948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9C0-2CEF-4CCD-B974-5FF8A48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54C-3FFF-408A-9E2B-CBFC83F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142-B181-49B5-8ADC-0886C43A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6EB-FE7C-43D1-844F-7ADFC8731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a%20Cassidy%20over%20rainb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Galveston Tree Carv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215120" y="3929040"/>
            <a:ext cx="1714680" cy="173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otos and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Jack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643880" y="55720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215120" y="592920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 the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788960" y="585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43760" y="621504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 bar advance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Slid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Slid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lid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Slid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lid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5000760" y="28584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 hats  off  to  the   peopl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lveston’s Historic Distric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  worked and restored this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it’s pre 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alveston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al2.bmp"/>
          <p:cNvPicPr/>
          <p:nvPr/>
        </p:nvPicPr>
        <p:blipFill>
          <a:blip r:embed="rId2"/>
          <a:stretch/>
        </p:blipFill>
        <p:spPr>
          <a:xfrm>
            <a:off x="750096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al2.bmp"/>
          <p:cNvPicPr/>
          <p:nvPr/>
        </p:nvPicPr>
        <p:blipFill>
          <a:blip r:embed="rId3"/>
          <a:stretch/>
        </p:blipFill>
        <p:spPr>
          <a:xfrm>
            <a:off x="0" y="5000760"/>
            <a:ext cx="1676520" cy="18572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4"/>
          <a:stretch/>
        </p:blipFill>
        <p:spPr>
          <a:xfrm>
            <a:off x="1743120" y="4614840"/>
            <a:ext cx="5718240" cy="148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Texas1a3.gif"/>
          <p:cNvPicPr/>
          <p:nvPr/>
        </p:nvPicPr>
        <p:blipFill>
          <a:blip r:embed="rId5"/>
          <a:stretch/>
        </p:blipFill>
        <p:spPr>
          <a:xfrm>
            <a:off x="3981600" y="5857920"/>
            <a:ext cx="1180800" cy="285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714920" y="5715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357720" y="6211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jcrossoo2@comcas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7215120" y="3571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3:08:45Z</dcterms:created>
  <dc:creator>Jack</dc:creator>
  <dc:description/>
  <dc:language>en-US</dc:language>
  <cp:lastModifiedBy>Jack</cp:lastModifiedBy>
  <dcterms:modified xsi:type="dcterms:W3CDTF">2010-06-09T05:24:29Z</dcterms:modified>
  <cp:revision>6</cp:revision>
  <dc:subject/>
  <dc:title>Slide 1</dc:title>
</cp:coreProperties>
</file>