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Ernesto%20Cort%C3%A1zar%20-%20Piruette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E51-1693-439D-9AEB-617B7E5B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5C5-DB1C-41C6-855B-9561D082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A88-CA90-4419-9108-BA4B6197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72C-B820-4D89-A708-4F3215CB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0034-8466-4C0C-A344-7779A0AB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5654-7ECF-416B-A1FF-3588E0A2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7999-0526-4847-8852-628BD745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44C7-E0E3-49AB-AEBB-59746A3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569A-8D0B-4DB1-856B-D131DC20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B26C-FB43-42C1-A167-8911FDF1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FA4D-FB88-429A-94E5-4DE9595A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58A-B6E1-4732-BC8B-28711968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04A0-51CA-48A3-9A11-23BC0BD4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3A02-72C0-482C-8BC9-53B7ED7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1A06-E992-4C9C-98B3-784CBECD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F3EB-D4A6-4B7F-97C4-2AE8E214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3E0C-A822-40A3-80A2-AA8E6E52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220-62CD-4F5B-B7CB-41049BBB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B3C-0A86-4F21-81B8-350FD6FB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E17-FE47-4BD3-91E8-5B696DCD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751-699A-403F-AE0C-80EFF736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304-18C2-4DCB-9FB6-AD79AF8C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167-373F-4E6D-9E32-F856FA6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AE6-19FA-4C63-91F7-FB95A92C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B899-67F2-45DB-A4B2-871DB7B3128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F438-C7AF-4C50-A77F-03F1A78B65D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rnesto%20Cort&#225;zar%20-%20Piruett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6"/>
          <p:cNvSpPr txBox="1"/>
          <p:nvPr/>
        </p:nvSpPr>
        <p:spPr>
          <a:xfrm>
            <a:off x="1371600" y="1676520"/>
            <a:ext cx="60199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ugares</a:t>
            </a:r>
            <a:endParaRPr b="0" i="1" lang="en-US" sz="1800" spc="1" strike="noStrike">
              <a:ln w="3492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creibles</a:t>
            </a:r>
            <a:endParaRPr b="0" i="1" lang="en-US" sz="1800" spc="1" strike="noStrike">
              <a:ln w="3492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>
    <p:fade/>
    <p:sndAc>
      <p:stSnd>
        <p:snd r:embed="rId1" name="Ernesto%20Cort%C3%A1zar%20-%20Piruett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Insolito tunel natural en un parque de Californi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0" y="380880"/>
            <a:ext cx="915336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Isla artificial con aeropuerto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Islas Madivas (Oceano Indico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28440" y="380880"/>
            <a:ext cx="911556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1828800" y="2643480"/>
            <a:ext cx="5257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En Montana (USA), el agua es tan transparente, que parece de poca profundidad, pero no lo es.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1828800" y="2643480"/>
            <a:ext cx="5257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Puente sobre el mar, mas largo del mundo. China. 36 kilometros y 8 canales de circulacion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6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1828800" y="2277720"/>
            <a:ext cx="52578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Migracion de mantarayas 2 veces al año. Mas de 10.000 nadan en primavera desde la peninsula de Yucatan (Mexico), hasta Florida, y regresan en invierno.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0" y="380880"/>
            <a:ext cx="912168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1905120" y="2142720"/>
            <a:ext cx="5257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El carrusel mas alto del mundo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Viena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117 metros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Frontera entre Holanda y Belgic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En un restaurant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6" descr="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19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828800" y="2094840"/>
            <a:ext cx="52578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Fenomeno natural en Dinamarca.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En este punto convergen el Mar Baltico, y el Mar del Norte, pero NO SE MEZCLAN, por ser de diferentes densidades.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6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1828800" y="3009240"/>
            <a:ext cx="5257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Hora pico en una autopista chin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1219320" y="525600"/>
            <a:ext cx="647676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Torre “Luna creciente”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Dubai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601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Rio sobre rio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Alemani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75720" cy="655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651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Aeropuerto en plena ciudad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Gibraltar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41936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Dia nublado en Dubai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Edificios de mas de 160 pisos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9948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1828800" y="2643480"/>
            <a:ext cx="5257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Restaurant en Zanzibar, Tanzania, Afric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Accesible solo en barco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2188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rater de volcan extinguido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Nueva Zelanda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57:45Z</dcterms:created>
  <dc:creator>P. Gregorio</dc:creator>
  <dc:description/>
  <dc:language>en-US</dc:language>
  <cp:lastModifiedBy>DT</cp:lastModifiedBy>
  <dcterms:modified xsi:type="dcterms:W3CDTF">2012-01-11T04:05:26Z</dcterms:modified>
  <cp:revision>14</cp:revision>
  <dc:subject/>
  <dc:title>Diapositiva 1</dc:title>
</cp:coreProperties>
</file>