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Ernesto%20Cort%C3%A1zar%20-%20Piruette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176-7C97-44A1-A34E-B820EF78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CA0-2C3A-466C-BE22-D10F9FB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776-C35A-4EB7-92B6-947D1EDC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2D3-846F-4B13-9C90-C01976DA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399F-B39A-4F87-8CE2-C2DDCD22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8492-B45A-4D4C-987A-2436AD9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6C53-7D76-484D-883A-EB7B675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ADA9-5DEB-48AE-B9BA-CE6BE1C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B5B-C3F4-4BFF-9794-10CCEE0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3FE8-9B46-4E53-BEA4-BA1A1B92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C71E-A8E4-4889-89BF-12EAB40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0DD-581B-46F6-A8B9-D3958F9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9EE4-DD5B-4401-8544-4ABC6466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03F2-2F36-414B-875C-84ED66F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25E9-0F1C-4E4B-91FF-A6E211D0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6F70-ED1D-4D77-88C8-9857A8DF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B954-A65E-44E5-92C7-BC83E131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42C-6A76-4DC3-9016-06C1B9B0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AA6-76B2-4F8F-B1C8-C03E48A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29C-5FAF-4970-9AB4-58B6A117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221-851E-4A1C-B1DF-C66DDF0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628-D2BB-4376-8055-13D5A6D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7F6-91E1-4D18-9DFA-CA667512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F9F-F6D9-4DFB-9D05-B55AC04C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E9EA-E740-4995-99CD-CEA632B39B6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Gill Sans MT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Gill Sans MT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Gill Sans MT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Gill Sans MT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FB11-07DA-4EB6-AC31-1493CAD732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rnesto%20Cort&#225;zar%20-%20Piruett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6"/>
          <p:cNvSpPr txBox="1"/>
          <p:nvPr/>
        </p:nvSpPr>
        <p:spPr>
          <a:xfrm>
            <a:off x="1371600" y="1676520"/>
            <a:ext cx="60199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ugares</a:t>
            </a:r>
            <a:endParaRPr b="0" i="1" lang="en-US" sz="1800" spc="1" strike="noStrike">
              <a:ln w="3492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49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creibles</a:t>
            </a:r>
            <a:endParaRPr b="0" i="1" lang="en-US" sz="1800" spc="1" strike="noStrike">
              <a:ln w="3492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fade/>
    <p:sndAc>
      <p:stSnd>
        <p:snd r:embed="rId1" name="Ernesto%20Cort%C3%A1zar%20-%20Piruett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Insolito tunel natural en un parque de Californi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915336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Isla artificial con aeropuert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Islas Madivas (Oceano Indico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28440" y="380880"/>
            <a:ext cx="911556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1828800" y="264348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n Montana (USA), el agua es tan transparente, que parece de poca profundidad, pero no lo es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828800" y="264348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Puente sobre el mar, mas largo del mundo. China. 36 kilometros y 8 canales de circulacion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6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828800" y="2277720"/>
            <a:ext cx="52578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Migracion de mantarayas 2 veces al año. Mas de 10.000 nadan en primavera desde la peninsula de Yucatan (Mexico), hasta Florida, y regresan en invierno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0" y="380880"/>
            <a:ext cx="91216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905120" y="214272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l carrusel mas alto del mund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Viena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117 metros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Frontera entre Holanda y Belgic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En un restaurant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6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828800" y="2094840"/>
            <a:ext cx="52578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Fenomeno natural en Dinamarca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En este punto convergen el Mar Baltico, y el Mar del Norte, pero NO SE MEZCLAN, por ser de diferentes densidades.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1828800" y="3009240"/>
            <a:ext cx="5257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Hora pico en una autopista chin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1219320" y="525600"/>
            <a:ext cx="647676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Torre “Luna creciente”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ubai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216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Rio sobre ri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Alemani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75720" cy="655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651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Aeropuerto en plena ciudad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Gibraltar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41936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ia nublado en Dubai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Edificios de mas de 160 pisos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9948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1828800" y="2643480"/>
            <a:ext cx="5257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Restaurant en Zanzibar, Tanzania, Africa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Accesible solo en barco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2188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828800" y="2826360"/>
            <a:ext cx="52578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rater de volcan extinguido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(Nueva Zelanda)</a:t>
            </a:r>
            <a:endParaRPr b="0" lang="en-US" sz="24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57:45Z</dcterms:created>
  <dc:creator>P. Gregorio</dc:creator>
  <dc:description/>
  <dc:language>en-US</dc:language>
  <cp:lastModifiedBy>DT</cp:lastModifiedBy>
  <dcterms:modified xsi:type="dcterms:W3CDTF">2012-01-11T04:05:26Z</dcterms:modified>
  <cp:revision>14</cp:revision>
  <dc:subject/>
  <dc:title>Diapositiva 1</dc:title>
</cp:coreProperties>
</file>