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E9F-CE6D-4896-B60D-A824D62A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F99-8F5C-498D-A701-18C6CF7F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CE1-C66C-456B-977C-E7A4899F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115-EC92-450F-A854-45C60180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B22-8624-4A2C-A1EC-C3F9708D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34BA-70F6-42B7-99BE-2873F2C0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D5B1-2A0A-4B40-A1CA-2F429CBC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B53-459F-4E5E-882F-44D9D85F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08C-900D-4AAC-B00F-4D677026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AAB-D87F-4667-8A1D-EE8AD72E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E2BC-4D35-442D-9104-FD5EDA68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A49-7C2F-4593-B122-8C631738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15F3-A330-497E-91D6-5553BE2CB48B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219640" y="5950080"/>
            <a:ext cx="37720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Arial"/>
              </a:rPr>
              <a:t>El Pequeño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00720" y="4653000"/>
            <a:ext cx="4392360" cy="2041560"/>
          </a:xfrm>
          <a:prstGeom prst="rect">
            <a:avLst/>
          </a:prstGeom>
          <a:gradFill rotWithShape="0">
            <a:gsLst>
              <a:gs pos="0">
                <a:srgbClr val="ccffcc">
                  <a:alpha val="44313"/>
                </a:srgbClr>
              </a:gs>
              <a:gs pos="100000">
                <a:srgbClr val="d2fed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Motor de 108.920 cv</a:t>
            </a:r>
            <a:br>
              <a:rPr sz="2400"/>
            </a:b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Dimensiones: 26.7m x 13.2m</a:t>
            </a:r>
            <a:br>
              <a:rPr sz="2400"/>
            </a:b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Peso: 2300 Tons</a:t>
            </a:r>
            <a:br>
              <a:rPr sz="2400"/>
            </a:b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Consumo :</a:t>
            </a:r>
            <a:br>
              <a:rPr sz="2400"/>
            </a:b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6.275 litros por 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19160" cy="6276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505320" y="1447920"/>
            <a:ext cx="5333760" cy="5052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356000" y="333360"/>
            <a:ext cx="3829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Cigueñ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200400" cy="6264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780000" y="3083040"/>
            <a:ext cx="5111640" cy="3479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564000" y="1052640"/>
            <a:ext cx="55800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Pistones de 1 metro de diáme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451640" cy="5046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58920" y="333360"/>
            <a:ext cx="65498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Block y Camisas de Cilind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587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"/>
              </a:rPr>
              <a:t>Carga hasta 15.000 Conten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919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"/>
              </a:rPr>
              <a:t>Contruído solo para alta mar, no pasa el Canal de Suez ni el Canal de Panamá</a:t>
            </a: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21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ué construído en 5 secciones flotantes y después mon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68640" y="0"/>
            <a:ext cx="5175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108000" y="1268280"/>
            <a:ext cx="3995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333399"/>
                </a:solidFill>
                <a:latin typeface="Arial"/>
              </a:rPr>
              <a:t>La cabina de comando está a más de 10 pisos de a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67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avega a 31 nudos, 18 a 20 veces más que otras embarcaciones, permitiendo atravesar el Océano Pacífico desde China a California en 4 d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035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1 Gruas operan simultaneamente para la carga y des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3006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Bandera – Dinamarca</a:t>
            </a:r>
            <a:br>
              <a:rPr sz="1800"/>
            </a:b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Eslora – 396,84 metros </a:t>
            </a:r>
            <a:br>
              <a:rPr sz="1800"/>
            </a:b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Manga – 63,1 metros </a:t>
            </a:r>
            <a:br>
              <a:rPr sz="1800"/>
            </a:b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Carga Neta – 123,200 tons </a:t>
            </a:r>
            <a:br>
              <a:rPr sz="1800"/>
            </a:b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Motor Diesel – 10 Cilindros</a:t>
            </a: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en línea (110,000 BH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607860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Tipulación – 13 personas - 08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Septiembr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Costo de Construcción - US$ 145.00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5:46:09Z</dcterms:created>
  <dc:creator>Marius Lambert</dc:creator>
  <dc:description/>
  <dc:language>en-US</dc:language>
  <cp:lastModifiedBy>hmora</cp:lastModifiedBy>
  <dcterms:modified xsi:type="dcterms:W3CDTF">2008-06-17T17:31:38Z</dcterms:modified>
  <cp:revision>12</cp:revision>
  <dc:subject/>
  <dc:title>Diapositive 1</dc:title>
</cp:coreProperties>
</file>