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The%20Oracle%20Of%20Apollo%20Vangelis%20Direct%20New%20Age%20128kbps%2008.wav" ContentType="audio/x-wav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AD5-F1F8-4E4D-A12F-531F51EB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D79-C289-4737-9957-91B23ED3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C3A-290C-4F63-A70D-63E824FA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CAD-190D-4586-AD4C-DA6674D2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9BC-ED9B-4041-80CB-F904A62B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6DE-1F95-49CB-84B5-36ABD9CC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844-8F3D-43DC-9892-AEFFA80A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9C2-ADA3-4317-91BE-33BEBD3D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E86-7C4B-4F0B-8D3E-550E1EBC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BFF-2AB7-4C14-86CD-175BDE2B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1F1-3FF9-4B8C-B7E3-A2C4FD93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8AC-F07B-4F6D-9675-AF542718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256C-D83C-45C4-9764-D585B07F5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audio" Target="../media/The%20Oracle%20Of%20Apollo%20Vangelis%20Direct%20New%20Age%20128kbps%2008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davichu.files.wordpress.com/2007/10/crop-circle-1.jpg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davichu.files.wordpress.com/2007/10/crop-2.jpg" TargetMode="External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lproyectomatriz.files.wordpress.com/2007/08/141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elproyectomatriz.files.wordpress.com/2007/08/123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elproyectomatriz.files.wordpress.com/2007/08/93.jpg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476280"/>
            <a:ext cx="8353440" cy="597708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24000" y="476280"/>
            <a:ext cx="8495640" cy="6048000"/>
            <a:chOff x="324000" y="476280"/>
            <a:chExt cx="8495640" cy="6048000"/>
          </a:xfrm>
        </p:grpSpPr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324000" y="476280"/>
              <a:ext cx="14292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8676720" y="542520"/>
              <a:ext cx="142920" cy="598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 rot="5400000">
              <a:off x="4519440" y="-3576600"/>
              <a:ext cx="174600" cy="82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 rot="5400000">
              <a:off x="4519440" y="2269800"/>
              <a:ext cx="174600" cy="828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  <p:sndAc>
      <p:stSnd>
        <p:snd r:embed="rId10" name="The%20Oracle%20Of%20Apollo%20Vangelis%20Direct%20New%20Age%20128kbps%200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crop3.jpg"/>
          <p:cNvPicPr/>
          <p:nvPr/>
        </p:nvPicPr>
        <p:blipFill>
          <a:blip r:embed="rId1"/>
          <a:stretch/>
        </p:blipFill>
        <p:spPr>
          <a:xfrm>
            <a:off x="826920" y="476280"/>
            <a:ext cx="7488360" cy="576900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pic>
        <p:nvPicPr>
          <p:cNvPr id="125" name="" descr="Una figura in un campo di grano apparsa nell'agosto del 2001: era larga 240 metri e comprendeva 410 figure Milk Hill (Inghilterra)."/>
          <p:cNvPicPr/>
          <p:nvPr/>
        </p:nvPicPr>
        <p:blipFill>
          <a:blip r:embed="rId2"/>
          <a:stretch/>
        </p:blipFill>
        <p:spPr>
          <a:xfrm>
            <a:off x="684360" y="476280"/>
            <a:ext cx="7848360" cy="602460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  <p:grpSp>
        <p:nvGrpSpPr>
          <p:cNvPr id="126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6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uk2007bc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uk2007bk"/>
          <p:cNvPicPr/>
          <p:nvPr/>
        </p:nvPicPr>
        <p:blipFill>
          <a:blip r:embed="rId2"/>
          <a:stretch/>
        </p:blipFill>
        <p:spPr>
          <a:xfrm>
            <a:off x="611280" y="692280"/>
            <a:ext cx="7986600" cy="5321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uk2007bk2"/>
          <p:cNvPicPr/>
          <p:nvPr/>
        </p:nvPicPr>
        <p:blipFill>
          <a:blip r:embed="rId3"/>
          <a:stretch/>
        </p:blipFill>
        <p:spPr>
          <a:xfrm>
            <a:off x="611280" y="620640"/>
            <a:ext cx="8136000" cy="568800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uk2007ar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829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uk2005cj"/>
          <p:cNvPicPr/>
          <p:nvPr/>
        </p:nvPicPr>
        <p:blipFill>
          <a:blip r:embed="rId2"/>
          <a:stretch/>
        </p:blipFill>
        <p:spPr>
          <a:xfrm>
            <a:off x="539640" y="620640"/>
            <a:ext cx="8209080" cy="6026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uk2005bk"/>
          <p:cNvPicPr/>
          <p:nvPr/>
        </p:nvPicPr>
        <p:blipFill>
          <a:blip r:embed="rId3"/>
          <a:stretch/>
        </p:blipFill>
        <p:spPr>
          <a:xfrm>
            <a:off x="324000" y="404640"/>
            <a:ext cx="8467560" cy="61930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6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7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272360" cy="612144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16000" y="314280"/>
            <a:ext cx="7272360" cy="62294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uk2005bb"/>
          <p:cNvPicPr/>
          <p:nvPr/>
        </p:nvPicPr>
        <p:blipFill>
          <a:blip r:embed="rId1"/>
          <a:stretch/>
        </p:blipFill>
        <p:spPr>
          <a:xfrm>
            <a:off x="539640" y="620640"/>
            <a:ext cx="8064720" cy="56167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grpSp>
        <p:nvGrpSpPr>
          <p:cNvPr id="15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uk2008ao2"/>
          <p:cNvPicPr/>
          <p:nvPr/>
        </p:nvPicPr>
        <p:blipFill>
          <a:blip r:embed="rId1"/>
          <a:stretch/>
        </p:blipFill>
        <p:spPr>
          <a:xfrm>
            <a:off x="468360" y="476280"/>
            <a:ext cx="8130960" cy="5773680"/>
          </a:xfrm>
          <a:prstGeom prst="rect">
            <a:avLst/>
          </a:prstGeom>
          <a:ln w="57240">
            <a:solidFill>
              <a:srgbClr val="737000"/>
            </a:solidFill>
            <a:miter/>
          </a:ln>
        </p:spPr>
      </p:pic>
      <p:grpSp>
        <p:nvGrpSpPr>
          <p:cNvPr id="16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842160" cy="5386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rop-circle-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620640"/>
            <a:ext cx="7416720" cy="5562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rop-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620640"/>
            <a:ext cx="7559640" cy="5538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[the+passageway+through+the+physical+world+to+the+divine+world.jpg]"/>
          <p:cNvPicPr/>
          <p:nvPr/>
        </p:nvPicPr>
        <p:blipFill>
          <a:blip r:embed="rId6"/>
          <a:stretch/>
        </p:blipFill>
        <p:spPr>
          <a:xfrm>
            <a:off x="611280" y="476280"/>
            <a:ext cx="7921440" cy="604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611280" y="404640"/>
            <a:ext cx="7920000" cy="619308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72" name="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9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1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80000" cy="5958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grpSp>
        <p:nvGrpSpPr>
          <p:cNvPr id="177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2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620640"/>
            <a:ext cx="8064360" cy="5688000"/>
          </a:xfrm>
          <a:prstGeom prst="rect">
            <a:avLst/>
          </a:prstGeom>
          <a:blipFill rotWithShape="0">
            <a:blip r:embed="rId1">
              <a:alphaModFix amt="35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2133720"/>
            <a:ext cx="48247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AGROGLIF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7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468360" y="476280"/>
            <a:ext cx="8351280" cy="5976720"/>
            <a:chOff x="468360" y="476280"/>
            <a:chExt cx="8351280" cy="5976720"/>
          </a:xfrm>
        </p:grpSpPr>
        <p:pic>
          <p:nvPicPr>
            <p:cNvPr id="60" name="" descr=""/>
            <p:cNvPicPr/>
            <p:nvPr/>
          </p:nvPicPr>
          <p:blipFill>
            <a:blip r:embed="rId8"/>
            <a:stretch/>
          </p:blipFill>
          <p:spPr>
            <a:xfrm>
              <a:off x="468360" y="476280"/>
              <a:ext cx="140400" cy="59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9"/>
            <a:stretch/>
          </p:blipFill>
          <p:spPr>
            <a:xfrm>
              <a:off x="8679240" y="541800"/>
              <a:ext cx="140400" cy="59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4592160" y="-3507120"/>
              <a:ext cx="172440" cy="81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1"/>
            <a:stretch/>
          </p:blipFill>
          <p:spPr>
            <a:xfrm rot="5400000">
              <a:off x="4592160" y="2270520"/>
              <a:ext cx="172440" cy="8139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2236320"/>
            <a:ext cx="7956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¿QUÉ SON LOS CÍRCULOS EN LAS COSECHAS O AGROGLIFOS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eños que inexplicablemente aparecen en los campos de trigo y otros sembradíos o en casi cualquier superficie de la tierra donde se pueda imprimir algo como la nieve o la are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te fenómeno se ha expandido por todo el mundo, aunque comenzó en Inglaterra, cerca de antiguos sitios arqueológicos durante los años set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parecen súbitamente en cuestión de minu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lo pueden ser vistos desde el aire debido a su gran tamaño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de sus primeras apariciones han mostrado formas de gran belleza asociadas a la Geometría Sagra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istemas Estela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os Chacras y a Símbolos Ancestrales o de las Culturas Aborig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132000" y="404640"/>
            <a:ext cx="2808360" cy="18766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1788120"/>
            <a:ext cx="795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 pesar de que para dibujarse aplastan las espigas de trigo o de la planta donde se impriman en ningún momento dañan la cosecha, se pueden ver remolinos de espigas aplastadas a unos noventa grados que continúan con su proceso de maduración como si nada hubiera sucedido. Tambien se presentan como tejidos de espigas o como espirale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uchos investigadores han detectado cambios en el sitio donde aparecen a nivel de los campos electromagnéticos. Inclusive se han reportado en muchos casos ausencia de comunicación por teléfonos celulares, brújulas fuera de control en helicópteros y aviones al sobrevolarlos, cese del funcionamiento de relojes, cámaras, baterías y otros aparato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ay muchas teorías sobre como se forman, lo que sí es cierto es que de ninguna manera hay explicación lógica a su existencia y son un fenómeno controversial en nuestra Tierra. Algunas de estas teorías so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2376360" cy="158760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  <p:grpSp>
        <p:nvGrpSpPr>
          <p:cNvPr id="73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71280" y="2332080"/>
            <a:ext cx="71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se producen sobre los cruces o puntos de la red planetaria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) Que son realizados por vórtices de plasma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3) Que tienen origen Extraterrestre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4) Que son una manifestación del espíritu de Gaia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5) Que es una manifestación de los Devas y Elementales terrestres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6) Que son creados por satélites o aparatos desde fuera de la órbita terrestre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7) Que son creados por humanos, artistas de paisaje. Hay algunos que se ha comprobado que son realmente realizados por seres hum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En los últimos años se ha descubierto que algunas veces predicen o anuncian algún evento astronómico importante a suced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3600360" cy="240516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  <p:grpSp>
        <p:nvGrpSpPr>
          <p:cNvPr id="80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448000" cy="163512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2520720" cy="158436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00720" y="2637000"/>
            <a:ext cx="2592360" cy="1884240"/>
          </a:xfrm>
          <a:prstGeom prst="rect">
            <a:avLst/>
          </a:prstGeom>
          <a:ln w="9360">
            <a:solidFill>
              <a:srgbClr val="6699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0920" y="2565360"/>
            <a:ext cx="2881080" cy="1747800"/>
          </a:xfrm>
          <a:prstGeom prst="rect">
            <a:avLst/>
          </a:prstGeom>
          <a:ln w="38160">
            <a:solidFill>
              <a:srgbClr val="9966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24000" y="4508640"/>
            <a:ext cx="2808000" cy="187164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804000" y="836640"/>
            <a:ext cx="1584360" cy="10634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348000" y="2708280"/>
            <a:ext cx="2819520" cy="367200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2987640" y="476280"/>
            <a:ext cx="3025800" cy="20080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grpSp>
        <p:nvGrpSpPr>
          <p:cNvPr id="94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95" name="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0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1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2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125360"/>
            <a:ext cx="6120000" cy="45770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47640" y="981000"/>
            <a:ext cx="6336000" cy="47372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101" name="" descr="1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19280" y="981000"/>
            <a:ext cx="6265800" cy="46846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102" name="" descr="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47640" y="981000"/>
            <a:ext cx="6809040" cy="472752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1403280" y="765000"/>
            <a:ext cx="6985080" cy="51850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971640" y="333360"/>
            <a:ext cx="7488000" cy="604836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grpSp>
        <p:nvGrpSpPr>
          <p:cNvPr id="10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06" name="" descr="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1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2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3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Un cerchio nel grano apparso nel luglio del 2001 a Old Shaw Villane (Inghilterra)"/>
          <p:cNvPicPr/>
          <p:nvPr/>
        </p:nvPicPr>
        <p:blipFill>
          <a:blip r:embed="rId1"/>
          <a:stretch/>
        </p:blipFill>
        <p:spPr>
          <a:xfrm>
            <a:off x="1547640" y="620640"/>
            <a:ext cx="6266160" cy="5554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632720" cy="568656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pic>
        <p:nvPicPr>
          <p:cNvPr id="112" name="" descr="uk2008al"/>
          <p:cNvPicPr/>
          <p:nvPr/>
        </p:nvPicPr>
        <p:blipFill>
          <a:blip r:embed="rId3"/>
          <a:stretch/>
        </p:blipFill>
        <p:spPr>
          <a:xfrm>
            <a:off x="468360" y="476280"/>
            <a:ext cx="8280360" cy="58341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6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7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b0e"/>
            </a:gs>
            <a:gs pos="50000">
              <a:srgbClr val="339933"/>
            </a:gs>
            <a:gs pos="100000">
              <a:srgbClr val="0e2b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913800" cy="6058080"/>
          </a:xfrm>
          <a:prstGeom prst="rect">
            <a:avLst/>
          </a:prstGeom>
          <a:ln w="57240">
            <a:solidFill>
              <a:srgbClr val="5452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8989920" y="75240"/>
              <a:ext cx="153720" cy="67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 rot="5400000">
              <a:off x="4510080" y="-4356720"/>
              <a:ext cx="198000" cy="89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5"/>
            <a:stretch/>
          </p:blipFill>
          <p:spPr>
            <a:xfrm rot="5400000">
              <a:off x="4510080" y="2272680"/>
              <a:ext cx="198000" cy="891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14:56:51Z</dcterms:created>
  <dc:creator>VIRGI</dc:creator>
  <dc:description/>
  <dc:language>en-US</dc:language>
  <cp:lastModifiedBy>VIRGI</cp:lastModifiedBy>
  <dcterms:modified xsi:type="dcterms:W3CDTF">2008-06-28T05:10:58Z</dcterms:modified>
  <cp:revision>3</cp:revision>
  <dc:subject/>
  <dc:title>Diapositiva 1</dc:title>
</cp:coreProperties>
</file>