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The%20Oracle%20Of%20Apollo%20Vangelis%20Direct%20New%20Age%20128kbps%2008.wav" ContentType="audio/x-wav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DAC9-7B57-428D-8F0F-78FB5D0D7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7A78-34C2-4C2D-A99A-E354BD2A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9CE5-67EC-4FCD-90C1-A10871A2A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8EBF-D505-471B-9BC2-0F7B9A601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54BE-B69D-41CD-8C05-68F6CB4D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54A9-7F58-4B3D-BA59-98B96BC4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7F24-171F-4037-8239-87191EB8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EC9A-FEC7-497D-AF1E-65679AAF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C04C-467F-413A-BD1B-EB7C424C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37CC-BD6B-4B37-B4B9-89C30854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0C77-F41B-4F90-9588-FCF4D611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2BA5-AA6C-4BFF-96DA-587E6E62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b0e"/>
            </a:gs>
            <a:gs pos="50000">
              <a:srgbClr val="339933"/>
            </a:gs>
            <a:gs pos="100000">
              <a:srgbClr val="0e2b0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F363-3234-4CE5-9B91-33ED8C463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audio" Target="../media/The%20Oracle%20Of%20Apollo%20Vangelis%20Direct%20New%20Age%20128kbps%2008.wav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hyperlink" Target="http://davichu.files.wordpress.com/2007/10/crop-circle-1.jpg" TargetMode="External"/><Relationship Id="rId3" Type="http://schemas.openxmlformats.org/officeDocument/2006/relationships/image" Target="../media/image39.jpeg"/><Relationship Id="rId4" Type="http://schemas.openxmlformats.org/officeDocument/2006/relationships/hyperlink" Target="http://davichu.files.wordpress.com/2007/10/crop-2.jpg" TargetMode="External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lproyectomatriz.files.wordpress.com/2007/08/141.jpg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hyperlink" Target="http://elproyectomatriz.files.wordpress.com/2007/08/123.jpg" TargetMode="External"/><Relationship Id="rId5" Type="http://schemas.openxmlformats.org/officeDocument/2006/relationships/image" Target="../media/image18.jpeg"/><Relationship Id="rId6" Type="http://schemas.openxmlformats.org/officeDocument/2006/relationships/hyperlink" Target="http://elproyectomatriz.files.wordpress.com/2007/08/93.jpg" TargetMode="External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b0e"/>
            </a:gs>
            <a:gs pos="50000">
              <a:srgbClr val="339933"/>
            </a:gs>
            <a:gs pos="100000">
              <a:srgbClr val="0e2b0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8989920" y="7524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 rot="5400000">
              <a:off x="4510080" y="-4356720"/>
              <a:ext cx="198000" cy="89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4"/>
            <a:stretch/>
          </p:blipFill>
          <p:spPr>
            <a:xfrm rot="5400000">
              <a:off x="4510080" y="2272680"/>
              <a:ext cx="198000" cy="8911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395280" y="476280"/>
            <a:ext cx="8353440" cy="597708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324000" y="476280"/>
            <a:ext cx="8495640" cy="6048000"/>
            <a:chOff x="324000" y="476280"/>
            <a:chExt cx="8495640" cy="6048000"/>
          </a:xfrm>
        </p:grpSpPr>
        <p:pic>
          <p:nvPicPr>
            <p:cNvPr id="48" name="" descr=""/>
            <p:cNvPicPr/>
            <p:nvPr/>
          </p:nvPicPr>
          <p:blipFill>
            <a:blip r:embed="rId6"/>
            <a:stretch/>
          </p:blipFill>
          <p:spPr>
            <a:xfrm>
              <a:off x="324000" y="476280"/>
              <a:ext cx="142920" cy="598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7"/>
            <a:stretch/>
          </p:blipFill>
          <p:spPr>
            <a:xfrm>
              <a:off x="8676720" y="542520"/>
              <a:ext cx="142920" cy="598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8"/>
            <a:stretch/>
          </p:blipFill>
          <p:spPr>
            <a:xfrm rot="5400000">
              <a:off x="4519440" y="-3576600"/>
              <a:ext cx="174600" cy="828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9"/>
            <a:stretch/>
          </p:blipFill>
          <p:spPr>
            <a:xfrm rot="5400000">
              <a:off x="4519440" y="2269800"/>
              <a:ext cx="174600" cy="8280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Bar dir="vert"/>
    <p:sndAc>
      <p:stSnd>
        <p:snd r:embed="rId10" name="The%20Oracle%20Of%20Apollo%20Vangelis%20Direct%20New%20Age%20128kbps%2008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b0e"/>
            </a:gs>
            <a:gs pos="50000">
              <a:srgbClr val="339933"/>
            </a:gs>
            <a:gs pos="100000">
              <a:srgbClr val="0e2b0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crop3.jpg"/>
          <p:cNvPicPr/>
          <p:nvPr/>
        </p:nvPicPr>
        <p:blipFill>
          <a:blip r:embed="rId1"/>
          <a:stretch/>
        </p:blipFill>
        <p:spPr>
          <a:xfrm>
            <a:off x="826920" y="476280"/>
            <a:ext cx="7488360" cy="5769000"/>
          </a:xfrm>
          <a:prstGeom prst="rect">
            <a:avLst/>
          </a:prstGeom>
          <a:ln w="57240">
            <a:solidFill>
              <a:srgbClr val="669900"/>
            </a:solidFill>
            <a:miter/>
          </a:ln>
        </p:spPr>
      </p:pic>
      <p:pic>
        <p:nvPicPr>
          <p:cNvPr id="125" name="" descr="Una figura in un campo di grano apparsa nell'agosto del 2001: era larga 240 metri e comprendeva 410 figure Milk Hill (Inghilterra)."/>
          <p:cNvPicPr/>
          <p:nvPr/>
        </p:nvPicPr>
        <p:blipFill>
          <a:blip r:embed="rId2"/>
          <a:stretch/>
        </p:blipFill>
        <p:spPr>
          <a:xfrm>
            <a:off x="684360" y="476280"/>
            <a:ext cx="7848360" cy="6024600"/>
          </a:xfrm>
          <a:prstGeom prst="rect">
            <a:avLst/>
          </a:prstGeom>
          <a:ln w="57240">
            <a:solidFill>
              <a:srgbClr val="996600"/>
            </a:solidFill>
            <a:miter/>
          </a:ln>
        </p:spPr>
      </p:pic>
      <p:grpSp>
        <p:nvGrpSpPr>
          <p:cNvPr id="126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2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4"/>
            <a:stretch/>
          </p:blipFill>
          <p:spPr>
            <a:xfrm>
              <a:off x="8989920" y="7524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5"/>
            <a:stretch/>
          </p:blipFill>
          <p:spPr>
            <a:xfrm rot="5400000">
              <a:off x="4510080" y="-4356720"/>
              <a:ext cx="198000" cy="89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6"/>
            <a:stretch/>
          </p:blipFill>
          <p:spPr>
            <a:xfrm rot="5400000">
              <a:off x="4510080" y="2272680"/>
              <a:ext cx="198000" cy="8911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Bar dir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b0e"/>
            </a:gs>
            <a:gs pos="50000">
              <a:srgbClr val="339933"/>
            </a:gs>
            <a:gs pos="100000">
              <a:srgbClr val="0e2b0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uk2007bc"/>
          <p:cNvPicPr/>
          <p:nvPr/>
        </p:nvPicPr>
        <p:blipFill>
          <a:blip r:embed="rId1"/>
          <a:stretch/>
        </p:blipFill>
        <p:spPr>
          <a:xfrm>
            <a:off x="762120" y="852480"/>
            <a:ext cx="7619760" cy="5153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uk2007bk"/>
          <p:cNvPicPr/>
          <p:nvPr/>
        </p:nvPicPr>
        <p:blipFill>
          <a:blip r:embed="rId2"/>
          <a:stretch/>
        </p:blipFill>
        <p:spPr>
          <a:xfrm>
            <a:off x="611280" y="692280"/>
            <a:ext cx="7986600" cy="5321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uk2007bk2"/>
          <p:cNvPicPr/>
          <p:nvPr/>
        </p:nvPicPr>
        <p:blipFill>
          <a:blip r:embed="rId3"/>
          <a:stretch/>
        </p:blipFill>
        <p:spPr>
          <a:xfrm>
            <a:off x="611280" y="620640"/>
            <a:ext cx="8136000" cy="5688000"/>
          </a:xfrm>
          <a:prstGeom prst="rect">
            <a:avLst/>
          </a:prstGeom>
          <a:ln w="57240">
            <a:solidFill>
              <a:srgbClr val="996600"/>
            </a:solidFill>
            <a:miter/>
          </a:ln>
        </p:spPr>
      </p:pic>
      <p:grpSp>
        <p:nvGrpSpPr>
          <p:cNvPr id="134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35" name="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5"/>
            <a:stretch/>
          </p:blipFill>
          <p:spPr>
            <a:xfrm>
              <a:off x="8989920" y="7524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6"/>
            <a:stretch/>
          </p:blipFill>
          <p:spPr>
            <a:xfrm rot="5400000">
              <a:off x="4510080" y="-4356720"/>
              <a:ext cx="198000" cy="89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7"/>
            <a:stretch/>
          </p:blipFill>
          <p:spPr>
            <a:xfrm rot="5400000">
              <a:off x="4510080" y="2272680"/>
              <a:ext cx="198000" cy="8911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Bar dir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b0e"/>
            </a:gs>
            <a:gs pos="50000">
              <a:srgbClr val="339933"/>
            </a:gs>
            <a:gs pos="100000">
              <a:srgbClr val="0e2b0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uk2007ar"/>
          <p:cNvPicPr/>
          <p:nvPr/>
        </p:nvPicPr>
        <p:blipFill>
          <a:blip r:embed="rId1"/>
          <a:stretch/>
        </p:blipFill>
        <p:spPr>
          <a:xfrm>
            <a:off x="611280" y="620640"/>
            <a:ext cx="8137440" cy="58294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uk2005cj"/>
          <p:cNvPicPr/>
          <p:nvPr/>
        </p:nvPicPr>
        <p:blipFill>
          <a:blip r:embed="rId2"/>
          <a:stretch/>
        </p:blipFill>
        <p:spPr>
          <a:xfrm>
            <a:off x="539640" y="620640"/>
            <a:ext cx="8209080" cy="6026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uk2005bk"/>
          <p:cNvPicPr/>
          <p:nvPr/>
        </p:nvPicPr>
        <p:blipFill>
          <a:blip r:embed="rId3"/>
          <a:stretch/>
        </p:blipFill>
        <p:spPr>
          <a:xfrm>
            <a:off x="324000" y="404640"/>
            <a:ext cx="8467560" cy="61930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43" name="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5"/>
            <a:stretch/>
          </p:blipFill>
          <p:spPr>
            <a:xfrm>
              <a:off x="8989920" y="7524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6"/>
            <a:stretch/>
          </p:blipFill>
          <p:spPr>
            <a:xfrm rot="5400000">
              <a:off x="4510080" y="-4356720"/>
              <a:ext cx="198000" cy="89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7"/>
            <a:stretch/>
          </p:blipFill>
          <p:spPr>
            <a:xfrm rot="5400000">
              <a:off x="4510080" y="2272680"/>
              <a:ext cx="198000" cy="8911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Bar dir="ver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b0e"/>
            </a:gs>
            <a:gs pos="50000">
              <a:srgbClr val="339933"/>
            </a:gs>
            <a:gs pos="100000">
              <a:srgbClr val="0e2b0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7272360" cy="6121440"/>
          </a:xfrm>
          <a:prstGeom prst="rect">
            <a:avLst/>
          </a:prstGeom>
          <a:ln w="57240">
            <a:solidFill>
              <a:srgbClr val="669900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116000" y="314280"/>
            <a:ext cx="7272360" cy="6229440"/>
          </a:xfrm>
          <a:prstGeom prst="rect">
            <a:avLst/>
          </a:prstGeom>
          <a:ln w="0">
            <a:noFill/>
          </a:ln>
        </p:spPr>
      </p:pic>
      <p:grpSp>
        <p:nvGrpSpPr>
          <p:cNvPr id="149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50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4"/>
            <a:stretch/>
          </p:blipFill>
          <p:spPr>
            <a:xfrm>
              <a:off x="8989920" y="7524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5"/>
            <a:stretch/>
          </p:blipFill>
          <p:spPr>
            <a:xfrm rot="5400000">
              <a:off x="4510080" y="-4356720"/>
              <a:ext cx="198000" cy="89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6"/>
            <a:stretch/>
          </p:blipFill>
          <p:spPr>
            <a:xfrm rot="5400000">
              <a:off x="4510080" y="2272680"/>
              <a:ext cx="198000" cy="8911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Bar dir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b0e"/>
            </a:gs>
            <a:gs pos="50000">
              <a:srgbClr val="339933"/>
            </a:gs>
            <a:gs pos="100000">
              <a:srgbClr val="0e2b0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uk2005bb"/>
          <p:cNvPicPr/>
          <p:nvPr/>
        </p:nvPicPr>
        <p:blipFill>
          <a:blip r:embed="rId1"/>
          <a:stretch/>
        </p:blipFill>
        <p:spPr>
          <a:xfrm>
            <a:off x="539640" y="620640"/>
            <a:ext cx="8064720" cy="561672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  <p:grpSp>
        <p:nvGrpSpPr>
          <p:cNvPr id="155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3"/>
            <a:stretch/>
          </p:blipFill>
          <p:spPr>
            <a:xfrm>
              <a:off x="8989920" y="7524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4"/>
            <a:stretch/>
          </p:blipFill>
          <p:spPr>
            <a:xfrm rot="5400000">
              <a:off x="4510080" y="-4356720"/>
              <a:ext cx="198000" cy="89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5"/>
            <a:stretch/>
          </p:blipFill>
          <p:spPr>
            <a:xfrm rot="5400000">
              <a:off x="4510080" y="2272680"/>
              <a:ext cx="198000" cy="8911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b0e"/>
            </a:gs>
            <a:gs pos="50000">
              <a:srgbClr val="339933"/>
            </a:gs>
            <a:gs pos="100000">
              <a:srgbClr val="0e2b0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uk2008ao2"/>
          <p:cNvPicPr/>
          <p:nvPr/>
        </p:nvPicPr>
        <p:blipFill>
          <a:blip r:embed="rId1"/>
          <a:stretch/>
        </p:blipFill>
        <p:spPr>
          <a:xfrm>
            <a:off x="468360" y="476280"/>
            <a:ext cx="8130960" cy="5773680"/>
          </a:xfrm>
          <a:prstGeom prst="rect">
            <a:avLst/>
          </a:prstGeom>
          <a:ln w="57240">
            <a:solidFill>
              <a:srgbClr val="737000"/>
            </a:solidFill>
            <a:miter/>
          </a:ln>
        </p:spPr>
      </p:pic>
      <p:grpSp>
        <p:nvGrpSpPr>
          <p:cNvPr id="161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3"/>
            <a:stretch/>
          </p:blipFill>
          <p:spPr>
            <a:xfrm>
              <a:off x="8989920" y="7524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4"/>
            <a:stretch/>
          </p:blipFill>
          <p:spPr>
            <a:xfrm rot="5400000">
              <a:off x="4510080" y="-4356720"/>
              <a:ext cx="198000" cy="89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5"/>
            <a:stretch/>
          </p:blipFill>
          <p:spPr>
            <a:xfrm rot="5400000">
              <a:off x="4510080" y="2272680"/>
              <a:ext cx="198000" cy="8911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b0e"/>
            </a:gs>
            <a:gs pos="50000">
              <a:srgbClr val="339933"/>
            </a:gs>
            <a:gs pos="100000">
              <a:srgbClr val="0e2b0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187280" y="620640"/>
            <a:ext cx="6842160" cy="53863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crop-circle-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42920" y="620640"/>
            <a:ext cx="7416720" cy="5562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crop-2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00000" y="620640"/>
            <a:ext cx="7559640" cy="55389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[the+passageway+through+the+physical+world+to+the+divine+world.jpg]"/>
          <p:cNvPicPr/>
          <p:nvPr/>
        </p:nvPicPr>
        <p:blipFill>
          <a:blip r:embed="rId6"/>
          <a:stretch/>
        </p:blipFill>
        <p:spPr>
          <a:xfrm>
            <a:off x="611280" y="476280"/>
            <a:ext cx="7921440" cy="6048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7"/>
          <a:stretch/>
        </p:blipFill>
        <p:spPr>
          <a:xfrm>
            <a:off x="611280" y="404640"/>
            <a:ext cx="7920000" cy="6193080"/>
          </a:xfrm>
          <a:prstGeom prst="rect">
            <a:avLst/>
          </a:prstGeom>
          <a:ln w="0">
            <a:noFill/>
          </a:ln>
        </p:spPr>
      </p:pic>
      <p:grpSp>
        <p:nvGrpSpPr>
          <p:cNvPr id="171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72" name="" descr=""/>
            <p:cNvPicPr/>
            <p:nvPr/>
          </p:nvPicPr>
          <p:blipFill>
            <a:blip r:embed="rId8"/>
            <a:stretch/>
          </p:blipFill>
          <p:spPr>
            <a:xfrm>
              <a:off x="0" y="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9"/>
            <a:stretch/>
          </p:blipFill>
          <p:spPr>
            <a:xfrm>
              <a:off x="8989920" y="7524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10"/>
            <a:stretch/>
          </p:blipFill>
          <p:spPr>
            <a:xfrm rot="5400000">
              <a:off x="4510080" y="-4356720"/>
              <a:ext cx="198000" cy="89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11"/>
            <a:stretch/>
          </p:blipFill>
          <p:spPr>
            <a:xfrm rot="5400000">
              <a:off x="4510080" y="2272680"/>
              <a:ext cx="198000" cy="8911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Bar dir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b0e"/>
            </a:gs>
            <a:gs pos="50000">
              <a:srgbClr val="339933"/>
            </a:gs>
            <a:gs pos="100000">
              <a:srgbClr val="0e2b0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6480000" cy="59580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grpSp>
        <p:nvGrpSpPr>
          <p:cNvPr id="177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3"/>
            <a:stretch/>
          </p:blipFill>
          <p:spPr>
            <a:xfrm>
              <a:off x="8989920" y="7524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4"/>
            <a:stretch/>
          </p:blipFill>
          <p:spPr>
            <a:xfrm rot="5400000">
              <a:off x="4510080" y="-4356720"/>
              <a:ext cx="198000" cy="89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5"/>
            <a:stretch/>
          </p:blipFill>
          <p:spPr>
            <a:xfrm rot="5400000">
              <a:off x="4510080" y="2272680"/>
              <a:ext cx="198000" cy="8911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Bar dir="vert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21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heel(8)" transition="out">
                                      <p:cBhvr additive="repl">
                                        <p:cTn id="23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b0e"/>
            </a:gs>
            <a:gs pos="50000">
              <a:srgbClr val="339933"/>
            </a:gs>
            <a:gs pos="100000">
              <a:srgbClr val="0e2b0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1280" y="620640"/>
            <a:ext cx="8064360" cy="5688000"/>
          </a:xfrm>
          <a:prstGeom prst="rect">
            <a:avLst/>
          </a:prstGeom>
          <a:blipFill rotWithShape="0">
            <a:blip r:embed="rId1">
              <a:alphaModFix amt="35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411280" y="2133720"/>
            <a:ext cx="482472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AGROGLIF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55" name="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5"/>
            <a:stretch/>
          </p:blipFill>
          <p:spPr>
            <a:xfrm>
              <a:off x="8989920" y="7524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6"/>
            <a:stretch/>
          </p:blipFill>
          <p:spPr>
            <a:xfrm rot="5400000">
              <a:off x="4510080" y="-4356720"/>
              <a:ext cx="198000" cy="89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7"/>
            <a:stretch/>
          </p:blipFill>
          <p:spPr>
            <a:xfrm rot="5400000">
              <a:off x="4510080" y="2272680"/>
              <a:ext cx="198000" cy="891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" name=""/>
          <p:cNvGrpSpPr/>
          <p:nvPr/>
        </p:nvGrpSpPr>
        <p:grpSpPr>
          <a:xfrm>
            <a:off x="468360" y="476280"/>
            <a:ext cx="8351280" cy="5976720"/>
            <a:chOff x="468360" y="476280"/>
            <a:chExt cx="8351280" cy="5976720"/>
          </a:xfrm>
        </p:grpSpPr>
        <p:pic>
          <p:nvPicPr>
            <p:cNvPr id="60" name="" descr=""/>
            <p:cNvPicPr/>
            <p:nvPr/>
          </p:nvPicPr>
          <p:blipFill>
            <a:blip r:embed="rId8"/>
            <a:stretch/>
          </p:blipFill>
          <p:spPr>
            <a:xfrm>
              <a:off x="468360" y="476280"/>
              <a:ext cx="140400" cy="591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9"/>
            <a:stretch/>
          </p:blipFill>
          <p:spPr>
            <a:xfrm>
              <a:off x="8679240" y="541800"/>
              <a:ext cx="140400" cy="591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10"/>
            <a:stretch/>
          </p:blipFill>
          <p:spPr>
            <a:xfrm rot="5400000">
              <a:off x="4592160" y="-3507120"/>
              <a:ext cx="172440" cy="813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11"/>
            <a:stretch/>
          </p:blipFill>
          <p:spPr>
            <a:xfrm rot="5400000">
              <a:off x="4592160" y="2270520"/>
              <a:ext cx="172440" cy="8139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b0e"/>
            </a:gs>
            <a:gs pos="50000">
              <a:srgbClr val="339933"/>
            </a:gs>
            <a:gs pos="100000">
              <a:srgbClr val="0e2b0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11280" y="2236320"/>
            <a:ext cx="7956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¿QUÉ SON LOS CÍRCULOS EN LAS COSECHAS O AGROGLIFOS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seños que inexplicablemente aparecen en los campos de trigo y otros sembradíos o en casi cualquier superficie de la tierra donde se pueda imprimir algo como la nieve o la are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ste fenómeno se ha expandido por todo el mundo, aunque comenzó en Inglaterra, cerca de antiguos sitios arqueológicos durante los años set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parecen súbitamente en cuestión de minut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lo pueden ser vistos desde el aire debido a su gran tamaño 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sde sus primeras apariciones han mostrado formas de gran belleza asociadas a la Geometría Sagrad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sistemas Estelar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los Chacras y a Símbolos Ancestrales o de las Culturas Abori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8989920" y="7524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3"/>
            <a:stretch/>
          </p:blipFill>
          <p:spPr>
            <a:xfrm rot="5400000">
              <a:off x="4510080" y="-4356720"/>
              <a:ext cx="198000" cy="89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4"/>
            <a:stretch/>
          </p:blipFill>
          <p:spPr>
            <a:xfrm rot="5400000">
              <a:off x="4510080" y="2272680"/>
              <a:ext cx="198000" cy="8911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3132000" y="404640"/>
            <a:ext cx="2808360" cy="1876680"/>
          </a:xfrm>
          <a:prstGeom prst="rect">
            <a:avLst/>
          </a:prstGeom>
          <a:ln w="57240">
            <a:solidFill>
              <a:srgbClr val="ffff99"/>
            </a:solidFill>
            <a:miter/>
          </a:ln>
        </p:spPr>
      </p:pic>
    </p:spTree>
  </p:cSld>
  <p:transition spd="slow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b0e"/>
            </a:gs>
            <a:gs pos="50000">
              <a:srgbClr val="339933"/>
            </a:gs>
            <a:gs pos="100000">
              <a:srgbClr val="0e2b0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39640" y="1788120"/>
            <a:ext cx="7956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A pesar de que para dibujarse aplastan las espigas de trigo o de la planta donde se impriman en ningún momento dañan la cosecha, se pueden ver remolinos de espigas aplastadas a unos noventa grados que continúan con su proceso de maduración como si nada hubiera sucedido. Tambien se presentan como tejidos de espigas o como espirales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Muchos investigadores han detectado cambios en el sitio donde aparecen a nivel de los campos electromagnéticos. Inclusive se han reportado en muchos casos ausencia de comunicación por teléfonos celulares, brújulas fuera de control en helicópteros y aviones al sobrevolarlos, cese del funcionamiento de relojes, cámaras, baterías y otros aparatos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Hay muchas teorías sobre como se forman, lo que sí es cierto es que de ninguna manera hay explicación lógica a su existencia y son un fenómeno controversial en nuestra Tierra. Algunas de estas teorías son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564000" y="333360"/>
            <a:ext cx="2376360" cy="1587600"/>
          </a:xfrm>
          <a:prstGeom prst="rect">
            <a:avLst/>
          </a:prstGeom>
          <a:ln w="76320">
            <a:solidFill>
              <a:srgbClr val="808000"/>
            </a:solidFill>
            <a:miter/>
          </a:ln>
        </p:spPr>
      </p:pic>
      <p:grpSp>
        <p:nvGrpSpPr>
          <p:cNvPr id="73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>
              <a:off x="8989920" y="7524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4"/>
            <a:stretch/>
          </p:blipFill>
          <p:spPr>
            <a:xfrm rot="5400000">
              <a:off x="4510080" y="-4356720"/>
              <a:ext cx="198000" cy="89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5"/>
            <a:stretch/>
          </p:blipFill>
          <p:spPr>
            <a:xfrm rot="5400000">
              <a:off x="4510080" y="2272680"/>
              <a:ext cx="198000" cy="8911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Bar dir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b0e"/>
            </a:gs>
            <a:gs pos="50000">
              <a:srgbClr val="339933"/>
            </a:gs>
            <a:gs pos="100000">
              <a:srgbClr val="0e2b0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971280" y="2332080"/>
            <a:ext cx="7127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Que se producen sobre los cruces o puntos de la red planetaria.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2) Que son realizados por vórtices de plasma.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3) Que tienen origen Extraterrestre.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4) Que son una manifestación del espíritu de Gaia.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5) Que es una manifestación de los Devas y Elementales terrestres.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6) Que son creados por satélites o aparatos desde fuera de la órbita terrestre.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7) Que son creados por humanos, artistas de paisaje. Hay algunos que se ha comprobado que son realmente realizados por seres human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9933"/>
                </a:solidFill>
                <a:latin typeface="Arial"/>
              </a:rPr>
              <a:t>En los últimos años se ha descubierto que algunas veces predicen o anuncian algún evento astronómico importante a suceder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627280" y="333360"/>
            <a:ext cx="3600360" cy="2405160"/>
          </a:xfrm>
          <a:prstGeom prst="rect">
            <a:avLst/>
          </a:prstGeom>
          <a:ln w="57240">
            <a:solidFill>
              <a:srgbClr val="996600"/>
            </a:solidFill>
            <a:miter/>
          </a:ln>
        </p:spPr>
      </p:pic>
      <p:grpSp>
        <p:nvGrpSpPr>
          <p:cNvPr id="80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3"/>
            <a:stretch/>
          </p:blipFill>
          <p:spPr>
            <a:xfrm>
              <a:off x="8989920" y="7524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4"/>
            <a:stretch/>
          </p:blipFill>
          <p:spPr>
            <a:xfrm rot="5400000">
              <a:off x="4510080" y="-4356720"/>
              <a:ext cx="198000" cy="89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5"/>
            <a:stretch/>
          </p:blipFill>
          <p:spPr>
            <a:xfrm rot="5400000">
              <a:off x="4510080" y="2272680"/>
              <a:ext cx="198000" cy="8911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Bar dir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b0e"/>
            </a:gs>
            <a:gs pos="50000">
              <a:srgbClr val="339933"/>
            </a:gs>
            <a:gs pos="100000">
              <a:srgbClr val="0e2b0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2448000" cy="1635120"/>
          </a:xfrm>
          <a:prstGeom prst="rect">
            <a:avLst/>
          </a:prstGeom>
          <a:ln w="38160">
            <a:solidFill>
              <a:srgbClr val="996600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372360" y="4724280"/>
            <a:ext cx="2520720" cy="1584360"/>
          </a:xfrm>
          <a:prstGeom prst="rect">
            <a:avLst/>
          </a:prstGeom>
          <a:ln w="38160">
            <a:solidFill>
              <a:srgbClr val="996600"/>
            </a:solidFill>
            <a:miter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300720" y="2637000"/>
            <a:ext cx="2592360" cy="1884240"/>
          </a:xfrm>
          <a:prstGeom prst="rect">
            <a:avLst/>
          </a:prstGeom>
          <a:ln w="9360">
            <a:solidFill>
              <a:srgbClr val="669900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50920" y="2565360"/>
            <a:ext cx="2881080" cy="1747800"/>
          </a:xfrm>
          <a:prstGeom prst="rect">
            <a:avLst/>
          </a:prstGeom>
          <a:ln w="38160">
            <a:solidFill>
              <a:srgbClr val="996600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324000" y="4508640"/>
            <a:ext cx="2808000" cy="1871640"/>
          </a:xfrm>
          <a:prstGeom prst="rect">
            <a:avLst/>
          </a:prstGeom>
          <a:ln w="38160">
            <a:solidFill>
              <a:srgbClr val="808000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6804000" y="836640"/>
            <a:ext cx="1584360" cy="106344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3348000" y="2708280"/>
            <a:ext cx="2819520" cy="3672000"/>
          </a:xfrm>
          <a:prstGeom prst="rect">
            <a:avLst/>
          </a:prstGeom>
          <a:ln w="38160">
            <a:solidFill>
              <a:srgbClr val="c0c0c0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2987640" y="476280"/>
            <a:ext cx="3025800" cy="200808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  <p:grpSp>
        <p:nvGrpSpPr>
          <p:cNvPr id="94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95" name="" descr=""/>
            <p:cNvPicPr/>
            <p:nvPr/>
          </p:nvPicPr>
          <p:blipFill>
            <a:blip r:embed="rId9"/>
            <a:stretch/>
          </p:blipFill>
          <p:spPr>
            <a:xfrm>
              <a:off x="0" y="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10"/>
            <a:stretch/>
          </p:blipFill>
          <p:spPr>
            <a:xfrm>
              <a:off x="8989920" y="7524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11"/>
            <a:stretch/>
          </p:blipFill>
          <p:spPr>
            <a:xfrm rot="5400000">
              <a:off x="4510080" y="-4356720"/>
              <a:ext cx="198000" cy="89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12"/>
            <a:stretch/>
          </p:blipFill>
          <p:spPr>
            <a:xfrm rot="5400000">
              <a:off x="4510080" y="2272680"/>
              <a:ext cx="198000" cy="8911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Bar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b0e"/>
            </a:gs>
            <a:gs pos="50000">
              <a:srgbClr val="339933"/>
            </a:gs>
            <a:gs pos="100000">
              <a:srgbClr val="0e2b0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1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1125360"/>
            <a:ext cx="6120000" cy="4577040"/>
          </a:xfrm>
          <a:prstGeom prst="rect">
            <a:avLst/>
          </a:prstGeom>
          <a:ln w="57240">
            <a:solidFill>
              <a:srgbClr val="ffff99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547640" y="981000"/>
            <a:ext cx="6336000" cy="4737240"/>
          </a:xfrm>
          <a:prstGeom prst="rect">
            <a:avLst/>
          </a:prstGeom>
          <a:ln w="57240">
            <a:solidFill>
              <a:srgbClr val="ffff99"/>
            </a:solidFill>
            <a:miter/>
          </a:ln>
        </p:spPr>
      </p:pic>
      <p:pic>
        <p:nvPicPr>
          <p:cNvPr id="101" name="" descr="1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619280" y="981000"/>
            <a:ext cx="6265800" cy="4684680"/>
          </a:xfrm>
          <a:prstGeom prst="rect">
            <a:avLst/>
          </a:prstGeom>
          <a:ln w="57240">
            <a:solidFill>
              <a:srgbClr val="ffff99"/>
            </a:solidFill>
            <a:miter/>
          </a:ln>
        </p:spPr>
      </p:pic>
      <p:pic>
        <p:nvPicPr>
          <p:cNvPr id="102" name="" descr="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47640" y="981000"/>
            <a:ext cx="6809040" cy="4727520"/>
          </a:xfrm>
          <a:prstGeom prst="rect">
            <a:avLst/>
          </a:prstGeom>
          <a:ln w="57240">
            <a:solidFill>
              <a:srgbClr val="ffff99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>
            <a:off x="1403280" y="765000"/>
            <a:ext cx="6985080" cy="5185080"/>
          </a:xfrm>
          <a:prstGeom prst="rect">
            <a:avLst/>
          </a:prstGeom>
          <a:ln w="57240">
            <a:solidFill>
              <a:srgbClr val="ffff99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9"/>
          <a:stretch/>
        </p:blipFill>
        <p:spPr>
          <a:xfrm>
            <a:off x="971640" y="333360"/>
            <a:ext cx="7488000" cy="6048360"/>
          </a:xfrm>
          <a:prstGeom prst="rect">
            <a:avLst/>
          </a:prstGeom>
          <a:ln w="38160">
            <a:solidFill>
              <a:srgbClr val="808000"/>
            </a:solidFill>
            <a:miter/>
          </a:ln>
        </p:spPr>
      </p:pic>
      <p:grpSp>
        <p:nvGrpSpPr>
          <p:cNvPr id="105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06" name="" descr=""/>
            <p:cNvPicPr/>
            <p:nvPr/>
          </p:nvPicPr>
          <p:blipFill>
            <a:blip r:embed="rId10"/>
            <a:stretch/>
          </p:blipFill>
          <p:spPr>
            <a:xfrm>
              <a:off x="0" y="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11"/>
            <a:stretch/>
          </p:blipFill>
          <p:spPr>
            <a:xfrm>
              <a:off x="8989920" y="7524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12"/>
            <a:stretch/>
          </p:blipFill>
          <p:spPr>
            <a:xfrm rot="5400000">
              <a:off x="4510080" y="-4356720"/>
              <a:ext cx="198000" cy="89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13"/>
            <a:stretch/>
          </p:blipFill>
          <p:spPr>
            <a:xfrm rot="5400000">
              <a:off x="4510080" y="2272680"/>
              <a:ext cx="198000" cy="8911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Bar dir="ver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b0e"/>
            </a:gs>
            <a:gs pos="50000">
              <a:srgbClr val="339933"/>
            </a:gs>
            <a:gs pos="100000">
              <a:srgbClr val="0e2b0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Un cerchio nel grano apparso nel luglio del 2001 a Old Shaw Villane (Inghilterra)"/>
          <p:cNvPicPr/>
          <p:nvPr/>
        </p:nvPicPr>
        <p:blipFill>
          <a:blip r:embed="rId1"/>
          <a:stretch/>
        </p:blipFill>
        <p:spPr>
          <a:xfrm>
            <a:off x="1547640" y="620640"/>
            <a:ext cx="6266160" cy="5554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900000" y="476280"/>
            <a:ext cx="7632720" cy="5686560"/>
          </a:xfrm>
          <a:prstGeom prst="rect">
            <a:avLst/>
          </a:prstGeom>
          <a:ln w="57240">
            <a:solidFill>
              <a:srgbClr val="669900"/>
            </a:solidFill>
            <a:miter/>
          </a:ln>
        </p:spPr>
      </p:pic>
      <p:pic>
        <p:nvPicPr>
          <p:cNvPr id="112" name="" descr="uk2008al"/>
          <p:cNvPicPr/>
          <p:nvPr/>
        </p:nvPicPr>
        <p:blipFill>
          <a:blip r:embed="rId3"/>
          <a:stretch/>
        </p:blipFill>
        <p:spPr>
          <a:xfrm>
            <a:off x="468360" y="476280"/>
            <a:ext cx="8280360" cy="5834160"/>
          </a:xfrm>
          <a:prstGeom prst="rect">
            <a:avLst/>
          </a:prstGeom>
          <a:ln w="57240">
            <a:solidFill>
              <a:srgbClr val="808000"/>
            </a:solidFill>
            <a:miter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14" name="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5"/>
            <a:stretch/>
          </p:blipFill>
          <p:spPr>
            <a:xfrm>
              <a:off x="8989920" y="7524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6"/>
            <a:stretch/>
          </p:blipFill>
          <p:spPr>
            <a:xfrm rot="5400000">
              <a:off x="4510080" y="-4356720"/>
              <a:ext cx="198000" cy="89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7"/>
            <a:stretch/>
          </p:blipFill>
          <p:spPr>
            <a:xfrm rot="5400000">
              <a:off x="4510080" y="2272680"/>
              <a:ext cx="198000" cy="8911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Bar dir="ver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b0e"/>
            </a:gs>
            <a:gs pos="50000">
              <a:srgbClr val="339933"/>
            </a:gs>
            <a:gs pos="100000">
              <a:srgbClr val="0e2b0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913800" cy="6058080"/>
          </a:xfrm>
          <a:prstGeom prst="rect">
            <a:avLst/>
          </a:prstGeom>
          <a:ln w="57240">
            <a:solidFill>
              <a:srgbClr val="545200"/>
            </a:solidFill>
            <a:miter/>
          </a:ln>
        </p:spPr>
      </p:pic>
      <p:grpSp>
        <p:nvGrpSpPr>
          <p:cNvPr id="119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8989920" y="7524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4"/>
            <a:stretch/>
          </p:blipFill>
          <p:spPr>
            <a:xfrm rot="5400000">
              <a:off x="4510080" y="-4356720"/>
              <a:ext cx="198000" cy="89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5"/>
            <a:stretch/>
          </p:blipFill>
          <p:spPr>
            <a:xfrm rot="5400000">
              <a:off x="4510080" y="2272680"/>
              <a:ext cx="198000" cy="8911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7T14:56:51Z</dcterms:created>
  <dc:creator>VIRGI</dc:creator>
  <dc:description/>
  <dc:language>en-US</dc:language>
  <cp:lastModifiedBy>VIRGI</cp:lastModifiedBy>
  <dcterms:modified xsi:type="dcterms:W3CDTF">2008-06-28T05:10:58Z</dcterms:modified>
  <cp:revision>3</cp:revision>
  <dc:subject/>
  <dc:title>Diapositiva 1</dc:title>
</cp:coreProperties>
</file>