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4.jpeg" ContentType="image/jpeg"/>
  <Override PartName="/ppt/media/paradiso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367-4C43-4FA9-8EF0-D77D7BB3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A83-5C1A-4EE3-848F-76B4FC0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087-4057-4687-96C5-E00A375B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CEE-4F20-435A-A278-9FF041BC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489-4DA9-49D7-B5B8-68C44191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115-53C8-4F3E-ACDC-CBF575E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216-49D9-45AA-AD91-D7BE2A1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382-79C2-4A4A-87C7-7C1E630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704-A28B-450E-AF86-AD2EEB1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5B6-9CE6-4597-B9DE-F85C502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F70-B9B4-4772-BFFD-B89E47E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A3F-3A68-4055-98E9-5432B5D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E93-22EB-4BC3-9255-E02ECEDFD4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paradiso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68580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33720" y="297180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262d8"/>
                </a:solidFill>
                <a:latin typeface="Verdana"/>
              </a:rPr>
              <a:t>BY VICKY BRAGO-MITCHELL</a:t>
            </a:r>
            <a:endParaRPr b="0" lang="en-US" sz="2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0"/>
            <a:ext cx="9144000" cy="6858000"/>
          </a:xfrm>
          <a:prstGeom prst="bracketPair">
            <a:avLst>
              <a:gd name="adj" fmla="val 17129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17220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99ff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6699ff"/>
                </a:solidFill>
                <a:latin typeface="Verdana"/>
              </a:rPr>
              <a:t>AINTING BY VICKY BRAGO-MITCHELL</a:t>
            </a:r>
            <a:endParaRPr b="0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45" name="Picture 9" descr="uma realização"/>
          <p:cNvPicPr/>
          <p:nvPr/>
        </p:nvPicPr>
        <p:blipFill>
          <a:blip r:embed="rId3"/>
          <a:stretch/>
        </p:blipFill>
        <p:spPr>
          <a:xfrm>
            <a:off x="2262240" y="3081240"/>
            <a:ext cx="4619520" cy="69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nura slides 2007 azul"/>
          <p:cNvPicPr/>
          <p:nvPr/>
        </p:nvPicPr>
        <p:blipFill>
          <a:blip r:embed="rId4"/>
          <a:stretch/>
        </p:blipFill>
        <p:spPr>
          <a:xfrm>
            <a:off x="2514600" y="685800"/>
            <a:ext cx="4295880" cy="5716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1"/>
          <p:cNvSpPr/>
          <p:nvPr/>
        </p:nvSpPr>
        <p:spPr>
          <a:xfrm>
            <a:off x="0" y="0"/>
            <a:ext cx="9144000" cy="6858000"/>
          </a:xfrm>
          <a:prstGeom prst="bracketPair">
            <a:avLst>
              <a:gd name="adj" fmla="val 17129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48" name="Picture 14" descr="SI LOS ANGELS EXISTEN"/>
          <p:cNvPicPr/>
          <p:nvPr/>
        </p:nvPicPr>
        <p:blipFill>
          <a:blip r:embed="rId6"/>
          <a:stretch/>
        </p:blipFill>
        <p:spPr>
          <a:xfrm>
            <a:off x="1371600" y="3200400"/>
            <a:ext cx="6229440" cy="81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clic"/>
          <p:cNvPicPr/>
          <p:nvPr/>
        </p:nvPicPr>
        <p:blipFill>
          <a:blip r:embed="rId7"/>
          <a:stretch/>
        </p:blipFill>
        <p:spPr>
          <a:xfrm>
            <a:off x="4038480" y="5943600"/>
            <a:ext cx="1152720" cy="581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8" name="paradi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6000"/>
                            </p:stCondLst>
                            <p:childTnLst>
                              <p:par>
                                <p:cTn id="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5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80880" y="304920"/>
            <a:ext cx="845820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780200" y="1752480"/>
            <a:ext cx="572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sí, todos somos ángele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ues no creo que pueda haber alguien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in ni siquiera un amigo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n cuyo hombro pueda consolarse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n cuyo corazón pueda albergarse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304920" y="304920"/>
            <a:ext cx="861048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793160" y="2819520"/>
            <a:ext cx="55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Todos somos ángeles en este mundo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basta tan solo desarrollar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este sentimiento profundo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065680" y="4114800"/>
            <a:ext cx="49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UNA TIERNA Y ETERNA AMISTAD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7391520" y="5105520"/>
            <a:ext cx="971280" cy="685800"/>
          </a:xfrm>
          <a:prstGeom prst="pie">
            <a:avLst/>
          </a:prstGeom>
          <a:solidFill>
            <a:srgbClr val="1c1c72">
              <a:alpha val="50000"/>
            </a:srgbClr>
          </a:solidFill>
          <a:ln cap="rnd" w="0">
            <a:solidFill>
              <a:srgbClr val="cbe5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cbe5ff"/>
                </a:solidFill>
                <a:latin typeface="Verdana"/>
              </a:rPr>
              <a:t>by nur@</a:t>
            </a:r>
            <a:endParaRPr b="0" lang="en-US" sz="1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35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150"/>
                            </p:stCondLst>
                            <p:childTnLst>
                              <p:par>
                                <p:cTn id="1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380880" y="304920"/>
            <a:ext cx="845820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94320" y="60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47920" y="2590920"/>
            <a:ext cx="65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Verdana"/>
              </a:rPr>
              <a:t>Si, ángeles existen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Verdana"/>
              </a:rPr>
              <a:t>los encontramos en las amistades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Verdana"/>
              </a:rPr>
              <a:t>que persisten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304920" y="304920"/>
            <a:ext cx="853416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8686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89680" y="3048120"/>
            <a:ext cx="63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c0f0"/>
                </a:solidFill>
                <a:latin typeface="Verdana"/>
              </a:rPr>
              <a:t>Cada amistad encontrada por casualidad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c0f0"/>
                </a:solidFill>
                <a:latin typeface="Verdana"/>
              </a:rPr>
              <a:t>es como un ángel que ha venido del cielo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214200" y="357120"/>
            <a:ext cx="861084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29520" y="1905120"/>
            <a:ext cx="630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y amistades que surjen para ayudarn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hacernos, la vida, apreciarla mejor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 nos hacen ahora y siempre creer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 todo siempre puede mejorar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457200" y="304920"/>
            <a:ext cx="8381880" cy="609588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14800" y="2438280"/>
            <a:ext cx="636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Si todos en el mundo entendieran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el valor de una amistad verdadera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no harían tantas locura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ni dejarían que tantas cosas acontecieran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380880" y="304920"/>
            <a:ext cx="8534520" cy="609588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765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b2bad"/>
                </a:solidFill>
                <a:latin typeface="Verdana"/>
              </a:rPr>
              <a:t>Amigos no ven apenas las cualidade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b2bad"/>
                </a:solidFill>
                <a:latin typeface="Verdana"/>
              </a:rPr>
              <a:t>a pesar de </a:t>
            </a:r>
            <a:r>
              <a:rPr b="0" lang="pt-BR" sz="2400" spc="-1" strike="noStrike">
                <a:solidFill>
                  <a:srgbClr val="1c1c72"/>
                </a:solidFill>
                <a:latin typeface="Verdana"/>
              </a:rPr>
              <a:t>que</a:t>
            </a:r>
            <a:r>
              <a:rPr b="0" lang="pt-BR" sz="2400" spc="-1" strike="noStrike">
                <a:solidFill>
                  <a:srgbClr val="2b2bad"/>
                </a:solidFill>
                <a:latin typeface="Verdana"/>
              </a:rPr>
              <a:t> de ellas todos tengan necesidad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380880" y="304920"/>
            <a:ext cx="838224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16000" y="304812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migos conviven con nuestros defect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ues somos humanos, por tanto imperfectos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304920" y="304920"/>
            <a:ext cx="8610480" cy="601956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6699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828800" y="251460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Los aceptan y nos aceptan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como los suyos aceptam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y los aceptamos también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380880" y="304920"/>
            <a:ext cx="8458200" cy="609588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7800" y="1828800"/>
            <a:ext cx="658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stos ángeles no tienen ala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ampoco andan sobre fuego en brasa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o tienen en su alma un dulce sentimiento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e nos conforta en momentos de lamento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y somos recíprocos a ell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eriendo su felicidad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11:45Z</dcterms:created>
  <dc:creator>NURA</dc:creator>
  <dc:description/>
  <dc:language>en-US</dc:language>
  <cp:lastModifiedBy>Hugo</cp:lastModifiedBy>
  <dcterms:modified xsi:type="dcterms:W3CDTF">2009-08-25T18:22:05Z</dcterms:modified>
  <cp:revision>21</cp:revision>
  <dc:subject/>
  <dc:title>Slide sem título </dc:title>
</cp:coreProperties>
</file>