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TT02934.wav" ContentType="audio/x-wav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824-5FF5-4E9E-9A41-E26B80F6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0B3-5A29-4D9B-84C2-D78703AD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180-DEB2-480E-8B6D-00DD9C5B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FE5-8E17-4DF5-A7B1-98B76C51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7756-E9BC-4B26-99F1-201BF4C8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739-82BC-438A-AFD2-1D3D780E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AA24-8AA0-4368-8C19-8045B0C3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ED7-74D9-4EB0-9836-405881E9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1FC-9819-4D02-B5AB-3D79CD5F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FDB9-DF42-42D9-AD35-80B5C6C1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AF0-D54C-4FAB-B072-1FE537EB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EC4A-68BA-4655-89CB-59D145EE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081B-5A69-4E7A-A44B-9BFAE958D1C0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TT02934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386000" y="0"/>
            <a:ext cx="10530000" cy="702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Muere lentamente </a:t>
            </a:r>
            <a:br>
              <a:rPr sz="2800"/>
            </a:b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no viaja,</a:t>
            </a:r>
            <a:br>
              <a:rPr sz="2800"/>
            </a:b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no lee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7150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no oye música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no encuentra gracia en sí mismo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  <p:sndAc>
      <p:stSnd>
        <p:snd r:embed="rId2" name="ATT0293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0"/>
            <a:ext cx="4572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Muere lentamente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quien no viaja,</a:t>
            </a:r>
            <a:br>
              <a:rPr sz="1400"/>
            </a:b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quien no lee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Muere lentament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quien destruye su amor propio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quien no se deja ayudar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Muere lentament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quien se transforma en esclavo del hábit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repitiendo todos los días los mismos trayectos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quien no cambia de marca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no se atreve a cambiar el color de su  vestiment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o bien no conversa con quien no conoce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Muere lentamente quien evita una pasión y su remolino de emociones, justamente éstas que regresan el brillo a los ojos  y  restauran los corazones destrozados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733920"/>
            <a:ext cx="37339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Muere lentament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quien no gira el volante cuando está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infeliz con su trabajo, o su amor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quien no arriesga lo cierto ni lo incierto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para ir atrás de un sueñ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quien no se permite, ni siquiera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una vez en su vida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huir de los consejos sensatos..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¡ Vive hoy !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¡ Arriesga hoy !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¡ Hazlo hoy !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¡ No te dejes morir lentamente !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¡ NO TE IMPIDAS SER FELIZ !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88000" y="914400"/>
            <a:ext cx="4308480" cy="5086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323760" y="632448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66ffff"/>
                </a:solidFill>
                <a:latin typeface="Arial"/>
              </a:rPr>
              <a:t>Pablo Nerud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7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531720" y="0"/>
            <a:ext cx="10529640" cy="702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2001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Muere lentamen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destruye su amor propio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no se deja ayuda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531720" y="0"/>
            <a:ext cx="10529640" cy="702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157320"/>
            <a:ext cx="8229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Muere lentamen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se transforma en esclavo del hábit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repitiendo todos los días los mismos trayectos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"/>
          <p:cNvSpPr/>
          <p:nvPr/>
        </p:nvSpPr>
        <p:spPr>
          <a:xfrm>
            <a:off x="-209520" y="5057640"/>
            <a:ext cx="956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no cambia de marca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no se atreve a cambiar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el color de su  vestiment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o bien no conversa con quien no conoc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6" presetSubtype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531720" y="0"/>
            <a:ext cx="10529640" cy="702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4038480"/>
            <a:ext cx="92962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Muere lentamen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evita una pasión y su remolino de emociones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justamente éstas que regresan el brillo a los oj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y  restauran los corazones destrozado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531720" y="0"/>
            <a:ext cx="10529640" cy="7020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3776760"/>
            <a:ext cx="8915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Muere lentamen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no gira el volante cuando está infeliz con</a:t>
            </a:r>
            <a:br>
              <a:rPr sz="2800"/>
            </a:b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su trabajo, o su amor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no arriesga lo cierto ni lo incierto para ir </a:t>
            </a:r>
            <a:br>
              <a:rPr sz="2800"/>
            </a:b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atrás de un sueñ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no se permite, ni siquiera una vez en su vida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huir de los consejos sensatos..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531720" y="0"/>
            <a:ext cx="10529640" cy="702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15228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600" spc="-1" strike="noStrike">
                <a:solidFill>
                  <a:srgbClr val="ffff00"/>
                </a:solidFill>
                <a:latin typeface="Trebuchet MS"/>
              </a:rPr>
              <a:t>¡ Vive hoy !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693720" y="0"/>
            <a:ext cx="10530000" cy="7020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800" spc="-1" strike="noStrike">
                <a:solidFill>
                  <a:srgbClr val="ffff00"/>
                </a:solidFill>
                <a:latin typeface="Trebuchet MS"/>
              </a:rPr>
              <a:t>¡ Arriesga hoy !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10530000" cy="7020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52560" y="34290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600" spc="-1" strike="noStrike">
                <a:solidFill>
                  <a:srgbClr val="ffff00"/>
                </a:solidFill>
                <a:latin typeface="Trebuchet MS"/>
              </a:rPr>
              <a:t>¡ Hazlo hoy !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531720" y="0"/>
            <a:ext cx="10529640" cy="7020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304920" y="762120"/>
            <a:ext cx="10058400" cy="44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ffff00"/>
                </a:solidFill>
                <a:latin typeface="Trebuchet MS"/>
              </a:rPr>
              <a:t>¡Hazlo ya!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ff00"/>
                </a:solidFill>
                <a:latin typeface="Trebuchet MS"/>
              </a:rPr>
              <a:t>¡ No te dejes morir lentamente 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00"/>
                </a:solidFill>
                <a:latin typeface="Trebuchet MS"/>
              </a:rPr>
              <a:t>Disfruta de la Vida a “TU” Velocidad..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ff00"/>
                </a:solidFill>
                <a:latin typeface="Trebuchet MS"/>
              </a:rPr>
              <a:t>¡ NO TE IMPIDAS SER FELIZ 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00"/>
                </a:solidFill>
                <a:latin typeface="Trebuchet MS"/>
              </a:rPr>
              <a:t>Haz Tuya la Felicida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516640"/>
            <a:ext cx="76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rebuchet MS"/>
              </a:rPr>
              <a:t>Reenvia a todos los que consideres amigos, inclusive a quien te lo envio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4T10:38:56Z</dcterms:created>
  <dc:creator>Alberto Melo Caldas</dc:creator>
  <dc:description/>
  <dc:language>en-US</dc:language>
  <cp:lastModifiedBy>amenendez</cp:lastModifiedBy>
  <dcterms:modified xsi:type="dcterms:W3CDTF">2007-05-10T10:45:25Z</dcterms:modified>
  <cp:revision>54</cp:revision>
  <dc:subject/>
  <dc:title>Sem título de diapositivo</dc:title>
</cp:coreProperties>
</file>