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ENYA_If%20I%20Could%20Be%20Where%20You%20Are_(16)_3'56.wav" ContentType="audio/x-wav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F53-5CD0-4613-A1A3-00692467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891-5120-4492-8D38-CBD22946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482-A86C-4E6F-ADEF-84B07E49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7AA-E746-4104-9B9D-5963AC1E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5B8-A9B6-413F-ACD1-E420DDDB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66B-2012-42E4-8F18-494206B5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0F7-E549-462D-B57F-63F2A15A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E08-BC04-473A-8B41-E150CC7B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BAE-EC0B-4025-801C-61A8D76E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ACE-1813-44CF-A56C-EDE588C3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C5A-6344-4CFC-AC85-AC2B34E6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E9D-7350-4B42-AF11-D54D694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7C04-D031-4F03-8D52-E66D200E6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YA_If%20I%20Could%20Be%20Where%20You%20Are_(16)_3&apos;56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est_photo_2007_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4936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0000"/>
                </a:solidFill>
                <a:latin typeface="Arial"/>
              </a:rPr>
              <a:t>Fot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522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de periodis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est_photo_200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est_photo_2007_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est_photo_2007_1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est_photo_2007_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ress_photo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ress_photo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ress_photo_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ress_photo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est_photo_2007_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ress_photo_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ress_photo_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ress_photo_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press_photo_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ress_photo_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ress_photo_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ress_photo_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press_photo_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press_photo_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ress_photo_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est_photo_2007_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ress_photo_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press_photo_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press_photo_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press_photo_59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ress_photo_36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ress_photo_71"/>
          <p:cNvPicPr/>
          <p:nvPr/>
        </p:nvPicPr>
        <p:blipFill>
          <a:blip r:embed="rId1"/>
          <a:stretch/>
        </p:blipFill>
        <p:spPr>
          <a:xfrm>
            <a:off x="971640" y="0"/>
            <a:ext cx="7056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1 Rectángulo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42360" cy="5151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est_photo_2007_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est_photo_2007_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est_photo_2007_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est_photo_2007_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est_photo_2007_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st_photo_2007_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2:26:09Z</dcterms:created>
  <dc:creator>since</dc:creator>
  <dc:description/>
  <dc:language>en-US</dc:language>
  <cp:lastModifiedBy>.</cp:lastModifiedBy>
  <dcterms:modified xsi:type="dcterms:W3CDTF">2009-04-20T02:35:48Z</dcterms:modified>
  <cp:revision>0</cp:revision>
  <dc:subject/>
  <dc:title>Fotos de periodistas</dc:title>
</cp:coreProperties>
</file>