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ENYA_If%20I%20Could%20Be%20Where%20You%20Are_(16)_3'56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E40-1A4C-4625-805C-1FBFC648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113-C733-4DC9-988B-4ACF9677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D57-AC87-43CA-9910-61EC923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ECD-C6AB-43F7-B732-607E4BDD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02C-E257-43E3-B542-BAD503E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064-F874-44F9-9A0C-5CB0E1A8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FDE-6496-43EA-B3AD-71668CB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8FD-1B8B-4B31-A19F-98317CF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346-885C-4EA0-B6B5-9CAC033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FF9-6667-4B0A-98E0-36A05AF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1F4-BC0F-4A5A-8D18-8E1B8CA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950-91E0-49EE-93EC-880AAAD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193-A572-4159-AF3D-31DE2FAB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_If%20I%20Could%20Be%20Where%20You%20Are_(16)_3&apos;56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est_photo_2007_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4936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0000"/>
                </a:solidFill>
                <a:latin typeface="Arial"/>
              </a:rPr>
              <a:t>Fo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522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de periodis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est_photo_200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est_photo_2007_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est_photo_2007_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est_photo_2007_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ress_photo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ress_photo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ress_photo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ress_photo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est_photo_2007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ress_photo_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ress_photo_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ress_photo_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ress_photo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ress_photo_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ress_photo_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ress_photo_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ress_photo_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ress_photo_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ress_photo_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est_photo_2007_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ress_photo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ress_photo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ess_photo_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ress_photo_5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ess_photo_36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ress_photo_71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est_photo_2007_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est_photo_2007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est_photo_2007_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est_photo_2007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est_photo_2007_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st_photo_2007_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26:09Z</dcterms:created>
  <dc:creator>since</dc:creator>
  <dc:description/>
  <dc:language>en-US</dc:language>
  <cp:lastModifiedBy>.</cp:lastModifiedBy>
  <dcterms:modified xsi:type="dcterms:W3CDTF">2009-04-20T02:35:48Z</dcterms:modified>
  <cp:revision>0</cp:revision>
  <dc:subject/>
  <dc:title>Fotos de periodistas</dc:title>
</cp:coreProperties>
</file>