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11.jpeg" ContentType="image/jpeg"/>
  <Override PartName="/ppt/media/MERCEDES%20SOSA%20-%20EL%20CONDOR%20PASA.wav" ContentType="audio/x-wav"/>
  <Override PartName="/ppt/media/image2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15E-6EFF-4059-9BEF-8649AAD5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347-F37C-466B-AF63-3BCD8FDD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7EA-CF9A-4710-8EE7-532F5866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FFF-9CDE-4E99-876A-30409576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97A4-AD6F-4F6D-B59F-594F0A0C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0C11-71DB-4576-853B-B984FC9C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95E7-B652-45F4-B681-B37AC9CD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FE59-543E-45CC-8013-7BF81C1F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6785-0276-486C-9569-D8363320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5A51-E924-4F64-9688-CD7555EC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28CA-4E08-4A49-8F40-B7057122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F39-1547-4132-869A-6BF6D404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2516-79D1-432A-B806-BB6CD4CA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1485-3AA8-4599-B7A3-E0102175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C43E-9BBB-4C13-9E3A-9797AA55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D11F-F215-49DE-8F01-223298D0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C15D-E79A-4D46-9194-1D02FB3C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0E3-4D0A-4A3E-8DC7-163B0862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9EA-310E-4826-A074-2F036AA7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6D4-C502-4632-B288-B94A733E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E07-DA94-4FA9-AB24-4B40869D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452-B82D-4955-BF75-B1880B5D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775-D388-40D8-B789-A652D372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DEE-00BF-4616-8536-975CF1E4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8240-179D-4709-A763-8B59393D4A5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BAA6-9459-4608-94AC-C413862EA88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MERCEDES%20SOSA%20-%20EL%20CONDOR%20PASA.wav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ffff"/>
                </a:solidFill>
                <a:latin typeface="Times New Roman"/>
              </a:rPr>
              <a:t>            </a:t>
            </a:r>
            <a:r>
              <a:rPr b="0" lang="es-MX" sz="9600" spc="-1" strike="noStrike">
                <a:solidFill>
                  <a:srgbClr val="ff00ff"/>
                </a:solidFill>
                <a:latin typeface="comic"/>
              </a:rPr>
              <a:t>PAISANIA</a:t>
            </a:r>
            <a:endParaRPr b="0" lang="en-US" sz="9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995640" y="404640"/>
            <a:ext cx="1079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3" name="MERCEDES%20SOSA%20-%20EL%20CONDOR%20PAS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28800" y="0"/>
            <a:ext cx="54864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5:57:40Z</dcterms:created>
  <dc:creator>REILLY</dc:creator>
  <dc:description/>
  <dc:language>en-US</dc:language>
  <cp:lastModifiedBy>PC</cp:lastModifiedBy>
  <dcterms:modified xsi:type="dcterms:W3CDTF">2009-02-04T21:28:37Z</dcterms:modified>
  <cp:revision>2</cp:revision>
  <dc:subject/>
  <dc:title>DIANA</dc:title>
</cp:coreProperties>
</file>