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11.jpeg" ContentType="image/jpeg"/>
  <Override PartName="/ppt/media/MERCEDES%20SOSA%20-%20EL%20CONDOR%20PASA.wav" ContentType="audio/x-wav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008-AF26-451D-9230-AD076D9D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B82-834E-4DFA-915F-46353CDB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227-2095-4521-9D8B-66C6DDAF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C2C-E66A-4359-AADD-0CFE3C62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19EE-3D0A-4355-B9D3-C3297161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7B47-52CF-4FAC-B0D7-F8D62B4E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7DA6-9D31-4946-BDA9-3FF5D5CD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0A4-2199-4DA5-942F-C5E8CC0F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92F0-0BDE-4AB6-96AD-9B7D4A49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AC39-9E56-4228-984C-E9AF5090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4F8A-CB4C-4720-B8E6-9F050040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087-34D2-4347-858D-6183D12A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8B87-43AE-45C3-9A0E-D6D773C8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0836-D600-472D-BF09-FB71997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2FAB-C3F0-4FF8-9F07-3FABE7C8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6062-1D52-4457-96A7-91A042B6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33C3-8FC5-4F99-9ADD-8D17DA6B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718-E5D6-411C-BBA9-7A92345E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BCE-9BCA-44C9-8685-9DBC7E33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73E-8A89-486F-A4FE-A7AE300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57A-CAAC-40E4-A28E-C336A35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982-2AB3-426D-AEB3-52F44090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0FB-4FA8-4CDB-80FB-7EA7331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170-3D97-4865-A6FF-A86C84C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BE00-D9CB-4C8C-BF5B-145467C1F22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09F5-8922-4565-95C0-0F2C8CC21C3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MERCEDES%20SOSA%20-%20EL%20CONDOR%20PASA.wav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s-MX" sz="9600" spc="-1" strike="noStrike">
                <a:solidFill>
                  <a:srgbClr val="ff00ff"/>
                </a:solidFill>
                <a:latin typeface="comic"/>
              </a:rPr>
              <a:t>PAISANIA</a:t>
            </a:r>
            <a:endParaRPr b="0" lang="en-US" sz="9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1079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MERCEDES%20SOSA%20-%20EL%20CONDOR%20PAS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28800" y="0"/>
            <a:ext cx="54864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5:57:40Z</dcterms:created>
  <dc:creator>REILLY</dc:creator>
  <dc:description/>
  <dc:language>en-US</dc:language>
  <cp:lastModifiedBy>PC</cp:lastModifiedBy>
  <dcterms:modified xsi:type="dcterms:W3CDTF">2009-02-04T21:28:37Z</dcterms:modified>
  <cp:revision>2</cp:revision>
  <dc:subject/>
  <dc:title>DIANA</dc:title>
</cp:coreProperties>
</file>