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CF0-2C23-4C6C-B260-985FB02B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3BC-7029-4951-9DC1-2E21135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A64-F91A-4369-9EA5-1DB4DAEB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8DE-A202-4DCC-9968-A897E2D8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BB7-797A-4E42-9E1B-F43C99E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3F0-9875-4451-8B58-350D790B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C4A-D941-4AFE-A977-FC61CC1B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087-DB74-4613-B894-578C78B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69D-91A9-463B-8775-577E68D8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B3F-BB31-4232-BE25-280E8AC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95B-A4DD-4DBE-B069-A7F230B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943-356B-4A8C-AC4D-DA4E1528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E0A2-FC1A-45AB-9ADE-F037C3C3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3205080" y="2133720"/>
            <a:ext cx="29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ff"/>
                </a:solidFill>
                <a:latin typeface="Arial"/>
              </a:rPr>
              <a:t>CEL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835280" y="1916280"/>
            <a:ext cx="568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l vehículo está expuesto al sol, las ventanas están cerradas y 2 celulares están dentro de la guan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Bajo el efecto del calor, la batería de uno de ellos explo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6864480" y="357120"/>
            <a:ext cx="228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La explo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rompe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parabr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33640" y="57240"/>
            <a:ext cx="6876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258920" y="1341360"/>
            <a:ext cx="637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fortunadamente no hubo víctimas, porque nadie estaba dentro del au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ero los daños causados son impresionantes.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611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6572160" y="571680"/>
            <a:ext cx="232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El calor de la explos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 la bater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rrit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258920" y="54936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a temperatura de un carro expuesto al sol, sin ventilación, puede alcanzar hasta más de  65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403280" y="2205000"/>
            <a:ext cx="63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o suficiente para desencadenar la explosión de una batería de cel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116000" y="3357720"/>
            <a:ext cx="731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Nunca deje un celular dentro del carro, expuesto al sol, aunque est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 desconectad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!OJ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1:01:25Z</dcterms:created>
  <dc:creator>Serge</dc:creator>
  <dc:description/>
  <dc:language>en-US</dc:language>
  <cp:lastModifiedBy>chomy</cp:lastModifiedBy>
  <dcterms:modified xsi:type="dcterms:W3CDTF">2010-09-09T03:11:54Z</dcterms:modified>
  <cp:revision>25</cp:revision>
  <dc:subject/>
  <dc:title>Insolites 6</dc:title>
</cp:coreProperties>
</file>