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513A-8E46-4E25-92AE-A2FFD9F40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87DE-7A01-4EBB-81F6-AAB5893D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27B9-6383-4EED-918E-53E66D1C5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4D79-9179-4B37-B196-D07B3013D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DA54-8213-4AAB-A6A0-1144850D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7FA7-4A0D-4B1F-96B7-E48C6559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49E1-4656-43D5-ABB5-0460F784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D12E-BFF6-4467-B8E2-747377E8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3B47-2C81-4E4A-A744-62B67635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D39E-1C9D-434A-8B23-8DF1508F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BC8D-25A5-4D96-AD93-4760D2E5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24B0-F890-43C7-B54D-AA9CB838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4300-59E3-4473-8564-D76C231F8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4"/>
          <p:cNvSpPr/>
          <p:nvPr/>
        </p:nvSpPr>
        <p:spPr>
          <a:xfrm>
            <a:off x="3205080" y="2133720"/>
            <a:ext cx="299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800" spc="-1" strike="noStrike">
                <a:solidFill>
                  <a:srgbClr val="ffffff"/>
                </a:solidFill>
                <a:latin typeface="Arial"/>
              </a:rPr>
              <a:t>CELUL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1835280" y="1916280"/>
            <a:ext cx="5689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El vehículo está expuesto al sol, las ventanas están cerradas y 2 celulares están dentro de la guante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Bajo el efecto del calor, la batería de uno de ellos explo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6929280" cy="68673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6864480" y="357120"/>
            <a:ext cx="228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La explos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rompe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parabris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1133640" y="57240"/>
            <a:ext cx="687672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1258920" y="1341360"/>
            <a:ext cx="637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Afortunadamente no hubo víctimas, porque nadie estaba dentro del au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Pero los daños causados son impresionantes.</a:t>
            </a: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6117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2"/>
          <p:cNvSpPr/>
          <p:nvPr/>
        </p:nvSpPr>
        <p:spPr>
          <a:xfrm>
            <a:off x="6572160" y="571680"/>
            <a:ext cx="232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El calor de la explosi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de la bater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derriti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 la conso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1258920" y="549360"/>
            <a:ext cx="709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La temperatura de un carro expuesto al sol, sin ventilación, puede alcanzar hasta más de  65</a:t>
            </a: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°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1403280" y="2205000"/>
            <a:ext cx="631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Lo suficiente para desencadenar la explosión de una batería de celu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116000" y="3357720"/>
            <a:ext cx="7310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d9d9d9"/>
                </a:solidFill>
                <a:latin typeface="Arial"/>
              </a:rPr>
              <a:t>Nunca deje un celular dentro del carro, expuesto al sol, aunque est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fr-CH" sz="3200" spc="-1" strike="noStrike">
                <a:solidFill>
                  <a:srgbClr val="d9d9d9"/>
                </a:solidFill>
                <a:latin typeface="Arial"/>
              </a:rPr>
              <a:t> desconectado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d9d9d9"/>
                </a:solidFill>
                <a:latin typeface="Arial"/>
              </a:rPr>
              <a:t>!OJO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11:01:25Z</dcterms:created>
  <dc:creator>Serge</dc:creator>
  <dc:description/>
  <dc:language>en-US</dc:language>
  <cp:lastModifiedBy>chomy</cp:lastModifiedBy>
  <dcterms:modified xsi:type="dcterms:W3CDTF">2010-09-09T03:11:54Z</dcterms:modified>
  <cp:revision>25</cp:revision>
  <dc:subject/>
  <dc:title>Insolites 6</dc:title>
</cp:coreProperties>
</file>