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gif" ContentType="image/gif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2264-408E-4C8A-AFAA-C96A704A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0D84-C4D2-4E63-A574-EA859C60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A3E5-65C3-4143-A34F-DEEACFAD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EDD1-CCA0-4158-89DB-C2B35644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D0FA-48EA-49F8-976A-A642B2E1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4F44-9810-47EC-9BC0-7E58AFC9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D048-E9C6-4046-A1B7-159ACB21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E8D1-75A8-4CF2-892D-8A5C326D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44CA-F1A4-4BFC-B960-175792A6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97DC-0A1F-4073-955C-ECAFD628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D624-47E5-4EA3-A1FE-48EEB377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07F7-6D57-45DD-8BE6-421839B4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4B4B-5DAE-4E77-93DE-470A0AD70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55640" y="1268280"/>
            <a:ext cx="756144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310201"/>
                  </a:outerShdw>
                </a:effectLst>
                <a:latin typeface="Matura MT Script Capitals"/>
              </a:rPr>
              <a:t>El árbol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310201"/>
                </a:outerShdw>
              </a:effectLst>
              <a:latin typeface="Matura MT Script Capitals"/>
              <a:ea typeface="Matura MT Script Capital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843280" y="-1440"/>
            <a:ext cx="6011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e5bee"/>
                </a:solidFill>
                <a:latin typeface="Comic Sans MS"/>
              </a:rPr>
              <a:t>Valoremos a nuestros padres mientras los tengamos a nuestro lado y si ya no están, que la llama de su amor viva por siempre en tu corazón y su recuerdo te d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e5bee"/>
                </a:solidFill>
                <a:latin typeface="Comic Sans MS"/>
              </a:rPr>
              <a:t>fuerza cuando la requi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e5bee"/>
                </a:solidFill>
                <a:latin typeface="Comic Sans MS"/>
              </a:rPr>
              <a:t>y para que puedas s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e5bee"/>
                </a:solidFill>
                <a:latin typeface="Comic Sans MS"/>
              </a:rPr>
              <a:t>tan vali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e5bee"/>
                </a:solidFill>
                <a:latin typeface="Comic Sans MS"/>
              </a:rPr>
              <a:t>como lo fuer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e5bee"/>
                </a:solidFill>
                <a:latin typeface="Comic Sans MS"/>
              </a:rPr>
              <a:t>ellos contigo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1080" y="314280"/>
            <a:ext cx="565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d10de"/>
                </a:solidFill>
                <a:latin typeface="Comic Sans MS"/>
              </a:rPr>
              <a:t>Asi que, buenos o malos padr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d10de"/>
                </a:solidFill>
                <a:latin typeface="Comic Sans MS"/>
              </a:rPr>
              <a:t>nos han dado la mejor de las oportunidad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d10de"/>
                </a:solidFill>
                <a:latin typeface="Comic Sans MS"/>
              </a:rPr>
              <a:t>el mejor regalo que hay en el mund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67240" y="2276640"/>
            <a:ext cx="736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704fc"/>
                </a:solidFill>
                <a:latin typeface="Cooper Black"/>
              </a:rPr>
              <a:t>EL DON DE LA VIDA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2400" y="6021360"/>
            <a:ext cx="526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Gracias Padres, los AMO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nimClr clrSpc="hsl" dir="cw">
                                      <p:cBhvr>
                                        <p:cTn id="89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0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2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50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mph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60280" y="333360"/>
            <a:ext cx="6639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e5bee"/>
                </a:solidFill>
                <a:latin typeface="Comic Sans MS"/>
              </a:rPr>
              <a:t>Envía esto a tus amigos, para que no dejen de valor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e5bee"/>
                </a:solidFill>
                <a:latin typeface="Comic Sans MS"/>
              </a:rPr>
              <a:t>lo afortunado que son de tener a sus padres a su l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2fba"/>
                </a:solidFill>
                <a:latin typeface="Comic Sans MS"/>
              </a:rPr>
              <a:t>Recuerda que te quiero mucho…..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55640" y="2276640"/>
            <a:ext cx="806436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310201"/>
                  </a:outerShdw>
                </a:effectLst>
                <a:latin typeface="Mangal"/>
              </a:rPr>
              <a:t>Que Dios te bendiga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310201"/>
                </a:outerShdw>
              </a:effectLst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100"/>
                            </p:stCondLst>
                            <p:childTnLst>
                              <p:par>
                                <p:cTn id="1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48000" y="195120"/>
            <a:ext cx="5489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04fc"/>
                </a:solidFill>
                <a:latin typeface="Comic Sans MS"/>
              </a:rPr>
              <a:t>Hace mucho tiempo existía un enorme árbol de manzanas. Un pequeño niño lo amaba mucho y todos los días jugaba alrededor de é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04fc"/>
                </a:solidFill>
                <a:latin typeface="Comic Sans MS"/>
              </a:rPr>
              <a:t>Trepaba al árbol hasta el to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04fc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2704fc"/>
                </a:solidFill>
                <a:latin typeface="Comic Sans MS"/>
              </a:rPr>
              <a:t>y el le daba somb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04fc"/>
                </a:solidFill>
                <a:latin typeface="Comic Sans MS"/>
              </a:rPr>
              <a:t>El amaba al árbol y el árbol amaba al niño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16360" y="6021000"/>
            <a:ext cx="58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ff"/>
                </a:solidFill>
                <a:latin typeface="Comic Sans MS"/>
              </a:rPr>
              <a:t>Pasó el tiempo y el pequeño niño creció y nunca más volvió a jugar alrededor del enorme árb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627280" y="33840"/>
            <a:ext cx="61819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Un día el muchacho regresó al árbol y escuchó que el árbol le dijo triste: </a:t>
            </a:r>
            <a:br>
              <a:rPr sz="1800"/>
            </a:b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"¿Vienes a jugar conmigo?" pero el muchacho contestó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"Ya no soy el niño de antes que jugaba alreded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de enormes árbo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Lo que ahora quiero son jugue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y necesito dinero para comprarlos"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0" y="1080"/>
            <a:ext cx="4319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"Lo siento, dijo el árbol, pero no tengo dinero... Te sugiero que tomes todas mis manzanas y las vendas. De esta manera tú obtendrás el dinero para tus juguetes"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El muchacho se sintió muy feliz.</a:t>
            </a:r>
            <a:br>
              <a:rPr sz="1800"/>
            </a:b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Tomó todas las manzan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y obtuvo el di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para comprar sus juguet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entonces el árb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volvió a ser feliz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0920" y="594936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c9ff"/>
                </a:solidFill>
                <a:latin typeface="Comic Sans MS"/>
              </a:rPr>
              <a:t>Pero el muchacho ya no regresó después de obtener el dine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c9ff"/>
                </a:solidFill>
                <a:latin typeface="Comic Sans MS"/>
              </a:rPr>
              <a:t>y el árbol volvió a estar tris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680" y="5157720"/>
            <a:ext cx="13590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41640" y="33840"/>
            <a:ext cx="52023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Tiempo después, el muchacho regresó y el árbol se puso feliz y le preguntó:</a:t>
            </a:r>
            <a:br>
              <a:rPr sz="1800"/>
            </a:b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"¿Vienes a jugar conmigo?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"No tengo tiempo para jugar. Debo de trabajar para mi familia. Necesito una casa para compartir con mi esposa e hi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¿Puedes ayudarme?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5589720"/>
            <a:ext cx="1763640" cy="1268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-396720" y="5392800"/>
            <a:ext cx="954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af79"/>
                </a:solidFill>
                <a:latin typeface="Comic Sans MS"/>
              </a:rPr>
              <a:t>" Lo siento, pero no tengo una cas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af79"/>
                </a:solidFill>
                <a:latin typeface="Comic Sans MS"/>
              </a:rPr>
              <a:t>pero...tú puedes cortar mis ramas y construir tu casa".</a:t>
            </a:r>
            <a:br>
              <a:rPr sz="1800"/>
            </a:br>
            <a:r>
              <a:rPr b="0" lang="en-US" sz="1800" spc="-1" strike="noStrike">
                <a:solidFill>
                  <a:srgbClr val="ffaf79"/>
                </a:solidFill>
                <a:latin typeface="Comic Sans MS"/>
              </a:rPr>
              <a:t>El joven cortó todas las ramas del árbol y esto hizo feliz nuevamente al árbo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af79"/>
                </a:solidFill>
                <a:latin typeface="Comic Sans MS"/>
              </a:rPr>
              <a:t>pero el joven nunca más volvió desde esa ve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af79"/>
                </a:solidFill>
                <a:latin typeface="Comic Sans MS"/>
              </a:rPr>
              <a:t>y el árbol volvió a estar triste y solit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08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00"/>
                </a:solidFill>
                <a:latin typeface="Comic Sans MS"/>
              </a:rPr>
              <a:t>Cierto día de un cálido verano, el hombre regresó y el árbol estaba encantado. "Vienes a jugar conmigo? le preguntó el árb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00"/>
                </a:solidFill>
                <a:latin typeface="Comic Sans MS"/>
              </a:rPr>
              <a:t>El hombre contestó: "Estoy triste y volviéndome viejo. Quiero un bote para navegar y descansar. ¿Puedes darme uno?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00"/>
                </a:solidFill>
                <a:latin typeface="Comic Sans MS"/>
              </a:rPr>
              <a:t>El árbol le contestó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00"/>
                </a:solidFill>
                <a:latin typeface="Comic Sans MS"/>
              </a:rPr>
              <a:t>"Usa mi tronco para que pue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00"/>
                </a:solidFill>
                <a:latin typeface="Comic Sans MS"/>
              </a:rPr>
              <a:t>construir uno y así puedas naveg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00"/>
                </a:solidFill>
                <a:latin typeface="Comic Sans MS"/>
              </a:rPr>
              <a:t>y ser feliz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00"/>
                </a:solidFill>
                <a:latin typeface="Comic Sans MS"/>
              </a:rPr>
              <a:t>El hombre cortó el tron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00"/>
                </a:solidFill>
                <a:latin typeface="Comic Sans MS"/>
              </a:rPr>
              <a:t>y construyó su bo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00"/>
                </a:solidFill>
                <a:latin typeface="Comic Sans MS"/>
              </a:rPr>
              <a:t>Luego se fue a naveg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00"/>
                </a:solidFill>
                <a:latin typeface="Comic Sans MS"/>
              </a:rPr>
              <a:t>por un largo tiempo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50920" y="5340240"/>
            <a:ext cx="2160360" cy="1446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03280" y="5661000"/>
            <a:ext cx="74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5f397"/>
                </a:solidFill>
                <a:latin typeface="Comic Sans MS"/>
              </a:rPr>
              <a:t>Esto sin duda, hizo feliz nuevamente al árbo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5f397"/>
                </a:solidFill>
                <a:latin typeface="Comic Sans MS"/>
              </a:rPr>
              <a:t>pero el hombre, ya adulto ya no regres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5f397"/>
                </a:solidFill>
                <a:latin typeface="Comic Sans MS"/>
              </a:rPr>
              <a:t>desde esa vez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5f397"/>
                </a:solidFill>
                <a:latin typeface="Comic Sans MS"/>
              </a:rPr>
              <a:t>y el árbol volvió a estar triste y solit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00000" y="123120"/>
            <a:ext cx="79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Finalmente el hombre regresó después de muchos años y el árbol le dijo: "Lo siento mucho, pero ya no tenga nada que darte ni siquiera manzanas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El hombre replicó "No tengo dientes para mord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ni fuerza para escala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Por ahora ya estoy viejo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720"/>
            <a:ext cx="91440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Entonces el árbol con las lágrimas brotándole le dijo, “Ahora ya no puedo darte nada... la única cosa que me queda son mis raíces muertas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Y el hombre contestó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"Yo no necesito mucho ahora, solo un lugar para descansar. </a:t>
            </a:r>
            <a:br>
              <a:rPr sz="1800"/>
            </a:b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Estoy tan cansado después de tantos años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"Bueno, resumió el árbo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las viejas raíces de un árbo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son el mejor lug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para recostarse y descans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Ven, siéntate conmi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y descansa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9080" y="6490440"/>
            <a:ext cx="84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cc"/>
                </a:solidFill>
                <a:latin typeface="Comic Sans MS"/>
              </a:rPr>
              <a:t>El hombre se sentó junto al árbol y este feliz y contento, sonrió con lágrim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5084640"/>
            <a:ext cx="1476360" cy="12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92360" y="106920"/>
            <a:ext cx="745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5bee"/>
                </a:solidFill>
                <a:latin typeface="Comic Sans MS"/>
              </a:rPr>
              <a:t>Esta puede ser la historia de cada uno de nosotr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5bee"/>
                </a:solidFill>
                <a:latin typeface="Comic Sans MS"/>
              </a:rPr>
              <a:t>El árbol son nuestros pad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5bee"/>
                </a:solidFill>
                <a:latin typeface="Comic Sans MS"/>
              </a:rPr>
              <a:t>Cuando somos niños, los amamos y jugamos con papá y mamá..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8035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Comic Sans MS"/>
              </a:rPr>
              <a:t>Tú puedes pensar que el muchacho es cruel contra el árbo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Comic Sans MS"/>
              </a:rPr>
              <a:t>pero es así como algunos tratan a los padr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91040" y="1484280"/>
            <a:ext cx="3252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6e1c"/>
                </a:solidFill>
                <a:latin typeface="Comic Sans MS"/>
              </a:rPr>
              <a:t>Cuando crecemos los dejamos 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6e1c"/>
                </a:solidFill>
                <a:latin typeface="Comic Sans MS"/>
              </a:rPr>
              <a:t>sólo regresamos a ellos cuando los necesitamos o estamos en problema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89760" y="3141720"/>
            <a:ext cx="3054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c42a"/>
                </a:solidFill>
                <a:latin typeface="Comic Sans MS"/>
              </a:rPr>
              <a:t>No importa lo que sea, ellos siempre están allí para dar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c42a"/>
                </a:solidFill>
                <a:latin typeface="Comic Sans MS"/>
              </a:rPr>
              <a:t>todo lo que pue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c42a"/>
                </a:solidFill>
                <a:latin typeface="Comic Sans MS"/>
              </a:rPr>
              <a:t>y hacernos fel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34,16,-83)"/>
                                      </p:to>
                                    </p:set>
                                    <p:set>
                                      <p:cBhvr>
                                        <p:cTn id="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34,16,-83)"/>
                                      </p:to>
                                    </p:set>
                                    <p:set>
                                      <p:cBhvr>
                                        <p:cTn id="5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50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70,47,-1)"/>
                                      </p:to>
                                    </p:set>
                                    <p:set>
                                      <p:cBhvr>
                                        <p:cTn id="66" dur="50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70,47,-1)"/>
                                      </p:to>
                                    </p:set>
                                    <p:set>
                                      <p:cBhvr>
                                        <p:cTn id="67" dur="50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Clr clrSpc="rgb">
                                      <p:cBhvr>
                                        <p:cTn id="7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600"/>
                            </p:stCondLst>
                            <p:childTnLst>
                              <p:par>
                                <p:cTn id="79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05:28:44Z</dcterms:created>
  <dc:creator>GABRIELA LOPEZ</dc:creator>
  <dc:description/>
  <dc:language>en-US</dc:language>
  <cp:lastModifiedBy>Primero</cp:lastModifiedBy>
  <dcterms:modified xsi:type="dcterms:W3CDTF">2010-02-24T10:32:26Z</dcterms:modified>
  <cp:revision>9</cp:revision>
  <dc:subject/>
  <dc:title>Diapositiva 1</dc:title>
</cp:coreProperties>
</file>