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29B-0137-40E2-8D2F-7E3CDBE5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42A-0A25-4328-AE4D-C0638A10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9E0-4CF8-4116-ACCA-DF4DB938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E43-BE25-4812-B63C-3CE2D318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9A7-22C8-4959-BE75-C9F6D917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08E-37A2-4CEC-9F50-3155258B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6B3-A7D3-42ED-9799-DF0A8680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5B4-CBB8-4254-8C3C-B04B952C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700-C79B-4B26-A239-88787DAF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4A2-3C83-477D-80DA-ADE193C0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951-8DE1-421D-8798-C83A892E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C46-4839-4B63-A805-FFBE7BF6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3CA-FF0D-4350-811D-A543C495C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1268280"/>
            <a:ext cx="7561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310201"/>
                  </a:outerShdw>
                </a:effectLst>
                <a:latin typeface="Matura MT Script Capitals"/>
              </a:rPr>
              <a:t>El árbol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310201"/>
                </a:outerShdw>
              </a:effectLst>
              <a:latin typeface="Matura MT Script Capitals"/>
              <a:ea typeface="Matura MT Script Capital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43280" y="-1440"/>
            <a:ext cx="601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Valoremos a nuestros padres mientras los tengamos a nuestro lado y si ya no están, que la llama de su amor viva por siempre en tu corazón y su recuerdo te d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fuerza cuando la requi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y para que puedas 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tan val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como lo fuer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ellos contigo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1080" y="314280"/>
            <a:ext cx="565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d10de"/>
                </a:solidFill>
                <a:latin typeface="Comic Sans MS"/>
              </a:rPr>
              <a:t>Asi que, buenos o malos padr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d10de"/>
                </a:solidFill>
                <a:latin typeface="Comic Sans MS"/>
              </a:rPr>
              <a:t>nos han dado la mejor de las oportunidad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d10de"/>
                </a:solidFill>
                <a:latin typeface="Comic Sans MS"/>
              </a:rPr>
              <a:t>el mejor regalo que hay en el mun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7240" y="2276640"/>
            <a:ext cx="736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704fc"/>
                </a:solidFill>
                <a:latin typeface="Cooper Black"/>
              </a:rPr>
              <a:t>EL DON DE LA VID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2400" y="6021360"/>
            <a:ext cx="52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Gracias Padres, los AMO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nimClr clrSpc="hsl" dir="cw">
                                      <p:cBhvr>
                                        <p:cTn id="8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60280" y="333360"/>
            <a:ext cx="663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5bee"/>
                </a:solidFill>
                <a:latin typeface="Comic Sans MS"/>
              </a:rPr>
              <a:t>Envía esto a tus amigos, para que no dejen de valo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e5bee"/>
                </a:solidFill>
                <a:latin typeface="Comic Sans MS"/>
              </a:rPr>
              <a:t>lo afortunado que son de tener a sus padres a su 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2fba"/>
                </a:solidFill>
                <a:latin typeface="Comic Sans MS"/>
              </a:rPr>
              <a:t>Recuerda que te quiero mucho…..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5640" y="2276640"/>
            <a:ext cx="8064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310201"/>
                  </a:outerShdw>
                </a:effectLst>
                <a:latin typeface="Mangal"/>
              </a:rPr>
              <a:t>Que Dios te bendiga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310201"/>
                </a:outerShdw>
              </a:effectLst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10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48000" y="195120"/>
            <a:ext cx="548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04fc"/>
                </a:solidFill>
                <a:latin typeface="Comic Sans MS"/>
              </a:rPr>
              <a:t>Hace mucho tiempo existía un enorme árbol de manzanas. Un pequeño niño lo amaba mucho y todos los días jugaba alrededor de é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04fc"/>
                </a:solidFill>
                <a:latin typeface="Comic Sans MS"/>
              </a:rPr>
              <a:t>Trepaba al árbol hasta el t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04fc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2704fc"/>
                </a:solidFill>
                <a:latin typeface="Comic Sans MS"/>
              </a:rPr>
              <a:t>y el le daba som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04fc"/>
                </a:solidFill>
                <a:latin typeface="Comic Sans MS"/>
              </a:rPr>
              <a:t>El amaba al árbol y el árbol amaba al niñ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6021000"/>
            <a:ext cx="58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Comic Sans MS"/>
              </a:rPr>
              <a:t>Pasó el tiempo y el pequeño niño creció y nunca más volvió a jugar alrededor del enorme árb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27280" y="33840"/>
            <a:ext cx="6181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Un día el muchacho regresó al árbol y escuchó que el árbol le dijo triste: </a:t>
            </a:r>
            <a:br>
              <a:rPr sz="1800"/>
            </a:b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"¿Vienes a jugar conmigo?" pero el muchacho contest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"Ya no soy el niño de antes que jugaba alrede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de enormes árbo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Lo que ahora quiero son jugue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y necesito dinero para comprarlos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1080"/>
            <a:ext cx="431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"Lo siento, dijo el árbol, pero no tengo dinero... Te sugiero que tomes todas mis manzanas y las vendas. De esta manera tú obtendrás el dinero para tus juguetes"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l muchacho se sintió muy feliz.</a:t>
            </a:r>
            <a:br>
              <a:rPr sz="1800"/>
            </a:b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Tomó todas las manza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y obtuvo el d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para comprar sus jugue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entonces el árb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volvió a ser feliz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5949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c9ff"/>
                </a:solidFill>
                <a:latin typeface="Comic Sans MS"/>
              </a:rPr>
              <a:t>Pero el muchacho ya no regresó después de obtener el din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c9ff"/>
                </a:solidFill>
                <a:latin typeface="Comic Sans MS"/>
              </a:rPr>
              <a:t>y el árbol volvió a estar tri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680" y="5157720"/>
            <a:ext cx="1359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41640" y="33840"/>
            <a:ext cx="5202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Tiempo después, el muchacho regresó y el árbol se puso feliz y le preguntó:</a:t>
            </a:r>
            <a:br>
              <a:rPr sz="1800"/>
            </a:b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"¿Vienes a jugar conmigo?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"No tengo tiempo para jugar. Debo de trabajar para mi familia. Necesito una casa para compartir con mi esposa e h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¿Puedes ayudarme?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589720"/>
            <a:ext cx="1763640" cy="126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396720" y="5392800"/>
            <a:ext cx="95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f79"/>
                </a:solidFill>
                <a:latin typeface="Comic Sans MS"/>
              </a:rPr>
              <a:t>" Lo siento, pero no tengo una ca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f79"/>
                </a:solidFill>
                <a:latin typeface="Comic Sans MS"/>
              </a:rPr>
              <a:t>pero...tú puedes cortar mis ramas y construir tu casa".</a:t>
            </a:r>
            <a:br>
              <a:rPr sz="1800"/>
            </a:br>
            <a:r>
              <a:rPr b="0" lang="en-US" sz="1800" spc="-1" strike="noStrike">
                <a:solidFill>
                  <a:srgbClr val="ffaf79"/>
                </a:solidFill>
                <a:latin typeface="Comic Sans MS"/>
              </a:rPr>
              <a:t>El joven cortó todas las ramas del árbol y esto hizo feliz nuevamente al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f79"/>
                </a:solidFill>
                <a:latin typeface="Comic Sans MS"/>
              </a:rPr>
              <a:t>pero el joven nunca más volvió desde esa v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f79"/>
                </a:solidFill>
                <a:latin typeface="Comic Sans MS"/>
              </a:rPr>
              <a:t>y el árbol volvió a estar triste y solit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Cierto día de un cálido verano, el hombre regresó y el árbol estaba encantado. "Vienes a jugar conmigo? le preguntó el árb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El hombre contestó: "Estoy triste y volviéndome viejo. Quiero un bote para navegar y descansar. ¿Puedes darme uno?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El árbol le contest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"Usa mi tronco para que pue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construir uno y así puedas nave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y ser feliz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El hombre cortó el tron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y construyó su bo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Luego se fue a nave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00"/>
                </a:solidFill>
                <a:latin typeface="Comic Sans MS"/>
              </a:rPr>
              <a:t>por un largo tiemp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0920" y="5340240"/>
            <a:ext cx="2160360" cy="1446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03280" y="566100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f397"/>
                </a:solidFill>
                <a:latin typeface="Comic Sans MS"/>
              </a:rPr>
              <a:t>Esto sin duda, hizo feliz nuevamente al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f397"/>
                </a:solidFill>
                <a:latin typeface="Comic Sans MS"/>
              </a:rPr>
              <a:t>pero el hombre, ya adulto ya no regres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f397"/>
                </a:solidFill>
                <a:latin typeface="Comic Sans MS"/>
              </a:rPr>
              <a:t>desde esa ve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f397"/>
                </a:solidFill>
                <a:latin typeface="Comic Sans MS"/>
              </a:rPr>
              <a:t>y el árbol volvió a estar triste y solit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12312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Finalmente el hombre regresó después de muchos años y el árbol le dijo: "Lo siento mucho, pero ya no tenga nada que darte ni siquiera manzana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El hombre replicó "No tengo dientes para mor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ni fuerza para escala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Por ahora ya estoy viejo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72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Entonces el árbol con las lágrimas brotándole le dijo, “Ahora ya no puedo darte nada... la única cosa que me queda son mis raíces muerta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Y el hombre contest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"Yo no necesito mucho ahora, solo un lugar para descansar. </a:t>
            </a:r>
            <a:br>
              <a:rPr sz="1800"/>
            </a:b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Estoy tan cansado después de tantos año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"Bueno, resumió el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las viejas raíces de un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son el mejor lug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para recostarse y descans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Ven, siéntate conmi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Comic Sans MS"/>
              </a:rPr>
              <a:t>y descansa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080" y="6490440"/>
            <a:ext cx="84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cc"/>
                </a:solidFill>
                <a:latin typeface="Comic Sans MS"/>
              </a:rPr>
              <a:t>El hombre se sentó junto al árbol y este feliz y contento, sonrió con lágri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147636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92360" y="106920"/>
            <a:ext cx="74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5bee"/>
                </a:solidFill>
                <a:latin typeface="Comic Sans MS"/>
              </a:rPr>
              <a:t>Esta puede ser la historia de cada uno de nosot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5bee"/>
                </a:solidFill>
                <a:latin typeface="Comic Sans MS"/>
              </a:rPr>
              <a:t>El árbol son nuestros pad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5bee"/>
                </a:solidFill>
                <a:latin typeface="Comic Sans MS"/>
              </a:rPr>
              <a:t>Cuando somos niños, los amamos y jugamos con papá y mamá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8035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Comic Sans MS"/>
              </a:rPr>
              <a:t>Tú puedes pensar que el muchacho es cruel contra el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Comic Sans MS"/>
              </a:rPr>
              <a:t>pero es así como algunos tratan a los padr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91040" y="1484280"/>
            <a:ext cx="325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6e1c"/>
                </a:solidFill>
                <a:latin typeface="Comic Sans MS"/>
              </a:rPr>
              <a:t>Cuando crecemos los dejamos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6e1c"/>
                </a:solidFill>
                <a:latin typeface="Comic Sans MS"/>
              </a:rPr>
              <a:t>sólo regresamos a ellos cuando los necesitamos o estamos en problem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89760" y="3141720"/>
            <a:ext cx="305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c42a"/>
                </a:solidFill>
                <a:latin typeface="Comic Sans MS"/>
              </a:rPr>
              <a:t>No importa lo que sea, ellos siempre están allí para da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c42a"/>
                </a:solidFill>
                <a:latin typeface="Comic Sans MS"/>
              </a:rPr>
              <a:t>todo lo que pu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c42a"/>
                </a:solidFill>
                <a:latin typeface="Comic Sans MS"/>
              </a:rPr>
              <a:t>y hacernos fel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4,16,-83)"/>
                                      </p:to>
                                    </p:set>
                                    <p:set>
                                      <p:cBhvr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4,16,-83)"/>
                                      </p:to>
                                    </p:set>
                                    <p:set>
                                      <p:cBhvr>
                                        <p:cTn id="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70,47,-1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70,47,-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600"/>
                            </p:stCondLst>
                            <p:childTnLst>
                              <p:par>
                                <p:cTn id="7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5:28:44Z</dcterms:created>
  <dc:creator>GABRIELA LOPEZ</dc:creator>
  <dc:description/>
  <dc:language>en-US</dc:language>
  <cp:lastModifiedBy>Primero</cp:lastModifiedBy>
  <dcterms:modified xsi:type="dcterms:W3CDTF">2010-02-24T10:32:26Z</dcterms:modified>
  <cp:revision>9</cp:revision>
  <dc:subject/>
  <dc:title>Diapositiva 1</dc:title>
</cp:coreProperties>
</file>