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Te%20he%20visto%20pasar.wav" ContentType="audio/x-wav"/>
  <Override PartName="/ppt/media/image33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921-3142-4A4D-B0B9-77D71F26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07F-646C-4307-86CF-EA3B0B5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D70-7513-459B-885B-515059DF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339-D3E7-4B9E-98C4-34A5B432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418-F2EC-47E0-BF66-C4853D6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883-6C6D-41F2-B1EB-E30C6F1D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030-1BB4-4C95-A0C3-6AFEE1F0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4A9-0216-437F-BCEF-C7B6D87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FC6-352F-43D2-8051-118255A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D65-7A52-456E-84DB-2A14AB8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719-61D2-469F-9F9F-B5392A4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8C7-6B4F-4DC8-9DA3-2D3102C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B18-0D57-4FBB-86A7-7E051AACDF6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Te%20he%20visto%20pasa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6480" y="566640"/>
            <a:ext cx="8905680" cy="4565880"/>
          </a:xfrm>
          <a:prstGeom prst="rect">
            <a:avLst/>
          </a:prstGeom>
          <a:ln w="0">
            <a:noFill/>
          </a:ln>
        </p:spPr>
      </p:pic>
      <p:pic>
        <p:nvPicPr>
          <p:cNvPr id="42" name="CasellaDiTesto 3" descr=""/>
          <p:cNvPicPr/>
          <p:nvPr/>
        </p:nvPicPr>
        <p:blipFill>
          <a:blip r:embed="rId2"/>
          <a:stretch/>
        </p:blipFill>
        <p:spPr>
          <a:xfrm>
            <a:off x="6076800" y="5535720"/>
            <a:ext cx="2517840" cy="5238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  <p:sndAc>
      <p:stSnd>
        <p:snd r:embed="rId3" name="Te%20he%20visto%20pas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Gabi\Desktop\New folder\18.jpg"/>
          <p:cNvPicPr/>
          <p:nvPr/>
        </p:nvPicPr>
        <p:blipFill>
          <a:blip r:embed="rId1"/>
          <a:stretch/>
        </p:blipFill>
        <p:spPr>
          <a:xfrm>
            <a:off x="324000" y="361800"/>
            <a:ext cx="8496000" cy="6091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Gabi\Desktop\New folder\19.jpg"/>
          <p:cNvPicPr/>
          <p:nvPr/>
        </p:nvPicPr>
        <p:blipFill>
          <a:blip r:embed="rId1"/>
          <a:stretch/>
        </p:blipFill>
        <p:spPr>
          <a:xfrm>
            <a:off x="1908000" y="189000"/>
            <a:ext cx="5185080" cy="6377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Gabi\Desktop\New folder\20.jpg"/>
          <p:cNvPicPr/>
          <p:nvPr/>
        </p:nvPicPr>
        <p:blipFill>
          <a:blip r:embed="rId1"/>
          <a:stretch/>
        </p:blipFill>
        <p:spPr>
          <a:xfrm>
            <a:off x="647640" y="18900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4"/>
          <p:cNvSpPr/>
          <p:nvPr/>
        </p:nvSpPr>
        <p:spPr>
          <a:xfrm>
            <a:off x="826920" y="5157720"/>
            <a:ext cx="749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Un cuerpo humano puede soportar sólo hasta 45% del dolor, pero en el momento del parto, una mujer siente hasta 57% del dolor, que es similar a veinte huesos que se fracturan a la vez</a:t>
            </a: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2060"/>
                </a:solidFill>
                <a:latin typeface="Arial"/>
              </a:rPr>
              <a:t>Ama a tu madre, porque es la persona más hermosa en esta tierra, nuestra mejor crítica, aún nuestra partidaria más fuerte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Gabi\Desktop\New folder\21.jpg"/>
          <p:cNvPicPr/>
          <p:nvPr/>
        </p:nvPicPr>
        <p:blipFill>
          <a:blip r:embed="rId1"/>
          <a:stretch/>
        </p:blipFill>
        <p:spPr>
          <a:xfrm>
            <a:off x="539640" y="404640"/>
            <a:ext cx="8153640" cy="5688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Gabi\Desktop\New folder\22.jpg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4"/>
          <p:cNvSpPr/>
          <p:nvPr/>
        </p:nvSpPr>
        <p:spPr>
          <a:xfrm>
            <a:off x="792000" y="6021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</a:rPr>
              <a:t>PAPÁ el primer Héroe de un hijo. El primer amor de la h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Gabi\Desktop\New folder\23.jpg"/>
          <p:cNvPicPr/>
          <p:nvPr/>
        </p:nvPicPr>
        <p:blipFill>
          <a:blip r:embed="rId1"/>
          <a:stretch/>
        </p:blipFill>
        <p:spPr>
          <a:xfrm>
            <a:off x="971640" y="333360"/>
            <a:ext cx="6985080" cy="495468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763640" y="551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¡¡ </a:t>
            </a: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Los amigos están hechos por el corazón, no por el color de piel</a:t>
            </a:r>
            <a:r>
              <a:rPr b="1" lang="es-PE" sz="2400" spc="-1" strike="noStrike">
                <a:solidFill>
                  <a:srgbClr val="00b050"/>
                </a:solidFill>
                <a:latin typeface="Calibri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Gabi\Desktop\New folder\24.jpg"/>
          <p:cNvPicPr/>
          <p:nvPr/>
        </p:nvPicPr>
        <p:blipFill>
          <a:blip r:embed="rId1"/>
          <a:stretch/>
        </p:blipFill>
        <p:spPr>
          <a:xfrm>
            <a:off x="1908000" y="0"/>
            <a:ext cx="5112000" cy="6804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Gabi\Desktop\New folder\26.jpg"/>
          <p:cNvPicPr/>
          <p:nvPr/>
        </p:nvPicPr>
        <p:blipFill>
          <a:blip r:embed="rId1"/>
          <a:stretch/>
        </p:blipFill>
        <p:spPr>
          <a:xfrm>
            <a:off x="1084320" y="584280"/>
            <a:ext cx="6975360" cy="5689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Gabi\Desktop\New folder\29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557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Gabi\Desktop\New folder\30.jpg"/>
          <p:cNvPicPr/>
          <p:nvPr/>
        </p:nvPicPr>
        <p:blipFill>
          <a:blip r:embed="rId1"/>
          <a:stretch/>
        </p:blipFill>
        <p:spPr>
          <a:xfrm>
            <a:off x="250920" y="0"/>
            <a:ext cx="5610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796000" y="0"/>
            <a:ext cx="30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Para siempre tienes mi vida en tus manos</a:t>
            </a: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A partir de este momento confiaré en ti</a:t>
            </a:r>
            <a:r>
              <a:rPr b="1" lang="es-PE" sz="2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6372360" y="6021360"/>
            <a:ext cx="20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17375e"/>
                </a:solidFill>
                <a:latin typeface="Arial"/>
              </a:rPr>
              <a:t>No abuses de est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Gabi\Desktop\New folder\2.jpg"/>
          <p:cNvPicPr/>
          <p:nvPr/>
        </p:nvPicPr>
        <p:blipFill>
          <a:blip r:embed="rId1"/>
          <a:stretch/>
        </p:blipFill>
        <p:spPr>
          <a:xfrm>
            <a:off x="1765440" y="620640"/>
            <a:ext cx="5613120" cy="5616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Gabi\Desktop\New folder\34.jpg"/>
          <p:cNvPicPr/>
          <p:nvPr/>
        </p:nvPicPr>
        <p:blipFill>
          <a:blip r:embed="rId1"/>
          <a:stretch/>
        </p:blipFill>
        <p:spPr>
          <a:xfrm>
            <a:off x="395280" y="765000"/>
            <a:ext cx="8267760" cy="5472360"/>
          </a:xfrm>
          <a:prstGeom prst="rect">
            <a:avLst/>
          </a:prstGeom>
          <a:ln w="0">
            <a:noFill/>
          </a:ln>
        </p:spPr>
      </p:pic>
      <p:sp>
        <p:nvSpPr>
          <p:cNvPr id="91" name="CasellaDiTesto 4"/>
          <p:cNvSpPr/>
          <p:nvPr/>
        </p:nvSpPr>
        <p:spPr>
          <a:xfrm>
            <a:off x="506520" y="26028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r>
              <a:rPr b="1" lang="es-PE" sz="2800" spc="-1" strike="noStrike">
                <a:solidFill>
                  <a:srgbClr val="c00000"/>
                </a:solidFill>
                <a:latin typeface="Calibri"/>
              </a:rPr>
              <a:t>Ayer                                          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1403280" y="2421000"/>
            <a:ext cx="6337440" cy="429732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4"/>
          <p:cNvSpPr/>
          <p:nvPr/>
        </p:nvSpPr>
        <p:spPr>
          <a:xfrm>
            <a:off x="1116000" y="189000"/>
            <a:ext cx="69120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¡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Este muchacho es tan hermoso, que me hace querer gritar.  Si un pequeño muchacho inocente con una condición como ésta puede sonreír, todos podemos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Si no compartes esto, no tienes corazón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¡¡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Que Dios te bendiga</a:t>
            </a:r>
            <a:r>
              <a:rPr b="1" lang="es-PE" sz="26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Gabi\Desktop\New folder\38.jpg"/>
          <p:cNvPicPr/>
          <p:nvPr/>
        </p:nvPicPr>
        <p:blipFill>
          <a:blip r:embed="rId1"/>
          <a:stretch/>
        </p:blipFill>
        <p:spPr>
          <a:xfrm>
            <a:off x="422280" y="765000"/>
            <a:ext cx="8410680" cy="5185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uppo 8"/>
          <p:cNvGrpSpPr/>
          <p:nvPr/>
        </p:nvGrpSpPr>
        <p:grpSpPr>
          <a:xfrm>
            <a:off x="2195640" y="152280"/>
            <a:ext cx="4752720" cy="6553440"/>
            <a:chOff x="2195640" y="152280"/>
            <a:chExt cx="4752720" cy="6553440"/>
          </a:xfrm>
        </p:grpSpPr>
        <p:pic>
          <p:nvPicPr>
            <p:cNvPr id="98" name="Picture 2" descr="C:\Users\Gabi\Desktop\New folder\40.jpg"/>
            <p:cNvPicPr/>
            <p:nvPr/>
          </p:nvPicPr>
          <p:blipFill>
            <a:blip r:embed="rId1"/>
            <a:stretch/>
          </p:blipFill>
          <p:spPr>
            <a:xfrm>
              <a:off x="2195640" y="152280"/>
              <a:ext cx="475272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ttangolo 7"/>
            <p:cNvSpPr/>
            <p:nvPr/>
          </p:nvSpPr>
          <p:spPr>
            <a:xfrm>
              <a:off x="2195640" y="5472720"/>
              <a:ext cx="4752720" cy="1145880"/>
            </a:xfrm>
            <a:prstGeom prst="rect">
              <a:avLst/>
            </a:prstGeom>
            <a:solidFill>
              <a:srgbClr val="ebf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CasellaDiTesto 9"/>
          <p:cNvSpPr/>
          <p:nvPr/>
        </p:nvSpPr>
        <p:spPr>
          <a:xfrm>
            <a:off x="2484360" y="53974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2060"/>
                </a:solidFill>
                <a:latin typeface="Calibri"/>
              </a:rPr>
              <a:t>Ayer, tu madre aliviaba tus pies; hoy, te toca devolver ese gesto de amor de tu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Gabi\Desktop\New folder\42.jpg"/>
          <p:cNvPicPr/>
          <p:nvPr/>
        </p:nvPicPr>
        <p:blipFill>
          <a:blip r:embed="rId1"/>
          <a:stretch/>
        </p:blipFill>
        <p:spPr>
          <a:xfrm>
            <a:off x="184788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Gabi\Desktop\New folder\43.jpg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4"/>
          <p:cNvSpPr/>
          <p:nvPr/>
        </p:nvSpPr>
        <p:spPr>
          <a:xfrm>
            <a:off x="6156360" y="10843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Quiero 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5"/>
          <p:cNvSpPr/>
          <p:nvPr/>
        </p:nvSpPr>
        <p:spPr>
          <a:xfrm>
            <a:off x="6156360" y="22366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ro 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llaDiTesto 6"/>
          <p:cNvSpPr/>
          <p:nvPr/>
        </p:nvSpPr>
        <p:spPr>
          <a:xfrm>
            <a:off x="6156360" y="32446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vivir, 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7"/>
          <p:cNvSpPr/>
          <p:nvPr/>
        </p:nvSpPr>
        <p:spPr>
          <a:xfrm>
            <a:off x="6156360" y="4292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no 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8"/>
          <p:cNvSpPr/>
          <p:nvPr/>
        </p:nvSpPr>
        <p:spPr>
          <a:xfrm>
            <a:off x="6156360" y="5157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morir</a:t>
            </a:r>
            <a:r>
              <a:rPr b="1" lang="es-PE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Gabi\Desktop\New folder\44.jpg"/>
          <p:cNvPicPr/>
          <p:nvPr/>
        </p:nvPicPr>
        <p:blipFill>
          <a:blip r:embed="rId1"/>
          <a:stretch/>
        </p:blipFill>
        <p:spPr>
          <a:xfrm>
            <a:off x="826920" y="233280"/>
            <a:ext cx="7490160" cy="6291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Gabi\Desktop\New folder\45.jpg"/>
          <p:cNvPicPr/>
          <p:nvPr/>
        </p:nvPicPr>
        <p:blipFill>
          <a:blip r:embed="rId1"/>
          <a:stretch/>
        </p:blipFill>
        <p:spPr>
          <a:xfrm>
            <a:off x="1979640" y="0"/>
            <a:ext cx="4608360" cy="691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Gabi\Desktop\New folder\46.jpg"/>
          <p:cNvPicPr/>
          <p:nvPr/>
        </p:nvPicPr>
        <p:blipFill>
          <a:blip r:embed="rId1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Gabi\Desktop\New folder\47.jpg"/>
          <p:cNvPicPr/>
          <p:nvPr/>
        </p:nvPicPr>
        <p:blipFill>
          <a:blip r:embed="rId1"/>
          <a:stretch/>
        </p:blipFill>
        <p:spPr>
          <a:xfrm>
            <a:off x="347760" y="836640"/>
            <a:ext cx="8448480" cy="5113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Gabi\Desktop\New folder\3.jpg"/>
          <p:cNvPicPr/>
          <p:nvPr/>
        </p:nvPicPr>
        <p:blipFill>
          <a:blip r:embed="rId1"/>
          <a:stretch/>
        </p:blipFill>
        <p:spPr>
          <a:xfrm>
            <a:off x="1006560" y="476280"/>
            <a:ext cx="7021440" cy="56167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Gabi\Desktop\New folder\48.jpg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מלבן 3" descr=""/>
          <p:cNvPicPr/>
          <p:nvPr/>
        </p:nvPicPr>
        <p:blipFill>
          <a:blip r:embed="rId1"/>
          <a:stretch/>
        </p:blipFill>
        <p:spPr>
          <a:xfrm>
            <a:off x="2548080" y="2206800"/>
            <a:ext cx="4065480" cy="1695240"/>
          </a:xfrm>
          <a:prstGeom prst="rect">
            <a:avLst/>
          </a:prstGeom>
          <a:ln w="0">
            <a:noFill/>
          </a:ln>
        </p:spPr>
      </p:pic>
      <p:pic>
        <p:nvPicPr>
          <p:cNvPr id="126" name="מלבן 86" descr=""/>
          <p:cNvPicPr/>
          <p:nvPr/>
        </p:nvPicPr>
        <p:blipFill>
          <a:blip r:embed="rId2"/>
          <a:stretch/>
        </p:blipFill>
        <p:spPr>
          <a:xfrm>
            <a:off x="6480" y="1017720"/>
            <a:ext cx="890568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21 -0.17824 C -0.00243 -0.18541 -0.00677 -0.19421 -0.01319 -0.20277 C -0.0151 -0.20555 -0.01788 -0.20717 -0.01979 -0.20949 C -0.0217 -0.21203 -0.02344 -0.21504 -0.02483 -0.21851 C -0.02622 -0.22106 -0.02656 -0.22476 -0.02812 -0.22754 C -0.03698 -0.24074 -0.0342 -0.23171 -0.04149 -0.24051 C -0.04497 -0.24467 -0.04792 -0.25 -0.05156 -0.25416 C -0.0559 -0.25879 -0.06076 -0.2625 -0.06493 -0.26713 C -0.07726 -0.28148 -0.07396 -0.2831 -0.08993 -0.28935 C -0.09479 -0.29606 -0.09913 -0.30393 -0.10312 -0.31157 C -0.1026 -0.31898 -0.10347 -0.32685 -0.10156 -0.33379 C -0.10052 -0.33796 -0.09687 -0.33958 -0.09479 -0.34282 C -0.09358 -0.3449 -0.09323 -0.34814 -0.09149 -0.34976 C -0.08368 -0.35509 -0.07326 -0.3574 -0.06493 -0.36273 C -0.05677 -0.37847 -0.04323 -0.38101 -0.02986 -0.38495 C 0.02378 -0.42083 0.09444 -0.38611 0.15347 -0.38055 C 0.16667 -0.37453 0.15156 -0.38078 0.18021 -0.37639 C 0.19288 -0.37407 0.20278 -0.36828 0.2151 -0.36504 C 0.225 -0.36273 0.23507 -0.36226 0.24514 -0.36064 C 0.26354 -0.35208 0.28576 -0.35208 0.30521 -0.34976 C 0.30747 -0.34745 0.3092 -0.34398 0.31181 -0.34282 C 0.31719 -0.34027 0.32847 -0.33842 0.32847 -0.33842 C 0.33802 -0.3287 0.34878 -0.32129 0.35851 -0.31157 C 0.36181 -0.30833 0.36667 -0.30833 0.37014 -0.30509 C 0.38368 -0.29305 0.37257 -0.29745 0.38681 -0.29398 C 0.39063 -0.28611 0.39427 -0.28125 0.40017 -0.27615 C 0.40382 -0.26064 0.39896 -0.27731 0.40521 -0.26504 C 0.41198 -0.25139 0.41163 -0.25046 0.4151 -0.23611 C 0.41701 -0.20717 0.41979 -0.17847 0.42188 -0.14953 C 0.42066 -0.09097 0.42049 -0.0324 0.4184 0.02616 C 0.41788 0.04283 0.41667 0.04167 0.41007 0.05024 C 0.40799 0.08681 0.4066 0.13959 0.38507 0.16806 C 0.3816 0.19885 0.38698 0.16875 0.37847 0.18843 C 0.37483 0.19676 0.37535 0.2088 0.37014 0.21713 C 0.3684 0.21991 0.36563 0.2213 0.36354 0.22385 C 0.36111 0.22662 0.35885 0.2294 0.35677 0.23264 C 0.35434 0.23704 0.35295 0.24236 0.35017 0.24607 C 0.34514 0.25278 0.33906 0.25834 0.33507 0.26598 C 0.33281 0.27061 0.3316 0.27593 0.32847 0.2794 C 0.31736 0.29051 0.30625 0.30162 0.29514 0.3125 C 0.29323 0.31459 0.29201 0.31713 0.2901 0.31922 C 0.28576 0.32385 0.27986 0.32662 0.27674 0.33264 C 0.27569 0.33496 0.275 0.33797 0.27344 0.33912 C 0.26806 0.34399 0.2533 0.34699 0.24688 0.34838 C 0.2441 0.35047 0.24149 0.35324 0.23854 0.3551 C 0.23472 0.35764 0.23056 0.35857 0.22674 0.36158 C 0.21128 0.37246 0.22847 0.36528 0.21354 0.37061 C 0.20313 0.38449 0.21476 0.37061 0.19653 0.3838 C 0.19531 0.38496 0.19479 0.3875 0.1934 0.38843 C 0.18611 0.39329 0.17986 0.39352 0.17188 0.39491 C 0.12344 0.39352 0.07517 0.3926 0.02674 0.39051 C 0.01007 0.38982 -0.00729 0.37246 -0.02326 0.36621 C -0.04097 0.35926 -0.04983 0.35857 -0.06823 0.3551 C -0.07726 0.35093 -0.08594 0.34861 -0.09479 0.34399 C -0.10347 0.33241 -0.11493 0.33311 -0.12656 0.33056 C -0.13802 0.32061 -0.12344 0.33195 -0.14149 0.32385 C -0.14896 0.32061 -0.15417 0.31389 -0.16146 0.31065 C -0.17309 0.29514 -0.16701 0.29861 -0.1783 0.29468 C -0.18333 0.28519 -0.19757 0.27408 -0.20486 0.26806 C -0.20868 0.26528 -0.21319 0.26343 -0.21649 0.25926 C -0.22031 0.2551 -0.22396 0.25 -0.22812 0.24607 C -0.25052 0.22524 -0.22691 0.25209 -0.24653 0.23264 C -0.24844 0.23102 -0.24983 0.22801 -0.25156 0.22616 C -0.25365 0.22385 -0.2559 0.2213 -0.25816 0.21945 C -0.26632 0.21204 -0.27222 0.20996 -0.27986 0.19931 C -0.28993 0.18588 -0.29965 0.17269 -0.3099 0.15949 C -0.31424 0.14792 -0.32431 0.13357 -0.3316 0.12385 C -0.33715 0.10486 -0.33351 0.11621 -0.34323 0.09028 C -0.34583 0.08357 -0.34635 0.0757 -0.34826 0.06829 C -0.35382 0.04607 -0.34861 0.0676 -0.3566 0.04838 C -0.36111 0.0375 -0.35972 0.03033 -0.36649 0.02176 C -0.37101 0.00348 -0.37448 -0.00416 -0.3816 -0.0206 C -0.38212 -0.02361 -0.38212 -0.02685 -0.38316 -0.02963 C -0.38437 -0.03217 -0.3875 -0.0331 -0.38819 -0.03634 C -0.39045 -0.0456 -0.38976 -0.05555 -0.39149 -0.06504 C -0.39358 -0.07639 -0.39983 -0.09838 -0.39983 -0.09838 C -0.40243 -0.13264 -0.40104 -0.13657 -0.40816 -0.16064 C -0.41354 -0.2037 -0.42187 -0.25578 -0.4066 -0.29606 C -0.40347 -0.31574 -0.39826 -0.3331 -0.38993 -0.34976 C -0.38837 -0.35277 -0.38108 -0.35926 -0.37986 -0.36064 C -0.37847 -0.36273 -0.3783 -0.36597 -0.37656 -0.36713 C -0.37187 -0.37037 -0.36615 -0.3706 -0.36146 -0.37407 C -0.3592 -0.37523 -0.35694 -0.37639 -0.35486 -0.37824 C -0.35295 -0.38009 -0.35191 -0.38356 -0.34983 -0.38495 C -0.34687 -0.38726 -0.34306 -0.38773 -0.33993 -0.38935 C -0.32326 -0.39907 -0.3092 -0.4074 -0.29149 -0.41389 C -0.28281 -0.41713 -0.2724 -0.42083 -0.26493 -0.42731 C -0.25955 -0.43194 -0.25503 -0.43634 -0.24826 -0.43865 C -0.23941 -0.44097 -0.23038 -0.44074 -0.22153 -0.44282 C -0.20712 -0.44606 -0.19253 -0.45023 -0.1783 -0.45416 C -0.16476 -0.4574 -0.13819 -0.46504 -0.13819 -0.46481 C -0.12812 -0.47847 -0.13542 -0.4706 -0.11319 -0.48287 C -0.10434 -0.48773 -0.11181 -0.48703 -0.10312 -0.49398 C -0.09288 -0.50254 -0.0974 -0.49398 -0.08993 -0.50277 C -0.075 -0.52014 -0.0875 -0.50902 -0.07656 -0.51851 C -0.07274 -0.52523 -0.07083 -0.5324 -0.06649 -0.53842 C -0.06424 -0.55092 -0.06493 -0.54421 -0.06493 -0.55833 E">
                                      <p:cBhvr>
                                        <p:cTn id="2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Gabi\Desktop\New folder\6.jpg"/>
          <p:cNvPicPr/>
          <p:nvPr/>
        </p:nvPicPr>
        <p:blipFill>
          <a:blip r:embed="rId1"/>
          <a:stretch/>
        </p:blipFill>
        <p:spPr>
          <a:xfrm>
            <a:off x="684360" y="620640"/>
            <a:ext cx="7792920" cy="547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Gabi\Desktop\New folder\8.jpg"/>
          <p:cNvPicPr/>
          <p:nvPr/>
        </p:nvPicPr>
        <p:blipFill>
          <a:blip r:embed="rId1"/>
          <a:stretch/>
        </p:blipFill>
        <p:spPr>
          <a:xfrm>
            <a:off x="1547640" y="0"/>
            <a:ext cx="5400720" cy="686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Gabi\Desktop\New folder\11.jpg"/>
          <p:cNvPicPr/>
          <p:nvPr/>
        </p:nvPicPr>
        <p:blipFill>
          <a:blip r:embed="rId1"/>
          <a:stretch/>
        </p:blipFill>
        <p:spPr>
          <a:xfrm>
            <a:off x="611280" y="476280"/>
            <a:ext cx="7873920" cy="590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Gabi\Desktop\New folder\14.jpg"/>
          <p:cNvPicPr/>
          <p:nvPr/>
        </p:nvPicPr>
        <p:blipFill>
          <a:blip r:embed="rId1"/>
          <a:stretch/>
        </p:blipFill>
        <p:spPr>
          <a:xfrm>
            <a:off x="324000" y="476280"/>
            <a:ext cx="84549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Gabi\Desktop\New folder\16.jpg"/>
          <p:cNvPicPr/>
          <p:nvPr/>
        </p:nvPicPr>
        <p:blipFill>
          <a:blip r:embed="rId1"/>
          <a:stretch/>
        </p:blipFill>
        <p:spPr>
          <a:xfrm>
            <a:off x="1332000" y="260280"/>
            <a:ext cx="6594480" cy="612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Gabi\Desktop\New folder\17.jpg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783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 </cp:lastModifiedBy>
  <dcterms:modified xsi:type="dcterms:W3CDTF">2012-08-13T01:21:05Z</dcterms:modified>
  <cp:revision>12</cp:revision>
  <dc:subject/>
  <dc:title>שקופית 1</dc:title>
</cp:coreProperties>
</file>