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002-11FC-49FE-A0B3-3E57918A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2F1-1B83-46AD-864A-D8D18EA7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CE9-8C69-4C96-8462-99C17F58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93D-86A7-4E81-9C81-3D908529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4A0-C57F-419F-ADFA-B12FA8EA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7EB-27CE-4537-B22F-F35409D2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34F-CA68-497F-9C57-787703BA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01F-F4BA-48FC-B4EF-E0ADF98F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0C1-E396-42CE-8E63-477F2197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F7B-B0AF-4D32-AE29-6EA55452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55D-77D4-4402-BAD4-ADC8D75B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6CF-6E69-4CFF-AF17-15F06A0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A501-9E71-40B0-9EE7-F1B2C2BF0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OTICIA IMPORTAN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Imagine esta bella esce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La gerente de la tienda explicando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- “El señor(a)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me disculpe, pero no podemos aprobar el crédito, porque su CULO está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sucio"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Su CULO servirá también, como identificación en un </a:t>
            </a:r>
            <a:br>
              <a:rPr sz="4400"/>
            </a:b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control policial, por ejemplo: cuando lo controlen, en lugar de buscar una </a:t>
            </a:r>
            <a:br>
              <a:rPr sz="4400"/>
            </a:b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docena de  documentos, </a:t>
            </a:r>
            <a:br>
              <a:rPr sz="4400"/>
            </a:b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bastara con mostrar el CUL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Además de eso, el CULO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servirá también  para el tema de la seguridad, ya que, un delincuente sabrá que podría ser facilmente reconocido por su CULO, el que será inutilizado por un período previsto por 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la l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Esto intimidará también a los ladrones, porque, quien tiene CULO, tiene mie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Tambien, en una redada policial, usted ya podrá estar prevenido, esperando con el CULO en la mano!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Llegó el momento de preguntar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Será que estoy preparado para usar mi  CUL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Si usted cree que sí, comience a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hablar del CULO a todo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Al principio encontrará extraño tanta gente pidiendole el CULO, pero no tenga miedo, con el tiempo, le va a terminar gustando usar el CULO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diariament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pt-BR" sz="9600" spc="-1" strike="noStrike">
                <a:solidFill>
                  <a:srgbClr val="ffff99"/>
                </a:solidFill>
                <a:latin typeface="Arial"/>
              </a:rPr>
              <a:t>U</a:t>
            </a:r>
            <a:r>
              <a:rPr b="1" lang="pt-BR" sz="9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pt-BR" sz="9600" spc="-1" strike="noStrike">
                <a:solidFill>
                  <a:srgbClr val="993366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Guarde bien este nomb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Va a cambiar su vi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EL GOBIERNO VA A CREAR UN DOCUMENTO UNICO DE IDENTIFICACION.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El gobierno de la actual Presidente Cristina, anunciará la próxima semana la creación de una Cédula Unica de Libre Opción para todos los ciudadanos argentin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Usted que está cansado de tener que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recordar números como D.N.I, D.N.U,C.I., C.U.I.T., Número de socio del club, Tarjetas de Crédito, claves secretas de 8 dígitos,  cuentas bancarias, etc.,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va a estar felíz con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Cédula Unica de Libre Opción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96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pt-BR" sz="9600" spc="-1" strike="noStrike">
                <a:solidFill>
                  <a:srgbClr val="ffff99"/>
                </a:solidFill>
                <a:latin typeface="Arial"/>
              </a:rPr>
              <a:t>U</a:t>
            </a:r>
            <a:r>
              <a:rPr b="1" lang="pt-BR" sz="9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pt-BR" sz="9600" spc="-1" strike="noStrike">
                <a:solidFill>
                  <a:srgbClr val="993366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Guarde bien este nomb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Va a cambiar su vi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025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Este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proyecto va acabar con la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burocracia de una vez por todas, dando a cada argentino,u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Cédula Unica de Libre Opción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(CUL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Vea solamente como el CULO será importante en su vida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5414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4" marL="176904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Inicialmente, usted </a:t>
            </a:r>
            <a:br>
              <a:rPr sz="3600"/>
            </a:b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usará el CULO,  solamente para las necesidades básicas, </a:t>
            </a:r>
            <a:br>
              <a:rPr sz="3600"/>
            </a:b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pero con el tiempo, podrá usufructuar, de las variadas facilidades que el CULO le </a:t>
            </a:r>
            <a:br>
              <a:rPr sz="3600"/>
            </a:b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proporcionará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5414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Al solicitar un préstamo al banco, por ejemplo, solo será necesario entregar el CULO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al gerente, que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luego de una simple consulta a la Central, dispondrá un monto compatible con su CU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Cualquier compra que haga, será solo decirle al dependien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- “póngamelo en el CULO”, por fav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Y sus compras estarán pagada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Todo, será  debitado de su CUL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Es más! Al dar un cheque sin fondos, usted no tendrá más su nombre sucio en el comercio, pero si, el CULO suci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4:14:26Z</dcterms:created>
  <dc:creator>Christiane</dc:creator>
  <dc:description/>
  <dc:language>en-US</dc:language>
  <cp:lastModifiedBy>Juan Carlos</cp:lastModifiedBy>
  <dcterms:modified xsi:type="dcterms:W3CDTF">2008-03-16T20:35:33Z</dcterms:modified>
  <cp:revision>12</cp:revision>
  <dc:subject/>
  <dc:title>Slide 1</dc:title>
</cp:coreProperties>
</file>