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07-Return%20to%20Innocence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E29-01A8-4C92-9C13-785CA859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462-BD81-4D4E-B29C-BE7C7FDC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559-E414-4319-A88D-F2B3F64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B95-D7F9-46CB-8595-EE127EBF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E7F-4F5B-4652-915F-20FE6DCF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C75-E2A5-452E-ABB8-D60509B7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0BF-06A4-4810-8D55-8A4235A8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297-506F-455E-A164-1633392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37E-226C-41B8-B7A3-B5E62D5E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D90-6E3A-4D14-AD54-54DA8B2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E98-BAB7-4C9A-938F-6BC7F81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BA2-5DB4-4DF6-AF2C-AE957D51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038A-D671-443D-A36A-97E3889C5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07-Return%20to%20Innocenc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5400000">
            <a:off x="-536760" y="5794200"/>
            <a:ext cx="1557360" cy="1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©PPS TOC®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pic>
        <p:nvPicPr>
          <p:cNvPr id="43" name="4 Rectángulo" descr=""/>
          <p:cNvPicPr/>
          <p:nvPr/>
        </p:nvPicPr>
        <p:blipFill>
          <a:blip r:embed="rId2"/>
          <a:stretch/>
        </p:blipFill>
        <p:spPr>
          <a:xfrm>
            <a:off x="2514600" y="2870280"/>
            <a:ext cx="354168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3" name="07-Return%20to%20Innocen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0040" y="21420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Esta es la historia de una joven ciega que se odiaba a sí misma, y a todo el mundo, por ser ci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Odiaba a todos, menos a su novio que la quería much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Un día, consiguió un par de ojos sanos</a:t>
            </a:r>
            <a:r>
              <a:rPr b="0" lang="es-ES" sz="2000" spc="-1" strike="noStrike">
                <a:solidFill>
                  <a:srgbClr val="1f497d"/>
                </a:solidFill>
                <a:latin typeface="Calibri"/>
              </a:rPr>
              <a:t>, l</a:t>
            </a: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a operaron y pudo v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Cuando lo hizo, el novio le preguntó si se casaría con el, a lo que ella respondió que no, porque se dio cuenta que él era c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El novio, triste, lo comprendió y se despidió de su v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En su partida le dejó esta nota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Tan solo te pido que cuides muy bien de mis ojos pues te los regalé y ahora son los tuy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1f497d"/>
                </a:solidFill>
                <a:latin typeface="Calibri"/>
              </a:rPr>
              <a:t>Te a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WordArt 7"/>
          <p:cNvSpPr txBox="1"/>
          <p:nvPr/>
        </p:nvSpPr>
        <p:spPr>
          <a:xfrm rot="5400000">
            <a:off x="-689040" y="5989680"/>
            <a:ext cx="1557360" cy="1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©PPS TOC®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25000"/>
          </a:xfrm>
          <a:prstGeom prst="rect">
            <a:avLst/>
          </a:prstGeom>
          <a:ln w="0">
            <a:noFill/>
          </a:ln>
        </p:spPr>
      </p:pic>
      <p:sp>
        <p:nvSpPr>
          <p:cNvPr id="50" name="2 Marcador de contenido"/>
          <p:cNvSpPr/>
          <p:nvPr/>
        </p:nvSpPr>
        <p:spPr>
          <a:xfrm>
            <a:off x="500040" y="549360"/>
            <a:ext cx="82296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Hoy, antes de decir algo destructivo, piensa en los que no pueden habla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quejarte del sabor de tu comida, piensa en los que no tienen que comer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quejarte de tu pareja, piensa en los corazones solitarios y tristes que añoran un compañe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quejarte de tus hijos,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piensa en quienes no los tienen y los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desean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Cuando estés cansado y reniegues de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tu trabajo,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piensa en los millones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que están desempleados y quisieran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el tuy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Antes de señalar con el dedo, Y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TOMARTE LA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ATRIBUCION DE JUZGAR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,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recuerda que todos hemos cometido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errores, y lo seguiremos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hacie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Y CUANDO EL CANSANCIO Y LAS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TINIEBLAS QUIERAN TIMARTE y</a:t>
            </a: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 llenarte de pensamientos negativos </a:t>
            </a:r>
            <a:r>
              <a:rPr b="1" lang="es-GT" sz="1800" spc="-1" strike="noStrike">
                <a:solidFill>
                  <a:srgbClr val="9900cc"/>
                </a:solidFill>
                <a:latin typeface="Calibri"/>
              </a:rPr>
              <a:t>y destructores, SONRIE!!</a:t>
            </a:r>
            <a:r>
              <a:rPr b="1" lang="es-GT" sz="1800" spc="-1" strike="noStrike">
                <a:solidFill>
                  <a:srgbClr val="ffcc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SONRIE y da gracias A DIOS, porque estás vivo y todavía andas por aqu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ESTA VIDA NO ES ETERNA PARA NAD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ffffff"/>
                </a:solidFill>
                <a:latin typeface="Calibri"/>
              </a:rPr>
              <a:t>Es un regalo, una aventura, una celebración, un hermoso via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48:57Z</dcterms:created>
  <dc:creator>Domingo Toc</dc:creator>
  <dc:description/>
  <dc:language>en-US</dc:language>
  <cp:lastModifiedBy>ElisaRdz</cp:lastModifiedBy>
  <dcterms:modified xsi:type="dcterms:W3CDTF">2007-09-14T21:42:36Z</dcterms:modified>
  <cp:revision>11</cp:revision>
  <dc:subject/>
  <dc:title>LOS OJOS</dc:title>
</cp:coreProperties>
</file>