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AC9-17F3-4A50-8FB7-52DDE9D5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7D4-62EB-4FFC-A694-52C8018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B86-316E-4184-9A6A-DC3E9AC2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C9E-C428-4494-91DE-37699127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054-99E1-4C63-8BA1-A9A506FB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552-D895-4BC1-952C-C893299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C54-6A4F-475A-9B54-44A2B20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B90-B87F-4498-9845-F6418AEB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B4E-0242-4EA2-8A34-B014FE3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8C1-B7CE-4B29-9DA4-37CC056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A7D-95D6-402F-9BBC-D34202D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46B-0428-4B0E-ADBA-E5E6074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6A49-7943-4174-8E7F-30485842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00000" y="4581360"/>
              <a:ext cx="7345440" cy="825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13B7E81-1D43-48C2-A90D-7E0E11C6234B}" type="datetime">
                <a:rPr b="0" lang="es-AR" sz="4800" spc="-1" strike="noStrike">
                  <a:solidFill>
                    <a:srgbClr val="000000"/>
                  </a:solidFill>
                  <a:latin typeface="Arial"/>
                </a:rPr>
                <a:t>31/07/26</a:t>
              </a:fld>
              <a:r>
                <a:rPr b="0" lang="es-AR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fld id="{577CD55C-DDCC-4B3C-9189-2045F7E16F9D}" type="datetime12">
                <a:rPr b="0" lang="es-AR" sz="4800" spc="-1" strike="noStrike">
                  <a:solidFill>
                    <a:srgbClr val="000000"/>
                  </a:solidFill>
                  <a:latin typeface="Arial"/>
                </a:rPr>
                <a:t>04:48 p. m.</a:t>
              </a:fld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18:17Z</dcterms:created>
  <dc:creator>Mercedes</dc:creator>
  <dc:description/>
  <dc:language>en-US</dc:language>
  <cp:lastModifiedBy>Mercedes</cp:lastModifiedBy>
  <dcterms:modified xsi:type="dcterms:W3CDTF">2010-04-23T13:27:23Z</dcterms:modified>
  <cp:revision>3</cp:revision>
  <dc:subject/>
  <dc:title>Diapositiva 1</dc:title>
</cp:coreProperties>
</file>