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F8A-0CC1-40CF-98E4-F30A903D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D08-25FC-48AE-9C4D-4970493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F2B-DFE5-4DBF-95C9-CFC82FD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8A8-8FAF-4E9F-B095-229ABB32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8E4-46C4-431C-97A4-D286C6E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A9E-897D-49B1-BD1F-C4C3F55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75B-E5C7-40C7-87DD-353054DE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442-4669-48FD-A8E0-A842BAD5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62B-D778-4D89-A41F-4A9DE46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FF5-DEFA-40F2-9D0E-7E6F6A6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D9E-E6FB-4A32-ABE7-A8C5569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B46-A222-466F-8EAD-EA871AF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287-5C3C-4411-8984-D521851C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00000" y="4581360"/>
              <a:ext cx="7345440" cy="825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4743ABC-3984-4A90-86A5-7499EF029510}" type="datetime"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29/07/26</a:t>
              </a:fld>
              <a:r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fld id="{F80C2B3C-88AF-4C28-A741-38FE648EF914}" type="datetime12">
                <a:rPr b="0" lang="es-AR" sz="4800" spc="-1" strike="noStrike">
                  <a:solidFill>
                    <a:srgbClr val="000000"/>
                  </a:solidFill>
                  <a:latin typeface="Arial"/>
                </a:rPr>
                <a:t>07:23 a. m.</a:t>
              </a:fld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18:17Z</dcterms:created>
  <dc:creator>Mercedes</dc:creator>
  <dc:description/>
  <dc:language>en-US</dc:language>
  <cp:lastModifiedBy>Mercedes</cp:lastModifiedBy>
  <dcterms:modified xsi:type="dcterms:W3CDTF">2010-04-23T13:27:23Z</dcterms:modified>
  <cp:revision>3</cp:revision>
  <dc:subject/>
  <dc:title>Diapositiva 1</dc:title>
</cp:coreProperties>
</file>