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sound006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3D0-A289-4023-8810-3B69690E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ABD-801C-4C6E-8920-F963C4EB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AEF-F988-41F5-8F93-3838BE75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86A-21AC-425E-809F-E5F940D0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E5F-7EFC-4C7B-9EDD-FEE947FE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B34-F17C-4BCC-95E9-22106DA9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81E-3B27-4381-85AA-A164AF0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F7E-6100-453D-B48E-0E06ECB1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15D-C692-4EB9-A17C-E954CBB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EF8-F5B6-4151-B3E2-86E1991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496-1EE6-4E80-BE1F-4457667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6CE-FDF6-4E73-B98A-902DC49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49D7-00E6-438D-80AE-F8C4E1E6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396720"/>
            <a:ext cx="9180360" cy="734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0686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esta razon, me he tomado la libertad de crear uno de tantas presentaciones que nos hacen recordar a Dios y hacer una pequeña orac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34136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 lo ajetreado de nuestros dias, frecuentemente olvidamos elevar una plegaria al Señor, pero generalmente no olvidamos mirar nuestro ema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55897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te apu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olo serán unos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549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Querid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14842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séña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ue la tolerancia es el más alto grado de la fuer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860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que el deseo de venga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s la primera manifestación de la debil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484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espojas del dinero, déjame la esperanz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49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si me despojas del éxi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589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éjame la fuerza de voluntad para poder vencer el fra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2666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espojas del don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962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éjame la gracia de la 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820800"/>
            <a:ext cx="9144000" cy="527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hago daño a la g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590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me la fuerza de la disculp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809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si la gente me hace dañ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0292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me la fuerza del perdón y la clem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os mí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114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¡ no me olvides 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te 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1905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hora, es tu tur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1240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parte este mensaje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ue tengas un hermoso d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3640" y="429264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yúdame a decir la palabra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 la cara de los fuer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a no mentir para congraciarme el aplauso de los débil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19400" y="9810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os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4046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 me das dinero, no tomes mi felic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 si me das fuerzas, no quites mi racioci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144792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as éx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me quites la humil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2670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as humild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quites mi dig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765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yúdame a conocer la otra cara de la ima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5883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no me dejes acusar a mis adversarios, tachándoles de traidores porque no comparten mi crite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séñame a amar a los demás como me amo a mí mism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2670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a juzgarme como lo hago con los dem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me dejes embriagar con el éxito cuando lo log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i desesperarme si fraca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7242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ás bien, hazme siempre recordar que el fra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91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s la prueba que antecede al éx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45:23Z</dcterms:created>
  <dc:creator> </dc:creator>
  <dc:description/>
  <dc:language>en-US</dc:language>
  <cp:lastModifiedBy>Alberto</cp:lastModifiedBy>
  <dcterms:modified xsi:type="dcterms:W3CDTF">2007-06-12T21:14:33Z</dcterms:modified>
  <cp:revision>6</cp:revision>
  <dc:subject/>
  <dc:title>PowerPoint Presentation</dc:title>
</cp:coreProperties>
</file>