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sound006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E12-DAB9-490B-AE07-A1B0DC3D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2EC-6CFE-4561-9BD4-9042B90B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63BC-7E44-4558-A685-6D2A0715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1A2-A420-4394-BB3F-1319D0BF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0C6-3FE9-4B32-AF1D-7CC44FF4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C38-5EFC-4CD3-90C5-967F530F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208-F537-4C51-B521-C9610B90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A08-41BF-4D00-A176-8CCED892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F08-E644-4959-9956-4E6D030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F23-64B1-4D18-92DC-2CCFE44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EF8-976B-49BA-95EC-A1B4AA8C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A3C-E133-4776-A2C0-AD142E82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FC3-5555-4AF6-A31D-47F9EAA6B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396720"/>
            <a:ext cx="9180360" cy="734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306864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esta razon, me he tomado la libertad de crear uno de tantas presentaciones que nos hacen recordar a Dios y hacer una pequeña orac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34136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n lo ajetreado de nuestros dias, frecuentemente olvidamos elevar una plegaria al Señor, pero generalmente no olvidamos mirar nuestro ema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55897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te apur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olo serán unos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0720" y="549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Querido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8360" y="14842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nséñam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ue la tolerancia es el más alto grado de la fuer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8606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que el deseo de venga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s la primera manifestación de la debil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1484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me despojas del dinero, déjame la esperanz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49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si me despojas del éxi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589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éjame la fuerza de voluntad para poder vencer el fra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2666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me despojas del don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962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éjame la gracia de la 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820800"/>
            <a:ext cx="9144000" cy="527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hago daño a la g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590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me la fuerza de la disculp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809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si la gente me hace dañ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02920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ame la fuerza del perdón y la clem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1523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os mí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1148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¡ no me olvides 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181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1523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te olv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1905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hora, es tu turn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1240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mparte este mensaje con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4343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ue tengas un hermoso d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63640" y="429264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yúdame a decir la palabra de ver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n la cara de los fuer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66100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a no mentir para congraciarme el aplauso de los débil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19400" y="98100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os Mí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4046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 me das dinero, no tomes mi felic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609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 si me das fuerzas, no quites mi racioci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33920" y="144792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me das éx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 me quites la humil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2670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 me das humilda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 quites mi dig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765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yúdame a conocer la otra cara de la ima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5883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no me dejes acusar a mis adversarios, tachándoles de traidores porque no comparten mi crite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nséñame a amar a los demás como me amo a mí mism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2670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y a juzgarme como lo hago con los demá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 me dejes embriagar con el éxito cuando lo log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i desesperarme si fraca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7242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ás bien, hazme siempre recordar que el fra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7913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s la prueba que antecede al éx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8:45:23Z</dcterms:created>
  <dc:creator> </dc:creator>
  <dc:description/>
  <dc:language>en-US</dc:language>
  <cp:lastModifiedBy>Alberto</cp:lastModifiedBy>
  <dcterms:modified xsi:type="dcterms:W3CDTF">2007-06-12T21:14:33Z</dcterms:modified>
  <cp:revision>6</cp:revision>
  <dc:subject/>
  <dc:title>PowerPoint Presentation</dc:title>
</cp:coreProperties>
</file>