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5.jpeg" ContentType="image/jpeg"/>
  <Override PartName="/ppt/media/image2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10.jpeg" ContentType="image/jpeg"/>
  <Override PartName="/ppt/media/image33.jpeg" ContentType="image/jpeg"/>
  <Override PartName="/ppt/media/image6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27.jpeg" ContentType="image/jpeg"/>
  <Override PartName="/ppt/media/image5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6294-5100-42BF-82D7-AFCD067A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5051-3ED1-44CE-A625-C0840BB1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E9834-35A7-482A-9A5B-A166B890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6BED2-ECE6-46C5-8FA2-9C286639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D7A9D-D60C-4E46-A01B-9B0367A7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8FD56-5A8A-4098-84D7-7C16C350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FDA95-36F6-496B-92FD-3E32501D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65972-A7D7-48C2-85A4-3E598607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7EF82-2F29-4896-85FD-67E1A526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F4930-37FB-45DB-8FC4-79F8C402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E36AF-89D7-4E3A-9A11-CA8D2877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A910-18C6-4D0C-A722-D47519F4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E675-EEFE-49F3-BA11-2C841F60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293B-CCAA-41B3-BD32-2EAEF132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CBBF-2FD4-4428-80A3-09499C39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BB63-F6D0-4449-A7D2-7B16DF18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878E-EB7F-4FD4-9EAC-D72C5918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C585-075E-495D-930A-39BBCB8C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4216-9D17-4BFA-A6A0-21FB6F1C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6AFF-B221-47F1-B17C-91ACFC40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9B5E-F124-4E8B-8D6F-325BBD17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505A-81FE-4F73-AECF-66E5E689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6E20-9A28-40CC-8AD5-12DB5D74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52E8-C1C8-482B-85D3-C2663E5B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7CE8-A652-440D-B1CA-ECE60AEA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CF76-C1D6-4A59-AAD9-7A21540C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9841A-2F99-4360-94F4-D7CBE55D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B3EBA-370E-4851-A251-14272884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6E7A3-BDF6-4F66-940A-4A39988A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23A5E-434C-45D7-8F5B-22F30AC6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B36A0-D984-4519-9A54-E77CAD3B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16FB-68A0-4096-B5D0-F818B398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10AE4-AE66-4D64-AAE3-69B0019D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DEF3E-2D0A-48F4-A501-7328538B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B7B85-156B-4210-B987-621B8F36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03BD0-F460-4541-94BB-801CC025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6B0A8-8274-4DE1-80AD-B5DAC2D6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19735-D3AE-4645-B692-35E18428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193E5-6FD8-45AA-A1BC-6732F221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E7E13-65B2-4F13-87C4-E5B7EAD6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7D31E-DB2B-4E93-B518-7E0B6B21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D753E-F00B-4B62-8C17-265811A1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59FA-E12F-4A62-86DA-1AB70B27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8153B-E120-42D0-8484-2FD2BCCE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B8E62-D6D0-4EFF-8EAA-364F6975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D84EB-B591-4FA0-807B-1F701567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DAE8E-CD11-43FD-B097-9CDCD0EE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25019-995B-4974-87CD-CD0B1372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6E48E-B36D-4531-8B9E-C7945718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B0ACF-CCDB-48D2-A817-3FA79F96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363B7-DD69-4370-9EEE-B0F23B3F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C7BA2-D217-4178-A624-93E32A4C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B36B6-3986-48F7-8A86-D1A6DA997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BD7C-DB55-455C-9C5A-0D8ED02F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260CA-F3F7-4BBE-A54B-97996381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4A27E-5CA9-4A15-B7C9-3A6E72F0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B246A-3FF7-496B-BCA7-5E483F6A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33B84-E03D-454D-8D97-0B071CE1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61D76-98B0-4F95-84B2-B08CF411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D8A45-B0EE-442D-9D35-CEE0BF29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674A3-4AB9-4DC3-86DC-70D4E75E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564F1-E204-4E50-A407-6CC29D14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63F21-BFC3-4A4D-B523-EEBC97BD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0349F-CB93-44F7-9F9E-C71683EF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0947-A6BE-4717-A135-334A6040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80473-17A6-4DF0-91B1-C027E8F5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73515-F541-4C4F-A4F2-25AAF0A5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AF5B3-E55C-4B66-8915-6CE24BE3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C0A3B-6CE0-45D7-B8CC-9BC6179B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F123C-5728-4B11-B935-5E975B99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BD623-8244-47DB-B8EC-10BF410C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59363-DF52-42C2-ADA9-1E8DBF1A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FFEA8-326B-45BD-9FDA-E1014AB6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3D84C-D744-4BC1-B5A5-18FBF73A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CF0B8-814F-43B4-8FF2-6FFD1838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93F0-8D6C-420E-A6B6-A075DAEA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B62BF-D24D-4A1D-86CA-8D6AFF3B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E801A-A91B-413E-A46C-F85AFA0B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05EEC-2820-4384-9E1A-FC5BDBA9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5D3BC-109B-4CED-AD17-EF677B2D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938E0-133C-4DFF-8011-5F8DDA36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EDB82-E89D-4620-A5B0-8C30ED5D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7F792-968C-45D1-99C5-66EFC100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078FC-D751-4C00-90F4-A452E96D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2B225-5A43-4DBD-86B4-813FA09C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27FD7-976E-47E0-952A-3D76074D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038C-EB8C-4E56-B986-8D3FD1CD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0C3DE-6604-40DC-91E4-8F5DAD79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5BDF0-8C5C-4AF3-97FB-CB21A197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419A7-970F-44DB-B611-6545ED35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11DF4-029A-4A3E-830C-2C19AA86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A05D3-B12A-4445-A713-0F2297B7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5166F-249A-4A93-81DB-B0FF7317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50660-84B9-4271-882D-932D6DBC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4E390-16EC-4D3E-B155-DDE6BE17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5EC0C-6243-48CD-9195-6557C894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248D0-F1AD-4FB1-8226-4D7703EF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FA9C-237D-4415-93E3-6471F1F9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6A984-BE8C-4627-A4A3-BCB274F5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08502-7E9B-4CE8-8A51-8C9B3C66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8A154-449E-4667-9496-34F76031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C1030-FBE1-472A-89FB-3148E909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BD50E-DE4D-4E69-9157-20F5A5C1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DB4F1-3C93-4CF9-9BE7-1D1342D9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3E087-A6B9-4602-A4BB-9CD547D1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85FAF-9392-4C69-9BB0-57C0D80F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AADF8-2A51-43E8-A5AA-2E68FB78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F1B72-CCBD-4F42-8CBD-3F9B682C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AF52-C84E-4CC0-8892-47E278C4C888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4"/>
          <a:stretch/>
        </p:blipFill>
        <p:spPr>
          <a:xfrm>
            <a:off x="1152360" y="2627280"/>
            <a:ext cx="6864480" cy="159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ce9c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5541-DD8B-49C2-B11E-57CB8650B818}" type="slidenum">
              <a:rPr b="0" lang="es-ES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12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4C33-559A-4BF7-81B1-BC4423344A7C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8"/>
            <p:cNvSpPr/>
            <p:nvPr/>
          </p:nvSpPr>
          <p:spPr>
            <a:xfrm>
              <a:off x="430884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40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7C60-4BBB-4EF5-97AF-E2FEBDF0C8EA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13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8B96-E601-4172-87BE-564C3E6922E0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15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4A6E-5CDC-434A-962C-F58BE63C8BD9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13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0FEE-28DD-4AF5-9C69-4DD7D9F8A888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14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4A53-09BA-4BED-8DD3-1378B7AA84AB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11"/>
            <p:cNvSpPr/>
            <p:nvPr/>
          </p:nvSpPr>
          <p:spPr>
            <a:xfrm rot="5400000">
              <a:off x="6374880" y="29142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5680" y="601560"/>
              <a:ext cx="216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3520" y="3613680"/>
              <a:ext cx="144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2BEF-1CE1-49FD-93F1-0485C87FD7DD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1 Título" descr=""/>
          <p:cNvPicPr/>
          <p:nvPr/>
        </p:nvPicPr>
        <p:blipFill>
          <a:blip r:embed="rId1"/>
          <a:stretch/>
        </p:blipFill>
        <p:spPr>
          <a:xfrm>
            <a:off x="689040" y="622440"/>
            <a:ext cx="3956040" cy="27604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476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POR  MARITO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1 Imagen" descr=""/>
          <p:cNvPicPr/>
          <p:nvPr/>
        </p:nvPicPr>
        <p:blipFill>
          <a:blip r:embed="rId1"/>
          <a:stretch/>
        </p:blipFill>
        <p:spPr>
          <a:xfrm>
            <a:off x="1247760" y="0"/>
            <a:ext cx="664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1 Imagen" descr=""/>
          <p:cNvPicPr/>
          <p:nvPr/>
        </p:nvPicPr>
        <p:blipFill>
          <a:blip r:embed="rId1"/>
          <a:stretch/>
        </p:blipFill>
        <p:spPr>
          <a:xfrm>
            <a:off x="2038320" y="0"/>
            <a:ext cx="5067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1 Imagen" descr=""/>
          <p:cNvPicPr/>
          <p:nvPr/>
        </p:nvPicPr>
        <p:blipFill>
          <a:blip r:embed="rId1"/>
          <a:stretch/>
        </p:blipFill>
        <p:spPr>
          <a:xfrm>
            <a:off x="900000" y="38160"/>
            <a:ext cx="7344000" cy="67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1 Imagen" descr=""/>
          <p:cNvPicPr/>
          <p:nvPr/>
        </p:nvPicPr>
        <p:blipFill>
          <a:blip r:embed="rId1"/>
          <a:stretch/>
        </p:blipFill>
        <p:spPr>
          <a:xfrm>
            <a:off x="1476360" y="7920"/>
            <a:ext cx="6191280" cy="684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1 Imagen" descr=""/>
          <p:cNvPicPr/>
          <p:nvPr/>
        </p:nvPicPr>
        <p:blipFill>
          <a:blip r:embed="rId1"/>
          <a:stretch/>
        </p:blipFill>
        <p:spPr>
          <a:xfrm>
            <a:off x="127080" y="1181160"/>
            <a:ext cx="88898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1 Imagen" descr=""/>
          <p:cNvPicPr/>
          <p:nvPr/>
        </p:nvPicPr>
        <p:blipFill>
          <a:blip r:embed="rId1"/>
          <a:stretch/>
        </p:blipFill>
        <p:spPr>
          <a:xfrm>
            <a:off x="1536840" y="190440"/>
            <a:ext cx="607032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1 Imagen" descr=""/>
          <p:cNvPicPr/>
          <p:nvPr/>
        </p:nvPicPr>
        <p:blipFill>
          <a:blip r:embed="rId1"/>
          <a:stretch/>
        </p:blipFill>
        <p:spPr>
          <a:xfrm>
            <a:off x="1352520" y="190440"/>
            <a:ext cx="643896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1 Imagen" descr=""/>
          <p:cNvPicPr/>
          <p:nvPr/>
        </p:nvPicPr>
        <p:blipFill>
          <a:blip r:embed="rId1"/>
          <a:stretch/>
        </p:blipFill>
        <p:spPr>
          <a:xfrm>
            <a:off x="762120" y="476280"/>
            <a:ext cx="761976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1 Imagen" descr=""/>
          <p:cNvPicPr/>
          <p:nvPr/>
        </p:nvPicPr>
        <p:blipFill>
          <a:blip r:embed="rId1"/>
          <a:stretch/>
        </p:blipFill>
        <p:spPr>
          <a:xfrm>
            <a:off x="1403280" y="41400"/>
            <a:ext cx="6337440" cy="67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1 Imagen" descr=""/>
          <p:cNvPicPr/>
          <p:nvPr/>
        </p:nvPicPr>
        <p:blipFill>
          <a:blip r:embed="rId1"/>
          <a:stretch/>
        </p:blipFill>
        <p:spPr>
          <a:xfrm>
            <a:off x="2417760" y="0"/>
            <a:ext cx="430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3 Imagen" descr=""/>
          <p:cNvPicPr/>
          <p:nvPr/>
        </p:nvPicPr>
        <p:blipFill>
          <a:blip r:embed="rId1"/>
          <a:stretch/>
        </p:blipFill>
        <p:spPr>
          <a:xfrm>
            <a:off x="1689120" y="355680"/>
            <a:ext cx="5765760" cy="61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1 Imagen" descr=""/>
          <p:cNvPicPr/>
          <p:nvPr/>
        </p:nvPicPr>
        <p:blipFill>
          <a:blip r:embed="rId1"/>
          <a:stretch/>
        </p:blipFill>
        <p:spPr>
          <a:xfrm>
            <a:off x="0" y="1197000"/>
            <a:ext cx="9113760" cy="44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1 Imagen" descr=""/>
          <p:cNvPicPr/>
          <p:nvPr/>
        </p:nvPicPr>
        <p:blipFill>
          <a:blip r:embed="rId1"/>
          <a:stretch/>
        </p:blipFill>
        <p:spPr>
          <a:xfrm>
            <a:off x="2417760" y="0"/>
            <a:ext cx="430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1 Imagen" descr=""/>
          <p:cNvPicPr/>
          <p:nvPr/>
        </p:nvPicPr>
        <p:blipFill>
          <a:blip r:embed="rId1"/>
          <a:stretch/>
        </p:blipFill>
        <p:spPr>
          <a:xfrm>
            <a:off x="395280" y="79200"/>
            <a:ext cx="8424720" cy="664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1 Imagen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1 Imagen" descr=""/>
          <p:cNvPicPr/>
          <p:nvPr/>
        </p:nvPicPr>
        <p:blipFill>
          <a:blip r:embed="rId1"/>
          <a:stretch/>
        </p:blipFill>
        <p:spPr>
          <a:xfrm>
            <a:off x="176040" y="0"/>
            <a:ext cx="8791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1 Imagen" descr=""/>
          <p:cNvPicPr/>
          <p:nvPr/>
        </p:nvPicPr>
        <p:blipFill>
          <a:blip r:embed="rId1"/>
          <a:stretch/>
        </p:blipFill>
        <p:spPr>
          <a:xfrm>
            <a:off x="468360" y="104760"/>
            <a:ext cx="8207280" cy="66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1 Imagen" descr=""/>
          <p:cNvPicPr/>
          <p:nvPr/>
        </p:nvPicPr>
        <p:blipFill>
          <a:blip r:embed="rId1"/>
          <a:stretch/>
        </p:blipFill>
        <p:spPr>
          <a:xfrm>
            <a:off x="468360" y="384120"/>
            <a:ext cx="8207280" cy="608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1 Imagen" descr=""/>
          <p:cNvPicPr/>
          <p:nvPr/>
        </p:nvPicPr>
        <p:blipFill>
          <a:blip r:embed="rId1"/>
          <a:stretch/>
        </p:blipFill>
        <p:spPr>
          <a:xfrm>
            <a:off x="596880" y="76320"/>
            <a:ext cx="7950240" cy="67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1 Imagen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8966160" cy="40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1 Imagen" descr=""/>
          <p:cNvPicPr/>
          <p:nvPr/>
        </p:nvPicPr>
        <p:blipFill>
          <a:blip r:embed="rId1"/>
          <a:stretch/>
        </p:blipFill>
        <p:spPr>
          <a:xfrm>
            <a:off x="1979640" y="39600"/>
            <a:ext cx="5184720" cy="677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1 Imagen" descr=""/>
          <p:cNvPicPr/>
          <p:nvPr/>
        </p:nvPicPr>
        <p:blipFill>
          <a:blip r:embed="rId1"/>
          <a:stretch/>
        </p:blipFill>
        <p:spPr>
          <a:xfrm>
            <a:off x="127080" y="272880"/>
            <a:ext cx="8889840" cy="631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1 Imagen" descr=""/>
          <p:cNvPicPr/>
          <p:nvPr/>
        </p:nvPicPr>
        <p:blipFill>
          <a:blip r:embed="rId1"/>
          <a:stretch/>
        </p:blipFill>
        <p:spPr>
          <a:xfrm>
            <a:off x="2195640" y="22320"/>
            <a:ext cx="4752720" cy="68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1 Imagen" descr=""/>
          <p:cNvPicPr/>
          <p:nvPr/>
        </p:nvPicPr>
        <p:blipFill>
          <a:blip r:embed="rId1"/>
          <a:stretch/>
        </p:blipFill>
        <p:spPr>
          <a:xfrm>
            <a:off x="2143080" y="0"/>
            <a:ext cx="4857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Imagen" descr=""/>
          <p:cNvPicPr/>
          <p:nvPr/>
        </p:nvPicPr>
        <p:blipFill>
          <a:blip r:embed="rId1"/>
          <a:stretch/>
        </p:blipFill>
        <p:spPr>
          <a:xfrm>
            <a:off x="158760" y="692280"/>
            <a:ext cx="8826480" cy="54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1 Imagen" descr=""/>
          <p:cNvPicPr/>
          <p:nvPr/>
        </p:nvPicPr>
        <p:blipFill>
          <a:blip r:embed="rId1"/>
          <a:stretch/>
        </p:blipFill>
        <p:spPr>
          <a:xfrm>
            <a:off x="468360" y="104760"/>
            <a:ext cx="8207280" cy="66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1 Imagen" descr=""/>
          <p:cNvPicPr/>
          <p:nvPr/>
        </p:nvPicPr>
        <p:blipFill>
          <a:blip r:embed="rId1"/>
          <a:stretch/>
        </p:blipFill>
        <p:spPr>
          <a:xfrm>
            <a:off x="539640" y="179280"/>
            <a:ext cx="7920000" cy="662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1 Imagen" descr=""/>
          <p:cNvPicPr/>
          <p:nvPr/>
        </p:nvPicPr>
        <p:blipFill>
          <a:blip r:embed="rId1"/>
          <a:stretch/>
        </p:blipFill>
        <p:spPr>
          <a:xfrm>
            <a:off x="2046240" y="0"/>
            <a:ext cx="5051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1 Imagen" descr=""/>
          <p:cNvPicPr/>
          <p:nvPr/>
        </p:nvPicPr>
        <p:blipFill>
          <a:blip r:embed="rId1"/>
          <a:stretch/>
        </p:blipFill>
        <p:spPr>
          <a:xfrm>
            <a:off x="1187280" y="31680"/>
            <a:ext cx="6769440" cy="67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1 Imagen" descr=""/>
          <p:cNvPicPr/>
          <p:nvPr/>
        </p:nvPicPr>
        <p:blipFill>
          <a:blip r:embed="rId1"/>
          <a:stretch/>
        </p:blipFill>
        <p:spPr>
          <a:xfrm>
            <a:off x="1523880" y="190440"/>
            <a:ext cx="609624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1 Imagen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542080" cy="65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1 Imagen" descr=""/>
          <p:cNvPicPr/>
          <p:nvPr/>
        </p:nvPicPr>
        <p:blipFill>
          <a:blip r:embed="rId1"/>
          <a:stretch/>
        </p:blipFill>
        <p:spPr>
          <a:xfrm>
            <a:off x="1774800" y="0"/>
            <a:ext cx="5594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1 Imagen" descr=""/>
          <p:cNvPicPr/>
          <p:nvPr/>
        </p:nvPicPr>
        <p:blipFill>
          <a:blip r:embed="rId1"/>
          <a:stretch/>
        </p:blipFill>
        <p:spPr>
          <a:xfrm>
            <a:off x="293760" y="0"/>
            <a:ext cx="8556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1 Imagen" descr=""/>
          <p:cNvPicPr/>
          <p:nvPr/>
        </p:nvPicPr>
        <p:blipFill>
          <a:blip r:embed="rId1"/>
          <a:stretch/>
        </p:blipFill>
        <p:spPr>
          <a:xfrm>
            <a:off x="1119240" y="0"/>
            <a:ext cx="6905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1 Imagen" descr=""/>
          <p:cNvPicPr/>
          <p:nvPr/>
        </p:nvPicPr>
        <p:blipFill>
          <a:blip r:embed="rId1"/>
          <a:stretch/>
        </p:blipFill>
        <p:spPr>
          <a:xfrm>
            <a:off x="1477800" y="109440"/>
            <a:ext cx="6262920" cy="655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1 Imagen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897760" cy="63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1 Imagen" descr=""/>
          <p:cNvPicPr/>
          <p:nvPr/>
        </p:nvPicPr>
        <p:blipFill>
          <a:blip r:embed="rId1"/>
          <a:stretch/>
        </p:blipFill>
        <p:spPr>
          <a:xfrm>
            <a:off x="2701800" y="0"/>
            <a:ext cx="3740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1 Imagen" descr=""/>
          <p:cNvPicPr/>
          <p:nvPr/>
        </p:nvPicPr>
        <p:blipFill>
          <a:blip r:embed="rId1"/>
          <a:stretch/>
        </p:blipFill>
        <p:spPr>
          <a:xfrm>
            <a:off x="1332000" y="27000"/>
            <a:ext cx="648000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1 Imagen" descr=""/>
          <p:cNvPicPr/>
          <p:nvPr/>
        </p:nvPicPr>
        <p:blipFill>
          <a:blip r:embed="rId1"/>
          <a:stretch/>
        </p:blipFill>
        <p:spPr>
          <a:xfrm>
            <a:off x="387360" y="115920"/>
            <a:ext cx="8369280" cy="66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1 Imagen" descr=""/>
          <p:cNvPicPr/>
          <p:nvPr/>
        </p:nvPicPr>
        <p:blipFill>
          <a:blip r:embed="rId1"/>
          <a:stretch/>
        </p:blipFill>
        <p:spPr>
          <a:xfrm>
            <a:off x="247680" y="0"/>
            <a:ext cx="8648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Imagen" descr=""/>
          <p:cNvPicPr/>
          <p:nvPr/>
        </p:nvPicPr>
        <p:blipFill>
          <a:blip r:embed="rId1"/>
          <a:stretch/>
        </p:blipFill>
        <p:spPr>
          <a:xfrm>
            <a:off x="127080" y="260280"/>
            <a:ext cx="888984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1 Imagen" descr=""/>
          <p:cNvPicPr/>
          <p:nvPr/>
        </p:nvPicPr>
        <p:blipFill>
          <a:blip r:embed="rId1"/>
          <a:stretch/>
        </p:blipFill>
        <p:spPr>
          <a:xfrm>
            <a:off x="1717560" y="0"/>
            <a:ext cx="5708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1 Imagen" descr=""/>
          <p:cNvPicPr/>
          <p:nvPr/>
        </p:nvPicPr>
        <p:blipFill>
          <a:blip r:embed="rId1"/>
          <a:stretch/>
        </p:blipFill>
        <p:spPr>
          <a:xfrm>
            <a:off x="1835280" y="84240"/>
            <a:ext cx="5473440" cy="66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1 Imagen" descr=""/>
          <p:cNvPicPr/>
          <p:nvPr/>
        </p:nvPicPr>
        <p:blipFill>
          <a:blip r:embed="rId1"/>
          <a:stretch/>
        </p:blipFill>
        <p:spPr>
          <a:xfrm>
            <a:off x="1392120" y="44280"/>
            <a:ext cx="6427800" cy="669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1 Imagen" descr=""/>
          <p:cNvPicPr/>
          <p:nvPr/>
        </p:nvPicPr>
        <p:blipFill>
          <a:blip r:embed="rId1"/>
          <a:stretch/>
        </p:blipFill>
        <p:spPr>
          <a:xfrm>
            <a:off x="1476360" y="115920"/>
            <a:ext cx="6200640" cy="661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20:58:40Z</dcterms:created>
  <dc:creator>Mario</dc:creator>
  <dc:description/>
  <dc:language>en-US</dc:language>
  <cp:lastModifiedBy>Mario</cp:lastModifiedBy>
  <dcterms:modified xsi:type="dcterms:W3CDTF">2013-10-18T21:36:47Z</dcterms:modified>
  <cp:revision>4</cp:revision>
  <dc:subject/>
  <dc:title>Presentación de PowerPoint</dc:title>
</cp:coreProperties>
</file>