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10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7.jpeg" ContentType="image/jpeg"/>
  <Override PartName="/ppt/media/image5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654-B1DD-4FFC-B426-E477D347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685-30B8-497A-8725-D65D490D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603F2-00EB-4A1D-B6E7-CB43842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66754-461F-4C16-98A9-A197A57A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57D29-DE47-4F6F-86EC-02E92BCC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03B28-4798-4EFA-BCCA-E68E0844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F70D4-3155-46B0-9330-E644FBE5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1BB68-07C8-4EF9-8949-52D3ADB7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9AB1C-8AD0-4866-AE48-53A2CDAD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5080E-409E-4F2D-AE0F-984A4038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441A7-E3F7-4107-A63C-6C70586A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B3F-E43A-4A5D-A087-40C698BF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A87-B715-4566-8BE0-9F1747C1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AE23-E7F4-40B6-AF7C-E61693A4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B390-D117-4374-808B-C642AD87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F635-D4E1-44D3-9E73-F9739305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9D18-9527-42FB-863A-170642E6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4B44-D4CB-43C1-81EB-FE45122D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BB82-9CD5-4D63-8BE1-645E8C2F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8BB4-2CE8-49FE-AD07-5A9D284E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A67-1516-435C-8C56-BC201A27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F2C5-02CA-4CF5-B841-342712D8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B3E-9D55-4505-BBA3-5BCCD1F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54A-D5FA-443E-BD1A-95CD5F6D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2B50-473E-45CC-A326-497805B5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8AD1-5A72-4A50-A3D8-BF8F8D29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7C75-EE9A-4305-ACE4-A8D2E712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CAEF-F796-4189-9C1E-B58E8453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552B-46D8-4E11-B146-152425BA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64A6-979B-41BF-AA97-F1C5FE7C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DBB2-FF2E-41AC-A435-30D47C90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34D-C8AC-4D9A-8093-C9D678F8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7AAA-A087-482D-8663-89673DE9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EF25-1C56-4C08-B982-F8CE6CDC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26FC-9040-43B4-823F-1C56C6CC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4D378-F1A1-480A-891D-5980372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D867-A656-4D9E-BDED-51A3397E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5806-4374-4CA1-933E-CB9CDE6C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3879-0EEA-4AFB-B329-682A57F5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DB3C-419A-4615-9E35-98F91B09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D4F43-E1A1-461A-926A-4109315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A418-30CF-4776-A598-32D1BCF2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607-C41C-45A3-898F-3B61660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2D8A-47DC-4A1F-A0EB-3FF03FD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B88E-DDE1-40C3-B934-5FA8617C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CD4F-AF40-46B1-8A60-412AD1D0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2315-34AB-444B-B907-38BE9B31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5F0F-8017-4E39-B59C-4A3DF0A0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469A6-418B-4899-9F9C-C9AD113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213BB-41C6-40C5-BEC5-6E27655C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9E80-B4D6-4F2C-B392-B2EE2F3A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341E-5EEF-4B11-9470-DA6708B4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D0EE-9D3E-40F9-A12B-1E12346D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370-BF3E-4535-966E-7527E3DD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3CF37-D389-44A7-B01B-3FAAEC5B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E83DB-6D26-497A-AF31-521CAADE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8AC5-848A-453F-9381-B36E912E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53816-BA2A-4C0E-881E-1396999E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63042-834C-429B-8C7B-09A93153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9A224-66D1-4224-B4D9-4AA1E8CF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4D9B-EF89-4644-934E-835841C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05190-8AA8-4951-A6A1-2642618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6610-9B5F-44FA-90B8-D248E61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2CF9-F81F-401B-BBCF-F31BC512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3DB-966F-4487-AFFA-77895384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4B65-2468-4756-A218-9A25F10E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39621-058A-46EE-B8E2-3A6DBB6F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5BF6B-31E8-487F-A5AE-1E8B0D11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7DE45-7EE7-4AE3-B149-E741F58E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FD31-0F05-4041-B91B-4482B707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56642-D4B3-43D3-9975-9CD409A2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312D-3EBE-4C63-977E-5BFB0BB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6AA9D-65F7-4C04-9ED7-2E9E4FE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C5257-0469-46B2-A240-763297E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5676D-58E0-450E-9C22-3312072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9AF-2BC3-41A4-8052-84B223F7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7A3A1-1E9B-4875-A301-89CC7682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53636-DE93-4897-B9C0-9430BCFE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0F7C4-5A18-4389-9E52-2660EDAE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B839-337D-43C3-BF81-CFB21B24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343F1-0214-47AE-A355-2B77A77F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8CDC6-7516-4CB5-AB1B-F7A5D60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F6193-0B4E-4108-8339-F1AA5FC5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3C79-B17A-407D-A262-44C74137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51565-951B-4C81-9367-6C39A57C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F4283-78CB-40F5-AE8B-B55D64CA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BEB-797B-4346-BDAB-4DEBC0D7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1955-A317-4ADE-AB93-714E1DD6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61077-8393-43FE-82C9-ADE76C4B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75859-794F-468F-9F85-3B42FA55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F42BD-69FF-4F86-9624-79787A51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743B3-C181-4C39-942A-EFD3BF3F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819C1-46CA-45BB-930F-9E91FE9F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ABFC9-C4FD-4F6C-86D0-233F2D68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B1346-5750-412F-BA23-8A83A42D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4E8CD-CCA8-4325-A699-2AA263FE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7107F-92AB-4A4F-862F-DD5AF299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E6E-CD73-4AF4-83A1-06963B91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84B04-6B6A-4979-8CD6-B6FD3DDA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C21B1-40B8-4E95-9814-8430D315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CEA9-37B6-468F-B77A-CA87BC68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6723C-3B56-4B67-8358-A83B21A6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7C32F-CB9D-44B5-BB49-686E270A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78ED-AE21-4541-976C-D3C061CB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F280-D506-4B61-BBCE-8A42EBA2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8F147-51CE-4834-96DB-88E7A25E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10B8E-19A6-435D-B8A9-2DBC7D29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9EA14-E02E-42BB-8D7E-D2C030FA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92C3-5A98-4AEB-BC77-299409444A6E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AF1D-8887-4E69-AE60-AB83CC9E4692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8052-EB95-4E34-B9D0-9046015245FE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5C42-1957-44F0-B37F-85601DC90D5F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69C8-1166-40C3-8E5B-B7B71F561D54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B710-1CD6-43DE-97EF-2F0699C4A7D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5A97-8610-46E5-9AA5-3B51AF332FFE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52F2-02A1-4536-BDF0-9B67AFCA5C7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0CAC-80C2-409B-B009-61B7990CAE55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689040" y="622440"/>
            <a:ext cx="3956040" cy="27604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476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OR  MARITO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1 Imagen" descr=""/>
          <p:cNvPicPr/>
          <p:nvPr/>
        </p:nvPicPr>
        <p:blipFill>
          <a:blip r:embed="rId1"/>
          <a:stretch/>
        </p:blipFill>
        <p:spPr>
          <a:xfrm>
            <a:off x="1247760" y="0"/>
            <a:ext cx="664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1 Imagen" descr=""/>
          <p:cNvPicPr/>
          <p:nvPr/>
        </p:nvPicPr>
        <p:blipFill>
          <a:blip r:embed="rId1"/>
          <a:stretch/>
        </p:blipFill>
        <p:spPr>
          <a:xfrm>
            <a:off x="2038320" y="0"/>
            <a:ext cx="5067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1 Imagen" descr=""/>
          <p:cNvPicPr/>
          <p:nvPr/>
        </p:nvPicPr>
        <p:blipFill>
          <a:blip r:embed="rId1"/>
          <a:stretch/>
        </p:blipFill>
        <p:spPr>
          <a:xfrm>
            <a:off x="900000" y="38160"/>
            <a:ext cx="734400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Imagen" descr=""/>
          <p:cNvPicPr/>
          <p:nvPr/>
        </p:nvPicPr>
        <p:blipFill>
          <a:blip r:embed="rId1"/>
          <a:stretch/>
        </p:blipFill>
        <p:spPr>
          <a:xfrm>
            <a:off x="1476360" y="7920"/>
            <a:ext cx="619128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Imagen" descr=""/>
          <p:cNvPicPr/>
          <p:nvPr/>
        </p:nvPicPr>
        <p:blipFill>
          <a:blip r:embed="rId1"/>
          <a:stretch/>
        </p:blipFill>
        <p:spPr>
          <a:xfrm>
            <a:off x="127080" y="1181160"/>
            <a:ext cx="8889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1 Imagen" descr=""/>
          <p:cNvPicPr/>
          <p:nvPr/>
        </p:nvPicPr>
        <p:blipFill>
          <a:blip r:embed="rId1"/>
          <a:stretch/>
        </p:blipFill>
        <p:spPr>
          <a:xfrm>
            <a:off x="1536840" y="190440"/>
            <a:ext cx="60703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1 Imagen" descr=""/>
          <p:cNvPicPr/>
          <p:nvPr/>
        </p:nvPicPr>
        <p:blipFill>
          <a:blip r:embed="rId1"/>
          <a:stretch/>
        </p:blipFill>
        <p:spPr>
          <a:xfrm>
            <a:off x="1352520" y="190440"/>
            <a:ext cx="643896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1 Imagen" descr=""/>
          <p:cNvPicPr/>
          <p:nvPr/>
        </p:nvPicPr>
        <p:blipFill>
          <a:blip r:embed="rId1"/>
          <a:stretch/>
        </p:blipFill>
        <p:spPr>
          <a:xfrm>
            <a:off x="762120" y="476280"/>
            <a:ext cx="761976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1 Imagen" descr=""/>
          <p:cNvPicPr/>
          <p:nvPr/>
        </p:nvPicPr>
        <p:blipFill>
          <a:blip r:embed="rId1"/>
          <a:stretch/>
        </p:blipFill>
        <p:spPr>
          <a:xfrm>
            <a:off x="1403280" y="41400"/>
            <a:ext cx="633744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1 Imagen" descr="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3 Imagen" descr=""/>
          <p:cNvPicPr/>
          <p:nvPr/>
        </p:nvPicPr>
        <p:blipFill>
          <a:blip r:embed="rId1"/>
          <a:stretch/>
        </p:blipFill>
        <p:spPr>
          <a:xfrm>
            <a:off x="1689120" y="355680"/>
            <a:ext cx="576576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1 Imagen" descr=""/>
          <p:cNvPicPr/>
          <p:nvPr/>
        </p:nvPicPr>
        <p:blipFill>
          <a:blip r:embed="rId1"/>
          <a:stretch/>
        </p:blipFill>
        <p:spPr>
          <a:xfrm>
            <a:off x="0" y="1197000"/>
            <a:ext cx="9113760" cy="44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1 Imagen" descr="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1 Imagen" descr=""/>
          <p:cNvPicPr/>
          <p:nvPr/>
        </p:nvPicPr>
        <p:blipFill>
          <a:blip r:embed="rId1"/>
          <a:stretch/>
        </p:blipFill>
        <p:spPr>
          <a:xfrm>
            <a:off x="395280" y="79200"/>
            <a:ext cx="8424720" cy="664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Imagen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1 Imagen" descr="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1 Imagen" descr=""/>
          <p:cNvPicPr/>
          <p:nvPr/>
        </p:nvPicPr>
        <p:blipFill>
          <a:blip r:embed="rId1"/>
          <a:stretch/>
        </p:blipFill>
        <p:spPr>
          <a:xfrm>
            <a:off x="468360" y="104760"/>
            <a:ext cx="820728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1 Imagen" descr=""/>
          <p:cNvPicPr/>
          <p:nvPr/>
        </p:nvPicPr>
        <p:blipFill>
          <a:blip r:embed="rId1"/>
          <a:stretch/>
        </p:blipFill>
        <p:spPr>
          <a:xfrm>
            <a:off x="468360" y="384120"/>
            <a:ext cx="820728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1 Imagen" descr=""/>
          <p:cNvPicPr/>
          <p:nvPr/>
        </p:nvPicPr>
        <p:blipFill>
          <a:blip r:embed="rId1"/>
          <a:stretch/>
        </p:blipFill>
        <p:spPr>
          <a:xfrm>
            <a:off x="596880" y="76320"/>
            <a:ext cx="7950240" cy="67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Imagen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66160" cy="40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1 Imagen" descr=""/>
          <p:cNvPicPr/>
          <p:nvPr/>
        </p:nvPicPr>
        <p:blipFill>
          <a:blip r:embed="rId1"/>
          <a:stretch/>
        </p:blipFill>
        <p:spPr>
          <a:xfrm>
            <a:off x="1979640" y="39600"/>
            <a:ext cx="5184720" cy="677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1 Imagen" descr=""/>
          <p:cNvPicPr/>
          <p:nvPr/>
        </p:nvPicPr>
        <p:blipFill>
          <a:blip r:embed="rId1"/>
          <a:stretch/>
        </p:blipFill>
        <p:spPr>
          <a:xfrm>
            <a:off x="127080" y="272880"/>
            <a:ext cx="8889840" cy="631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Imagen" descr=""/>
          <p:cNvPicPr/>
          <p:nvPr/>
        </p:nvPicPr>
        <p:blipFill>
          <a:blip r:embed="rId1"/>
          <a:stretch/>
        </p:blipFill>
        <p:spPr>
          <a:xfrm>
            <a:off x="2195640" y="22320"/>
            <a:ext cx="4752720" cy="68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1 Imagen" descr=""/>
          <p:cNvPicPr/>
          <p:nvPr/>
        </p:nvPicPr>
        <p:blipFill>
          <a:blip r:embed="rId1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Imagen" descr=""/>
          <p:cNvPicPr/>
          <p:nvPr/>
        </p:nvPicPr>
        <p:blipFill>
          <a:blip r:embed="rId1"/>
          <a:stretch/>
        </p:blipFill>
        <p:spPr>
          <a:xfrm>
            <a:off x="158760" y="692280"/>
            <a:ext cx="882648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1 Imagen" descr=""/>
          <p:cNvPicPr/>
          <p:nvPr/>
        </p:nvPicPr>
        <p:blipFill>
          <a:blip r:embed="rId1"/>
          <a:stretch/>
        </p:blipFill>
        <p:spPr>
          <a:xfrm>
            <a:off x="468360" y="104760"/>
            <a:ext cx="820728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1 Imagen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7920000" cy="66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1 Imagen" descr=""/>
          <p:cNvPicPr/>
          <p:nvPr/>
        </p:nvPicPr>
        <p:blipFill>
          <a:blip r:embed="rId1"/>
          <a:stretch/>
        </p:blipFill>
        <p:spPr>
          <a:xfrm>
            <a:off x="2046240" y="0"/>
            <a:ext cx="5051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1 Imagen" descr=""/>
          <p:cNvPicPr/>
          <p:nvPr/>
        </p:nvPicPr>
        <p:blipFill>
          <a:blip r:embed="rId1"/>
          <a:stretch/>
        </p:blipFill>
        <p:spPr>
          <a:xfrm>
            <a:off x="1187280" y="31680"/>
            <a:ext cx="676944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1 Imagen" descr=""/>
          <p:cNvPicPr/>
          <p:nvPr/>
        </p:nvPicPr>
        <p:blipFill>
          <a:blip r:embed="rId1"/>
          <a:stretch/>
        </p:blipFill>
        <p:spPr>
          <a:xfrm>
            <a:off x="1523880" y="190440"/>
            <a:ext cx="60962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1 Imagen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54208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1 Imagen" descr=""/>
          <p:cNvPicPr/>
          <p:nvPr/>
        </p:nvPicPr>
        <p:blipFill>
          <a:blip r:embed="rId1"/>
          <a:stretch/>
        </p:blipFill>
        <p:spPr>
          <a:xfrm>
            <a:off x="17748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1 Imagen" descr=""/>
          <p:cNvPicPr/>
          <p:nvPr/>
        </p:nvPicPr>
        <p:blipFill>
          <a:blip r:embed="rId1"/>
          <a:stretch/>
        </p:blipFill>
        <p:spPr>
          <a:xfrm>
            <a:off x="293760" y="0"/>
            <a:ext cx="855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1 Imagen" descr=""/>
          <p:cNvPicPr/>
          <p:nvPr/>
        </p:nvPicPr>
        <p:blipFill>
          <a:blip r:embed="rId1"/>
          <a:stretch/>
        </p:blipFill>
        <p:spPr>
          <a:xfrm>
            <a:off x="1119240" y="0"/>
            <a:ext cx="6905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1 Imagen" descr=""/>
          <p:cNvPicPr/>
          <p:nvPr/>
        </p:nvPicPr>
        <p:blipFill>
          <a:blip r:embed="rId1"/>
          <a:stretch/>
        </p:blipFill>
        <p:spPr>
          <a:xfrm>
            <a:off x="1477800" y="109440"/>
            <a:ext cx="6262920" cy="65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1 Imagen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89776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1 Imagen" descr=""/>
          <p:cNvPicPr/>
          <p:nvPr/>
        </p:nvPicPr>
        <p:blipFill>
          <a:blip r:embed="rId1"/>
          <a:stretch/>
        </p:blipFill>
        <p:spPr>
          <a:xfrm>
            <a:off x="2701800" y="0"/>
            <a:ext cx="3740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1 Imagen" descr=""/>
          <p:cNvPicPr/>
          <p:nvPr/>
        </p:nvPicPr>
        <p:blipFill>
          <a:blip r:embed="rId1"/>
          <a:stretch/>
        </p:blipFill>
        <p:spPr>
          <a:xfrm>
            <a:off x="1332000" y="27000"/>
            <a:ext cx="648000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1 Imagen" descr=""/>
          <p:cNvPicPr/>
          <p:nvPr/>
        </p:nvPicPr>
        <p:blipFill>
          <a:blip r:embed="rId1"/>
          <a:stretch/>
        </p:blipFill>
        <p:spPr>
          <a:xfrm>
            <a:off x="387360" y="115920"/>
            <a:ext cx="8369280" cy="66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1 Imagen" descr=""/>
          <p:cNvPicPr/>
          <p:nvPr/>
        </p:nvPicPr>
        <p:blipFill>
          <a:blip r:embed="rId1"/>
          <a:stretch/>
        </p:blipFill>
        <p:spPr>
          <a:xfrm>
            <a:off x="247680" y="0"/>
            <a:ext cx="864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7080" y="260280"/>
            <a:ext cx="88898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1 Imagen" descr=""/>
          <p:cNvPicPr/>
          <p:nvPr/>
        </p:nvPicPr>
        <p:blipFill>
          <a:blip r:embed="rId1"/>
          <a:stretch/>
        </p:blipFill>
        <p:spPr>
          <a:xfrm>
            <a:off x="1717560" y="0"/>
            <a:ext cx="570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1 Imagen" descr=""/>
          <p:cNvPicPr/>
          <p:nvPr/>
        </p:nvPicPr>
        <p:blipFill>
          <a:blip r:embed="rId1"/>
          <a:stretch/>
        </p:blipFill>
        <p:spPr>
          <a:xfrm>
            <a:off x="1835280" y="84240"/>
            <a:ext cx="5473440" cy="66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1 Imagen" descr=""/>
          <p:cNvPicPr/>
          <p:nvPr/>
        </p:nvPicPr>
        <p:blipFill>
          <a:blip r:embed="rId1"/>
          <a:stretch/>
        </p:blipFill>
        <p:spPr>
          <a:xfrm>
            <a:off x="1392120" y="44280"/>
            <a:ext cx="642780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1 Imagen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200640" cy="66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20:58:40Z</dcterms:created>
  <dc:creator>Mario</dc:creator>
  <dc:description/>
  <dc:language>en-US</dc:language>
  <cp:lastModifiedBy>Mario</cp:lastModifiedBy>
  <dcterms:modified xsi:type="dcterms:W3CDTF">2013-10-18T21:36:47Z</dcterms:modified>
  <cp:revision>4</cp:revision>
  <dc:subject/>
  <dc:title>Presentación de PowerPoint</dc:title>
</cp:coreProperties>
</file>