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A1A-4009-4F76-AA10-30EAD741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E0F-3BE4-4464-BC97-41E3EE63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C4F-7FC1-44A6-A172-DE75CF8A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F0F-5712-4908-B97D-E40B0EA7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363B-E0A0-497F-8006-CD9A39A7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2C04-080E-4522-8B87-A86C8620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1FA6-8A25-44A9-9B05-916B312F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D509-7CDE-49A5-A2DE-AF45C7F6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716A-D89E-4531-9605-12C15D00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4FEF-CB76-4E1A-9DC9-DEDE6488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7F86-4713-4137-B5C0-0BDEAD32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4C7-F947-43A0-8137-1544976B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8E9B-FD0F-42C3-9C7A-78DBB96B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14C8-AF03-4AF6-8CFB-CDDE93B6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A5C2-B310-4D89-9167-8C8446AE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D3F7-7BEF-4C9C-BB8E-D8448E5A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1750-2272-491A-8123-2EDCBA61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5F8-7773-47D3-8E24-2CF45133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EEED-9471-4911-B2F9-4E1F3A7E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3FE-6A60-43F0-A20D-DB039C08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363-FE7B-4D5A-A1F1-35E61585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461-82BB-4F8C-B69D-1B5542F9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3D4-6839-41F3-998B-A34E36BD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B00-77BC-4301-8400-CA91F76E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D91A-A3D2-443C-9C25-4E35A26CE6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D5D7-EEBC-4D90-8C6D-C332723405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320" y="1676160"/>
            <a:ext cx="8015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microbús lleno de monjas choca con un tren y se mueren to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do llegan al Paraíso, tratan de atravesar el portón para entrar, y se encuentran con San Pedr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1611360" cy="2711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flipH="1">
            <a:off x="1979640" y="981000"/>
            <a:ext cx="923760" cy="1535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 flipH="1">
            <a:off x="2484360" y="1052640"/>
            <a:ext cx="922320" cy="1533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 flipH="1">
            <a:off x="4572000" y="1484280"/>
            <a:ext cx="966960" cy="160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 flipH="1">
            <a:off x="2844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 flipH="1">
            <a:off x="3276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 flipH="1">
            <a:off x="3778200" y="1268280"/>
            <a:ext cx="936720" cy="1441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3428640"/>
            <a:ext cx="8209080" cy="31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El Santo le pregunta a la primera monja: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Hermana Teresa, ¿usted tuvo alguna vez contacto con un pene?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La hermana sonríe tímidamente y responde: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Bueno... una vez toqué la cabeza de uno, con la puntita del dedo. 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Muy bien - dice el Portero del Cielo - meta la punta del dedo en esta pira de agua bendita, y luego atraviese el portón.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1611360" cy="2711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 flipH="1">
            <a:off x="1979640" y="981000"/>
            <a:ext cx="923760" cy="1535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2484360" y="1052640"/>
            <a:ext cx="922320" cy="1533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 flipH="1">
            <a:off x="4572000" y="1484280"/>
            <a:ext cx="966960" cy="1606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 flipH="1">
            <a:off x="2844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 flipH="1">
            <a:off x="3276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 flipH="1">
            <a:off x="3778200" y="1268280"/>
            <a:ext cx="936720" cy="14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3428640"/>
            <a:ext cx="8209080" cy="31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Arial"/>
              </a:rPr>
              <a:t>San Pedro le pregunta a la segunda monja:                    -Hermana Beatriz, ¿ud tuvo alguna vez contacto con un pene?... </a:t>
            </a:r>
            <a:br>
              <a:rPr sz="2400"/>
            </a:br>
            <a:r>
              <a:rPr b="1" lang="es-ES" sz="2400" spc="-1" strike="noStrike">
                <a:solidFill>
                  <a:srgbClr val="b7e7ff"/>
                </a:solidFill>
                <a:latin typeface="Arial"/>
              </a:rPr>
              <a:t>La hermana traga saliva y dice:</a:t>
            </a:r>
            <a:br>
              <a:rPr sz="2400"/>
            </a:br>
            <a:r>
              <a:rPr b="1" lang="es-ES" sz="2400" spc="-1" strike="noStrike">
                <a:solidFill>
                  <a:srgbClr val="b7e7ff"/>
                </a:solidFill>
                <a:latin typeface="Arial"/>
              </a:rPr>
              <a:t>- Bien... una vez acaricié uno...</a:t>
            </a:r>
            <a:br>
              <a:rPr sz="2400"/>
            </a:br>
            <a:r>
              <a:rPr b="1" lang="es-ES" sz="2400" spc="-1" strike="noStrike">
                <a:solidFill>
                  <a:srgbClr val="b7e7ff"/>
                </a:solidFill>
                <a:latin typeface="Arial"/>
              </a:rPr>
              <a:t>-Siendo así - determina San Pedro - meta toda la mano en el agua bendita, y luego atraviese el portón.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1680" y="4005360"/>
            <a:ext cx="854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De repente se arma un despelote en la fila de monjas. Una de ellas empieza a empujar a las otras para pasar  al primer lugar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1611360" cy="2711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flipH="1">
            <a:off x="1979640" y="981000"/>
            <a:ext cx="923760" cy="1535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 flipH="1">
            <a:off x="2484360" y="1052640"/>
            <a:ext cx="922320" cy="1533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 flipH="1">
            <a:off x="2411280" y="981000"/>
            <a:ext cx="966960" cy="160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 flipH="1">
            <a:off x="2844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 flipH="1">
            <a:off x="3276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 flipH="1">
            <a:off x="3778200" y="1268280"/>
            <a:ext cx="93672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1611360" cy="2711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flipH="1">
            <a:off x="1979640" y="981000"/>
            <a:ext cx="923760" cy="1535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 flipH="1">
            <a:off x="2484360" y="1052640"/>
            <a:ext cx="922320" cy="1533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 flipH="1">
            <a:off x="4716360" y="958680"/>
            <a:ext cx="966960" cy="160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 flipH="1">
            <a:off x="2844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 flipH="1">
            <a:off x="3276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 flipH="1">
            <a:off x="3778200" y="1268280"/>
            <a:ext cx="936720" cy="1441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3758760"/>
            <a:ext cx="8209080" cy="31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Cuando la monjita agotada llega al comienzo de la fila, San Pedro le pregunta: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Hermana, ¿por qué está tan apurada?...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Y la monja responde: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Es que si voy a tener que hacer gárgaras con ese agua, mejor lo  hago ahora, antes de que la hermana María se lave el culo... 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95560" y="2438280"/>
            <a:ext cx="13528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0:47:20Z</dcterms:created>
  <dc:creator>OLGA</dc:creator>
  <dc:description/>
  <dc:language>en-US</dc:language>
  <cp:lastModifiedBy>ROB</cp:lastModifiedBy>
  <dcterms:modified xsi:type="dcterms:W3CDTF">2008-07-10T02:31:23Z</dcterms:modified>
  <cp:revision>6</cp:revision>
  <dc:subject/>
  <dc:title>Diapositiva 1</dc:title>
</cp:coreProperties>
</file>