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699A-BE6A-4ADF-A02F-D42D9BA8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36C-2F78-4353-A513-BF55F918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C27-8D9B-4C63-BC7A-1D28EC6D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BA9-2BCD-4D44-A00C-44B38403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5F3E-F508-4E8E-8712-CD8AC451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56B3-6E60-42D2-A20A-F0BB96D9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B928-04B7-41AD-A4B3-FBC955AD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B8A0-92F8-4A17-BD8A-7518E98B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5E02-2707-4670-9892-E99FFA71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C7B5-9772-4A87-87F7-1659624C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D34F-0256-4416-A137-7D53760B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F74-06A6-422D-9293-7DCEC8B7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CDA2-5A57-4E94-93CB-A464719D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F0B4-FFF5-48B9-A02B-D4A76341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313C-7FE2-4D8A-90FD-67679321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6C5A-E3E6-4503-9F44-A407727B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3D67-23CB-4EDD-A3A3-EEDB1AA1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724-5648-46ED-889F-8F6D563F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DF5-55CD-437D-BD9E-118BA5D1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779-830E-499D-A0CF-A6B08DAF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F0E-CE46-4260-AF58-ABB03E6C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F37-541A-47C3-B056-66ACEA22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DEB-1A64-4B65-9DEA-85869456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170-C589-4DBD-B9B4-4463E9EC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8081-4B62-47EC-986E-8585FD9F17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E814-DA7B-4A89-998D-BD633A8AEB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320" y="1676160"/>
            <a:ext cx="8015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microbús lleno de monjas choca con un tren y se mueren to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do llegan al Paraíso, tratan de atravesar el portón para entrar, y se encuentran con San Pedr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 flipH="1">
            <a:off x="4572000" y="148428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3428640"/>
            <a:ext cx="8209080" cy="31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El Santo le pregunta a la primera monja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Hermana Teresa, ¿usted tuvo alguna vez contacto con un pene?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La hermana sonríe tímidamente y responde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Bueno... una vez toqué la cabeza de uno, con la puntita del dedo. 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Muy bien - dice el Portero del Cielo - meta la punta del dedo en esta pira de agua bendita, y luego atraviese el portón.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 flipH="1">
            <a:off x="4572000" y="148428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3428640"/>
            <a:ext cx="8209080" cy="31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San Pedro le pregunta a la segunda monja:                    -Hermana Beatriz, ¿ud tuvo alguna vez contacto con un pene?... </a:t>
            </a:r>
            <a:br>
              <a:rPr sz="2400"/>
            </a:b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La hermana traga saliva y dice:</a:t>
            </a:r>
            <a:br>
              <a:rPr sz="2400"/>
            </a:b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- Bien... una vez acaricié uno...</a:t>
            </a:r>
            <a:br>
              <a:rPr sz="2400"/>
            </a:b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-Siendo así - determina San Pedro - meta toda la mano en el agua bendita, y luego atraviese el portón.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4005360"/>
            <a:ext cx="854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De repente se arma un despelote en la fila de monjas. Una de ellas empieza a empujar a las otras para pasar  al primer lugar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 flipH="1">
            <a:off x="2411280" y="98100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 flipH="1">
            <a:off x="4716360" y="95868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3758760"/>
            <a:ext cx="8209080" cy="31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Cuando la monjita agotada llega al comienzo de la fila, San Pedro le pregunta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Hermana, ¿por qué está tan apurada?...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Y la monja responde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Es que si voy a tener que hacer gárgaras con ese agua, mejor lo  hago ahora, antes de que la hermana María se lave el culo... 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95560" y="2438280"/>
            <a:ext cx="13528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0:47:20Z</dcterms:created>
  <dc:creator>OLGA</dc:creator>
  <dc:description/>
  <dc:language>en-US</dc:language>
  <cp:lastModifiedBy>ROB</cp:lastModifiedBy>
  <dcterms:modified xsi:type="dcterms:W3CDTF">2008-07-10T02:31:23Z</dcterms:modified>
  <cp:revision>6</cp:revision>
  <dc:subject/>
  <dc:title>Diapositiva 1</dc:title>
</cp:coreProperties>
</file>