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MisericordiaRecordow.wav" ContentType="audio/x-wav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3F9ED-7389-4DA8-BBA5-22B3A8ACDA02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5501E-046D-4777-8C01-57D2DDFEE243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F22A5-4577-45DB-9740-E83DCA426809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571EB-7BF3-4837-8664-BD242A91AA73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C82B5-64A9-430C-BDFE-CBF76EE3DE7E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0AD86-BA85-4DDD-9CC2-8757A6D98692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1583B-5A03-4973-82BC-BFF5AC432528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828A2-A771-47AF-B64A-3AE07B82B67A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F3E64-4C76-47F9-9A23-76357C8A37DB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A2A27-CD64-44B0-A52D-C51D6C7A6D46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34D2E-E26A-48B0-A0C0-CC4EDE4DEC91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F554D-4CB8-47B4-86B5-69F47471236D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41C35-F329-4356-A56E-412B2520E7D9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E0DEC-9D4E-4C1C-85E8-A0FFBB115DE1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20FEC-9459-4CAC-A85C-2629CA3272D2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F7084-4017-4020-A71C-47930E9A650D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E041B-2554-44E2-A6F7-A868C17B5C85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221A1-8EE6-4269-AE14-4932B8926679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DEFE5-FC66-4AF1-BAD7-2DDA33D565CD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E8591-A9A6-47C6-9890-5FB0FD9D9435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0C1C-BE16-48FE-9681-9B6651F80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CD5A-79A5-4E04-B3EA-72F80C40E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E48B-BA50-4522-938C-1F222D7A3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5395-369A-4765-AC75-6EC05AF68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A152-4FE9-4433-A6AD-DCC7334BD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9398-3312-489B-BEDB-10816889A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2F74-0308-4CE3-9492-A8D047FF6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519F-BB39-4393-969B-FA58A6024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0BDB-520E-4833-AB90-7A8C32744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84CD-A7C8-4FAE-B439-0BE04476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E1BB-D9BB-45C4-80DA-DF1297AF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F359-BE75-492A-B305-B271C03F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4AF22-1978-4028-9AF7-6A164DB089E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MisericordiaRecordow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mailto:stbenet@benedictinescat.com" TargetMode="External"/><Relationship Id="rId2" Type="http://schemas.openxmlformats.org/officeDocument/2006/relationships/hyperlink" Target="http://www.benedictinescat.com/montserrat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youtu.be/YEbs9o3FtCA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10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642960" y="4581360"/>
            <a:ext cx="4755960" cy="137376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Sintamos la grandeza de “Las misericordias del Señor” (T. Ll. De Victor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699120" y="2708280"/>
            <a:ext cx="431676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6000" spc="-1" strike="noStrike">
                <a:solidFill>
                  <a:srgbClr val="460000"/>
                </a:solidFill>
                <a:latin typeface="Arial Unicode MS"/>
              </a:rPr>
              <a:t>25 AÑO c 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7 Imagen" descr="Emaustttcc.jpg"/>
          <p:cNvPicPr/>
          <p:nvPr/>
        </p:nvPicPr>
        <p:blipFill>
          <a:blip r:embed="rId1"/>
          <a:stretch/>
        </p:blipFill>
        <p:spPr>
          <a:xfrm>
            <a:off x="6108840" y="1052640"/>
            <a:ext cx="2439720" cy="5110200"/>
          </a:xfrm>
          <a:prstGeom prst="rect">
            <a:avLst/>
          </a:prstGeom>
          <a:ln w="0">
            <a:noFill/>
          </a:ln>
        </p:spPr>
      </p:pic>
      <p:grpSp>
        <p:nvGrpSpPr>
          <p:cNvPr id="52" name="8 Grupo"/>
          <p:cNvGrpSpPr/>
          <p:nvPr/>
        </p:nvGrpSpPr>
        <p:grpSpPr>
          <a:xfrm>
            <a:off x="395280" y="357120"/>
            <a:ext cx="5032440" cy="1940040"/>
            <a:chOff x="395280" y="357120"/>
            <a:chExt cx="5032440" cy="1940040"/>
          </a:xfrm>
        </p:grpSpPr>
        <p:sp>
          <p:nvSpPr>
            <p:cNvPr id="53" name="7 Rectángulo"/>
            <p:cNvSpPr/>
            <p:nvPr/>
          </p:nvSpPr>
          <p:spPr>
            <a:xfrm>
              <a:off x="426960" y="357120"/>
              <a:ext cx="5000760" cy="185760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WordArt 87"/>
            <p:cNvSpPr txBox="1"/>
            <p:nvPr/>
          </p:nvSpPr>
          <p:spPr>
            <a:xfrm>
              <a:off x="395280" y="428400"/>
              <a:ext cx="5003640" cy="1868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0">
                    <a:noFill/>
                  </a:ln>
                  <a:gradFill rotWithShape="0">
                    <a:gsLst>
                      <a:gs pos="0">
                        <a:srgbClr val="ef2a03"/>
                      </a:gs>
                      <a:gs pos="100000">
                        <a:srgbClr val="580604"/>
                      </a:gs>
                    </a:gsLst>
                    <a:lin ang="5400000"/>
                  </a:gradFill>
                  <a:effectLst>
                    <a:outerShdw dist="38183" dir="2700000" blurRad="0" rotWithShape="0">
                      <a:srgbClr val="c00000">
                        <a:alpha val="43000"/>
                      </a:srgbClr>
                    </a:outerShdw>
                  </a:effectLst>
                  <a:latin typeface="Arial Black"/>
                </a:rPr>
                <a:t>DOMINGO</a:t>
              </a:r>
              <a:endPara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ef2a03"/>
                    </a:gs>
                    <a:gs pos="100000">
                      <a:srgbClr val="580604"/>
                    </a:gs>
                  </a:gsLst>
                  <a:lin ang="5400000"/>
                </a:gradFill>
                <a:effectLst>
                  <a:outerShdw dist="38183" dir="2700000" blurRad="0" rotWithShape="0">
                    <a:srgbClr val="c00000">
                      <a:alpha val="43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55" name="14 CuadroTexto"/>
          <p:cNvSpPr/>
          <p:nvPr/>
        </p:nvSpPr>
        <p:spPr>
          <a:xfrm>
            <a:off x="6143760" y="6143760"/>
            <a:ext cx="1214280" cy="100764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Mistral"/>
              </a:rPr>
              <a:t>Regin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  <p:sndAc>
      <p:stSnd>
        <p:snd r:embed="rId2" name="MisericordiaRecordo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0"/>
          <p:cNvSpPr/>
          <p:nvPr/>
        </p:nvSpPr>
        <p:spPr>
          <a:xfrm>
            <a:off x="468360" y="620640"/>
            <a:ext cx="8280360" cy="612684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uando oscureció, el dueño de la viña dijo al capataz: "Llama a los jornaleros y págales el jornal, empezando por los últimos y acabando por los primeros." Vinieron los del atardecer y recibieron un denario cada uno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4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1 Imagen" descr=""/>
          <p:cNvPicPr/>
          <p:nvPr/>
        </p:nvPicPr>
        <p:blipFill>
          <a:blip r:embed="rId1"/>
          <a:stretch/>
        </p:blipFill>
        <p:spPr>
          <a:xfrm>
            <a:off x="-9360" y="933480"/>
            <a:ext cx="9144000" cy="58626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2"/>
          <p:cNvSpPr/>
          <p:nvPr/>
        </p:nvSpPr>
        <p:spPr>
          <a:xfrm>
            <a:off x="108000" y="115920"/>
            <a:ext cx="7704000" cy="131292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No trabajéis por el sueldo, el mismo trabajo os dignif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0" y="4827600"/>
            <a:ext cx="4406760" cy="19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El jornal entero es vivir el gozo de servi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0"/>
          <p:cNvSpPr/>
          <p:nvPr/>
        </p:nvSpPr>
        <p:spPr>
          <a:xfrm>
            <a:off x="357120" y="476280"/>
            <a:ext cx="8391600" cy="618876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uando llegaron los primeros, pensaban que recibirían más, pero ellos también recibieron un denario cada uno. Entonces se pusieron a protestar contra el amo: "Estos últimos han trabajado sólo una hora, y los has tratado igual que a nosotros, que hemos aguantado el peso del día y el bochorno."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3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1 Image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2"/>
          <p:cNvSpPr/>
          <p:nvPr/>
        </p:nvSpPr>
        <p:spPr>
          <a:xfrm>
            <a:off x="142920" y="160200"/>
            <a:ext cx="3294000" cy="192240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Con amor, el peso del día es lige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2556000" y="5373720"/>
            <a:ext cx="640080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000000"/>
                </a:solidFill>
                <a:latin typeface="Arial"/>
              </a:rPr>
              <a:t>¿No somos llamados a servir  con alegría? </a:t>
            </a:r>
            <a:r>
              <a:rPr b="1" lang="ca-ES" sz="3000" spc="-1" strike="noStrike">
                <a:solidFill>
                  <a:srgbClr val="000000"/>
                </a:solidFill>
                <a:latin typeface="Arial"/>
              </a:rPr>
              <a:t>(Sal 99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20 Imagen" descr=""/>
          <p:cNvPicPr/>
          <p:nvPr/>
        </p:nvPicPr>
        <p:blipFill>
          <a:blip r:embed="rId2"/>
          <a:stretch/>
        </p:blipFill>
        <p:spPr>
          <a:xfrm>
            <a:off x="4950000" y="3029040"/>
            <a:ext cx="347400" cy="415800"/>
          </a:xfrm>
          <a:prstGeom prst="rect">
            <a:avLst/>
          </a:prstGeom>
          <a:ln w="0">
            <a:noFill/>
          </a:ln>
        </p:spPr>
      </p:pic>
      <p:pic>
        <p:nvPicPr>
          <p:cNvPr id="90" name="22 Imagen" descr=""/>
          <p:cNvPicPr/>
          <p:nvPr/>
        </p:nvPicPr>
        <p:blipFill>
          <a:blip r:embed="rId3"/>
          <a:stretch/>
        </p:blipFill>
        <p:spPr>
          <a:xfrm>
            <a:off x="5121360" y="4017960"/>
            <a:ext cx="395280" cy="3459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0"/>
          <p:cNvSpPr/>
          <p:nvPr/>
        </p:nvSpPr>
        <p:spPr>
          <a:xfrm>
            <a:off x="357120" y="404640"/>
            <a:ext cx="8391600" cy="618876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Él replicó a uno de ellos: "Amigo, no te hago ninguna injusticia. ¿No nos ajustamos en un denario? Toma lo tuyo y vete. Quiero darle a este último igual que a ti. ¿Es que no tengo libertad para hacer lo que quiera en mis asuntos? ¿O vas a tener tú envidia por que yo soy bueno?"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3 Rectángulo"/>
          <p:cNvSpPr/>
          <p:nvPr/>
        </p:nvSpPr>
        <p:spPr>
          <a:xfrm>
            <a:off x="0" y="-3024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395280" y="2419200"/>
            <a:ext cx="4248000" cy="31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Él quiere darnos a TODOS un fruto mucho mejor de lo que merece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263520" y="189000"/>
            <a:ext cx="4464000" cy="192240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¿Entendemos la GRATUIDAD de un Dios BUEN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1 Imagen" descr=""/>
          <p:cNvPicPr/>
          <p:nvPr/>
        </p:nvPicPr>
        <p:blipFill>
          <a:blip r:embed="rId1"/>
          <a:stretch/>
        </p:blipFill>
        <p:spPr>
          <a:xfrm>
            <a:off x="4932360" y="0"/>
            <a:ext cx="3527280" cy="6916680"/>
          </a:xfrm>
          <a:prstGeom prst="rect">
            <a:avLst/>
          </a:prstGeom>
          <a:ln w="0">
            <a:noFill/>
          </a:ln>
        </p:spPr>
      </p:pic>
      <p:sp>
        <p:nvSpPr>
          <p:cNvPr id="96" name="1 CuadroTexto"/>
          <p:cNvSpPr/>
          <p:nvPr/>
        </p:nvSpPr>
        <p:spPr>
          <a:xfrm>
            <a:off x="263520" y="6237360"/>
            <a:ext cx="182412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No cli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4 Grupo"/>
          <p:cNvGrpSpPr/>
          <p:nvPr/>
        </p:nvGrpSpPr>
        <p:grpSpPr>
          <a:xfrm>
            <a:off x="4933800" y="-30240"/>
            <a:ext cx="3527640" cy="6918480"/>
            <a:chOff x="4933800" y="-30240"/>
            <a:chExt cx="3527640" cy="6918480"/>
          </a:xfrm>
        </p:grpSpPr>
        <p:pic>
          <p:nvPicPr>
            <p:cNvPr id="98" name="1 Imagen" descr=""/>
            <p:cNvPicPr/>
            <p:nvPr/>
          </p:nvPicPr>
          <p:blipFill>
            <a:blip r:embed="rId2">
              <a:biLevel thresh="50000"/>
            </a:blip>
            <a:stretch/>
          </p:blipFill>
          <p:spPr>
            <a:xfrm>
              <a:off x="4933800" y="-30240"/>
              <a:ext cx="3527640" cy="691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3 Rectángulo"/>
            <p:cNvSpPr/>
            <p:nvPr/>
          </p:nvSpPr>
          <p:spPr>
            <a:xfrm>
              <a:off x="6696720" y="-30240"/>
              <a:ext cx="288000" cy="12690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9 Rectángulo"/>
            <p:cNvSpPr/>
            <p:nvPr/>
          </p:nvSpPr>
          <p:spPr>
            <a:xfrm>
              <a:off x="6740640" y="5589720"/>
              <a:ext cx="288000" cy="12690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10 Rectángulo"/>
            <p:cNvSpPr/>
            <p:nvPr/>
          </p:nvSpPr>
          <p:spPr>
            <a:xfrm>
              <a:off x="4933800" y="2847600"/>
              <a:ext cx="862920" cy="2520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11 Rectángulo"/>
            <p:cNvSpPr/>
            <p:nvPr/>
          </p:nvSpPr>
          <p:spPr>
            <a:xfrm>
              <a:off x="8282160" y="2825640"/>
              <a:ext cx="179280" cy="273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fade thruBlk="true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8200"/>
                            </p:stCondLst>
                            <p:childTnLst>
                              <p:par>
                                <p:cTn id="193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6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6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0"/>
          <p:cNvSpPr/>
          <p:nvPr/>
        </p:nvSpPr>
        <p:spPr>
          <a:xfrm>
            <a:off x="1052640" y="620640"/>
            <a:ext cx="6624360" cy="558036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sí, los últimos serán los primeros y los primeros los últimos."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3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1 Imagen" descr=""/>
          <p:cNvPicPr/>
          <p:nvPr/>
        </p:nvPicPr>
        <p:blipFill>
          <a:blip r:embed="rId1"/>
          <a:stretch/>
        </p:blipFill>
        <p:spPr>
          <a:xfrm>
            <a:off x="0" y="0"/>
            <a:ext cx="5076720" cy="6481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4356000" y="3933720"/>
            <a:ext cx="4622760" cy="25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Para Él, los últimos, con el Hijo, son también primer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4356000" y="333360"/>
            <a:ext cx="4645080" cy="356940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Arial"/>
              </a:rPr>
              <a:t>Dios es el DUEÑO de la Viña. ¿Quién le puede pedir cuentas, si su propia viña no la ha guardado? 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(Ct 1,6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3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7"/>
          <p:cNvSpPr/>
          <p:nvPr/>
        </p:nvSpPr>
        <p:spPr>
          <a:xfrm>
            <a:off x="539640" y="333360"/>
            <a:ext cx="8136000" cy="6120000"/>
          </a:xfrm>
          <a:prstGeom prst="rect">
            <a:avLst/>
          </a:prstGeom>
          <a:gradFill rotWithShape="0">
            <a:gsLst>
              <a:gs pos="0">
                <a:srgbClr val="460000"/>
              </a:gs>
              <a:gs pos="100000">
                <a:srgbClr val="cc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1262160" y="958680"/>
            <a:ext cx="6769080" cy="489456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ffffff"/>
                </a:solidFill>
                <a:latin typeface="Arial"/>
              </a:rPr>
              <a:t>Señor, concédenos la alegría de vivir sumergidos en la GENEROSIDAD del Padre, conscientes que será inmensa la recompensa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4 Grupo"/>
          <p:cNvGrpSpPr/>
          <p:nvPr/>
        </p:nvGrpSpPr>
        <p:grpSpPr>
          <a:xfrm>
            <a:off x="357120" y="189000"/>
            <a:ext cx="8286840" cy="1800000"/>
            <a:chOff x="357120" y="189000"/>
            <a:chExt cx="8286840" cy="1800000"/>
          </a:xfrm>
        </p:grpSpPr>
        <p:sp>
          <p:nvSpPr>
            <p:cNvPr id="112" name="Rectangle 5"/>
            <p:cNvSpPr/>
            <p:nvPr/>
          </p:nvSpPr>
          <p:spPr>
            <a:xfrm>
              <a:off x="357120" y="189000"/>
              <a:ext cx="8286840" cy="1800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Text Box 2"/>
            <p:cNvSpPr/>
            <p:nvPr/>
          </p:nvSpPr>
          <p:spPr>
            <a:xfrm>
              <a:off x="571320" y="448200"/>
              <a:ext cx="7782480" cy="1404000"/>
            </a:xfrm>
            <a:prstGeom prst="rect">
              <a:avLst/>
            </a:prstGeom>
            <a:gradFill rotWithShape="0">
              <a:gsLst>
                <a:gs pos="0">
                  <a:srgbClr val="5a3e16"/>
                </a:gs>
                <a:gs pos="100000">
                  <a:srgbClr val="c99f53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0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1" lang="es-ES_tradnl" sz="3000" spc="-1" strike="noStrike">
                  <a:solidFill>
                    <a:srgbClr val="ffffff"/>
                  </a:solidFill>
                  <a:latin typeface="Arial"/>
                </a:rPr>
                <a:t>onjas  de  St. Benet de Montserrat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es-ES_tradnl" sz="2800" spc="-1" strike="noStrike" u="sng">
                  <a:solidFill>
                    <a:srgbClr val="ccccff"/>
                  </a:solidFill>
                  <a:uFillTx/>
                  <a:latin typeface="Arial"/>
                  <a:hlinkClick r:id="rId1"/>
                </a:rPr>
                <a:t>stbenet@benedictinescat.com</a:t>
              </a:r>
              <a:r>
                <a:rPr b="1" lang="es-ES_tradnl" sz="2800" spc="-1" strike="noStrike">
                  <a:solidFill>
                    <a:srgbClr val="ffffff"/>
                  </a:solidFill>
                  <a:latin typeface="Arial"/>
                </a:rPr>
                <a:t>           </a:t>
              </a:r>
              <a:r>
                <a:rPr b="0" lang="es-ES" sz="2800" spc="-1" strike="noStrike" u="sng">
                  <a:solidFill>
                    <a:srgbClr val="ccccff"/>
                  </a:solidFill>
                  <a:uFillTx/>
                  <a:latin typeface="Arial"/>
                  <a:hlinkClick r:id="rId2"/>
                </a:rPr>
                <a:t>www.benedictinescat.com/montserra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4" name="Picture 7" descr="C:\Documents and Settings\st benet\Mis documentos\Fotos\SBw.jpg"/>
            <p:cNvPicPr/>
            <p:nvPr/>
          </p:nvPicPr>
          <p:blipFill>
            <a:blip r:embed="rId3"/>
            <a:stretch/>
          </p:blipFill>
          <p:spPr>
            <a:xfrm>
              <a:off x="714240" y="790200"/>
              <a:ext cx="827280" cy="665280"/>
            </a:xfrm>
            <a:prstGeom prst="rect">
              <a:avLst/>
            </a:prstGeom>
            <a:ln w="38160">
              <a:solidFill>
                <a:srgbClr val="76521c"/>
              </a:solidFill>
              <a:miter/>
            </a:ln>
          </p:spPr>
        </p:pic>
      </p:grpSp>
    </p:spTree>
  </p:cSld>
  <p:transition spd="med">
    <p:fade thruBlk="true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8"/>
          <p:cNvSpPr/>
          <p:nvPr/>
        </p:nvSpPr>
        <p:spPr>
          <a:xfrm>
            <a:off x="274680" y="244440"/>
            <a:ext cx="8609040" cy="7575480"/>
          </a:xfrm>
          <a:prstGeom prst="rect">
            <a:avLst/>
          </a:prstGeom>
          <a:solidFill>
            <a:srgbClr val="333333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e2af64"/>
                </a:solidFill>
                <a:latin typeface="Arial Unicode MS"/>
              </a:rPr>
              <a:t> </a:t>
            </a:r>
            <a:r>
              <a:rPr b="1" lang="es-ES" sz="4500" spc="-1" strike="noStrike">
                <a:solidFill>
                  <a:srgbClr val="e2af64"/>
                </a:solidFill>
                <a:latin typeface="Arial Unicode MS"/>
              </a:rPr>
              <a:t>4a Parte del evangelio de Mt:</a:t>
            </a:r>
            <a:br>
              <a:rPr sz="4500"/>
            </a:br>
            <a:r>
              <a:rPr b="1" i="1" lang="es-ES" sz="4500" spc="-1" strike="noStrike">
                <a:solidFill>
                  <a:srgbClr val="eed09a"/>
                </a:solidFill>
                <a:latin typeface="Arial Unicode MS"/>
              </a:rPr>
              <a:t>“Tener el corazón cerca de Dios”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ffc000"/>
                </a:solidFill>
                <a:latin typeface="Arial Unicode MS"/>
              </a:rPr>
              <a:t>Sermón sobre la iglesia:</a:t>
            </a:r>
            <a:br>
              <a:rPr sz="3500"/>
            </a:br>
            <a:r>
              <a:rPr b="1" lang="es-ES" sz="3500" spc="-1" strike="noStrike">
                <a:solidFill>
                  <a:srgbClr val="ffffff"/>
                </a:solidFill>
                <a:latin typeface="Arial Unicode MS"/>
              </a:rPr>
              <a:t>-En Cafarnaún: nuevos valores eclesiales </a:t>
            </a:r>
            <a:br>
              <a:rPr sz="3500"/>
            </a:br>
            <a:r>
              <a:rPr b="1" lang="es-ES" sz="3500" spc="-1" strike="noStrike">
                <a:solidFill>
                  <a:srgbClr val="ffffff"/>
                </a:solidFill>
                <a:latin typeface="Arial Unicode MS"/>
              </a:rPr>
              <a:t>-En Transjordánia: cada uno según el propio estado </a:t>
            </a:r>
            <a:r>
              <a:rPr b="1" lang="es-ES" sz="3000" spc="-1" strike="noStrike">
                <a:solidFill>
                  <a:srgbClr val="ffffff"/>
                </a:solidFill>
                <a:latin typeface="Arial Unicode MS"/>
              </a:rPr>
              <a:t>(matrimonios o célibe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f642d"/>
                </a:solidFill>
                <a:latin typeface="Arial Unicode MS"/>
              </a:rPr>
              <a:t>(Hoy)  </a:t>
            </a:r>
            <a:r>
              <a:rPr b="1" lang="es-ES" sz="3400" spc="-1" strike="noStrike">
                <a:solidFill>
                  <a:srgbClr val="ffce33"/>
                </a:solidFill>
                <a:latin typeface="Arial Unicode MS"/>
              </a:rPr>
              <a:t>Al final del Sermón, Jesús dice que ser servidores del Reino (la iglesia), no es un negocio, sino un esperarlo todo de la gratuidad de Dio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4356000" y="5661000"/>
            <a:ext cx="4527720" cy="1068840"/>
          </a:xfrm>
          <a:prstGeom prst="rect">
            <a:avLst/>
          </a:prstGeom>
          <a:solidFill>
            <a:srgbClr val="00000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f642d"/>
                </a:solidFill>
                <a:latin typeface="Arial Unicode MS"/>
              </a:rPr>
              <a:t>Transjordania donde Jesús acaba el Serm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6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6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10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6" descr=""/>
          <p:cNvPicPr/>
          <p:nvPr/>
        </p:nvPicPr>
        <p:blipFill>
          <a:blip r:embed="rId1"/>
          <a:stretch/>
        </p:blipFill>
        <p:spPr>
          <a:xfrm>
            <a:off x="-3998880" y="0"/>
            <a:ext cx="17143560" cy="68644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395280" y="5661000"/>
            <a:ext cx="5545080" cy="1007640"/>
          </a:xfrm>
          <a:prstGeom prst="rect">
            <a:avLst/>
          </a:prstGeom>
          <a:solidFill>
            <a:srgbClr val="00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c000"/>
                </a:solidFill>
                <a:latin typeface="Arial Unicode MS"/>
              </a:rPr>
              <a:t>La iglesia es llamada a vivir la GENEROSIDAD de Di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1403280" y="73080"/>
            <a:ext cx="7345440" cy="1007640"/>
          </a:xfrm>
          <a:prstGeom prst="rect">
            <a:avLst/>
          </a:prstGeom>
          <a:solidFill>
            <a:srgbClr val="333333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 Unicode MS"/>
              </a:rPr>
              <a:t>Transjordania, de camino hacia Jerusalé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5677 -0.00046 L 0.57483 -0.00046 E">
                                      <p:cBhvr>
                                        <p:cTn id="47" dur="15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5"/>
          <p:cNvSpPr/>
          <p:nvPr/>
        </p:nvSpPr>
        <p:spPr>
          <a:xfrm>
            <a:off x="322200" y="260280"/>
            <a:ext cx="8497800" cy="695196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t 20,1-16 En aquel tiempo, dijo Jesús a sus discípulos esta parábola: "El reino de los cielos se parece a un propietario que al amanecer salió a contratar jornaleros para su viña. Después de ajustarse con ellos en un denario por jornada, los mandó a la viña.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10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29" descr="0Autum1"/>
          <p:cNvPicPr/>
          <p:nvPr/>
        </p:nvPicPr>
        <p:blipFill>
          <a:blip r:embed="rId1"/>
          <a:stretch/>
        </p:blipFill>
        <p:spPr>
          <a:xfrm>
            <a:off x="1187280" y="739800"/>
            <a:ext cx="7956720" cy="59673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2"/>
          <p:cNvSpPr/>
          <p:nvPr/>
        </p:nvSpPr>
        <p:spPr>
          <a:xfrm>
            <a:off x="2700360" y="173160"/>
            <a:ext cx="6227640" cy="125244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Arial"/>
              </a:rPr>
              <a:t>Todos sois llamados a la tarea de mejorar el mundo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166680" y="147600"/>
            <a:ext cx="2533680" cy="375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¿No veis que la viña está muy desorde-nada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584280" y="260280"/>
            <a:ext cx="7993080" cy="695196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alió otra vez a media mañana, vio a otros que estaban en la plaza sin trabajo, y les dijo: "Id también vosotros a mi viña, y os pagaré lo debido." Ellos fueron. Salió de nuevo hacia mediodía y a media tarde e hizo lo mismo.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6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ttp://youtu.be/YEbs9o3Ft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"/>
          <p:cNvSpPr/>
          <p:nvPr/>
        </p:nvSpPr>
        <p:spPr>
          <a:xfrm>
            <a:off x="108000" y="115920"/>
            <a:ext cx="7777080" cy="192240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No perdáis el tiempo en la plaza,  falta mano de obra generosa. También a ti te llam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33" descr="el_vinedo5g"/>
          <p:cNvPicPr/>
          <p:nvPr/>
        </p:nvPicPr>
        <p:blipFill>
          <a:blip r:embed="rId1"/>
          <a:stretch/>
        </p:blipFill>
        <p:spPr>
          <a:xfrm>
            <a:off x="3390840" y="2193840"/>
            <a:ext cx="5672160" cy="4359240"/>
          </a:xfrm>
          <a:prstGeom prst="rect">
            <a:avLst/>
          </a:prstGeom>
          <a:ln w="0">
            <a:noFill/>
          </a:ln>
        </p:spPr>
      </p:pic>
      <p:sp>
        <p:nvSpPr>
          <p:cNvPr id="71" name="2 Rectángulo"/>
          <p:cNvSpPr/>
          <p:nvPr/>
        </p:nvSpPr>
        <p:spPr>
          <a:xfrm>
            <a:off x="34920" y="6165720"/>
            <a:ext cx="5149800" cy="621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youtu.be/YEbs9o3FtCA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s-ES" sz="3000" spc="-1" strike="noStrike">
                <a:solidFill>
                  <a:srgbClr val="ffffff"/>
                </a:solidFill>
                <a:latin typeface="Arial Rounded MT Bold"/>
              </a:rPr>
              <a:t>cli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08000" y="2133720"/>
            <a:ext cx="3456000" cy="321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Arial"/>
              </a:rPr>
              <a:t>Según el Banco  Mundial, para combatir la crisis, se necesitan ayudas públicas y privada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¿Y tu, qué hac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0"/>
          <p:cNvSpPr/>
          <p:nvPr/>
        </p:nvSpPr>
        <p:spPr>
          <a:xfrm>
            <a:off x="684360" y="333360"/>
            <a:ext cx="7848360" cy="7405560"/>
          </a:xfrm>
          <a:prstGeom prst="rect">
            <a:avLst/>
          </a:prstGeom>
          <a:solidFill>
            <a:srgbClr val="3333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alió al caer la tarde y encontró a otros, parados, y les dijo: "¿Cómo es que estáis aquí el día entero sin trabajar?" Le respondieron: "Nadie nos ha contratado." Él les dijo: "Id también vosotros a mi viña."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3" descr=""/>
          <p:cNvPicPr/>
          <p:nvPr/>
        </p:nvPicPr>
        <p:blipFill>
          <a:blip r:embed="rId1"/>
          <a:stretch/>
        </p:blipFill>
        <p:spPr>
          <a:xfrm>
            <a:off x="-6480" y="-1440"/>
            <a:ext cx="9156960" cy="6870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0" descr="resized_raimvespretw"/>
          <p:cNvPicPr/>
          <p:nvPr/>
        </p:nvPicPr>
        <p:blipFill>
          <a:blip r:embed="rId2"/>
          <a:stretch/>
        </p:blipFill>
        <p:spPr>
          <a:xfrm>
            <a:off x="1512720" y="765000"/>
            <a:ext cx="7452000" cy="59756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"/>
          <p:cNvSpPr/>
          <p:nvPr/>
        </p:nvSpPr>
        <p:spPr>
          <a:xfrm>
            <a:off x="2484360" y="160200"/>
            <a:ext cx="6551640" cy="131292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No importa que sea tarde, o te falten fuerzas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111240" y="206280"/>
            <a:ext cx="2307960" cy="25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¡Mójate! La viña es de tod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30" descr="resized_raimvespretw"/>
          <p:cNvPicPr/>
          <p:nvPr/>
        </p:nvPicPr>
        <p:blipFill>
          <a:blip r:embed="rId3"/>
          <a:stretch/>
        </p:blipFill>
        <p:spPr>
          <a:xfrm>
            <a:off x="0" y="0"/>
            <a:ext cx="9118440" cy="68706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11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0T22:24:07Z</dcterms:created>
  <dc:creator>Regina</dc:creator>
  <dc:description/>
  <dc:language>en-US</dc:language>
  <cp:lastModifiedBy>Paco</cp:lastModifiedBy>
  <dcterms:modified xsi:type="dcterms:W3CDTF">2011-09-08T22:25:20Z</dcterms:modified>
  <cp:revision>644</cp:revision>
  <dc:subject/>
  <dc:title>evangeli</dc:title>
</cp:coreProperties>
</file>