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MisericordiaRecordow.wav" ContentType="audio/x-wav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7033-D8C5-43F2-9AC6-EF5B8B195D6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1F19-A354-4960-A554-335177B64476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47F1-19C0-40CB-8BE2-EBA499EFACA8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394-D8A9-4169-990D-50F2B3A857E3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A7E9-6292-4644-B557-E12012F9EB21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125E-1A1A-42E7-9A0A-58ECC2A33EF6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5782-969E-4A39-97B6-CC3F911C4651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73A7-B6DF-42AC-8784-EF27FD0773E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092D-87D6-4773-A184-4407C483CBAE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56E0-35AC-4554-B4AC-ED0458E1A96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862F-2EEB-49FD-A925-AD3865BF4D2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DB63-1F53-463C-BA21-76345C21A3EC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B426-2623-42E6-90B9-43C03881C987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3F6C-3A1E-489E-99E9-3E6E86B0D233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D0C4-0E19-48E0-A429-CB24C3BC0FEC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9672-000B-44CE-9064-0799CFBD10FF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FC2C-08E9-4ACE-95F0-2ABA5FBB22F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29A1-1993-41E2-BB96-9DB7F6690FAB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AA31-148B-4E1C-B607-D790A68534A1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7D94-ABEA-43DF-A5EA-4C3ACDDF0D28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6CC-30FF-4D0A-803F-9DDEFD90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1CA-15B9-4333-9129-170BFF30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428-29E8-43E8-8816-AEF72CB0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A4B-DA7D-4F6C-8EB8-00C6C8BA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471-E4E9-4678-9247-78C09243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D08-790F-4B76-A2F7-5963B1AC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F70-E748-493A-AFE1-8F70470F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673-53AF-458C-9C98-B89C104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24D-94FC-4E0B-856E-AE59E433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42E-C52E-4B51-8D24-9A7F583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4A1-66DD-4C86-9BE9-31A53C23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B38-F132-4C3B-BFD6-A63E89D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A8F4-91B8-48EA-87B3-5BDF3F04A14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isericordiaRecord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youtu.be/YEbs9o3FtC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42960" y="4581360"/>
            <a:ext cx="4755960" cy="13737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ntamos la grandeza de “Las misericordias del Señor” (T. Ll. De Vict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699120" y="270828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25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7 Imagen" descr="Emaustttcc.jpg"/>
          <p:cNvPicPr/>
          <p:nvPr/>
        </p:nvPicPr>
        <p:blipFill>
          <a:blip r:embed="rId1"/>
          <a:stretch/>
        </p:blipFill>
        <p:spPr>
          <a:xfrm>
            <a:off x="6108840" y="1052640"/>
            <a:ext cx="24397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52" name="8 Grupo"/>
          <p:cNvGrpSpPr/>
          <p:nvPr/>
        </p:nvGrpSpPr>
        <p:grpSpPr>
          <a:xfrm>
            <a:off x="395280" y="357120"/>
            <a:ext cx="5032440" cy="1940040"/>
            <a:chOff x="395280" y="357120"/>
            <a:chExt cx="5032440" cy="1940040"/>
          </a:xfrm>
        </p:grpSpPr>
        <p:sp>
          <p:nvSpPr>
            <p:cNvPr id="53" name="7 Rectángulo"/>
            <p:cNvSpPr/>
            <p:nvPr/>
          </p:nvSpPr>
          <p:spPr>
            <a:xfrm>
              <a:off x="42696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WordArt 87"/>
            <p:cNvSpPr txBox="1"/>
            <p:nvPr/>
          </p:nvSpPr>
          <p:spPr>
            <a:xfrm>
              <a:off x="3952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5" name="14 CuadroTexto"/>
          <p:cNvSpPr/>
          <p:nvPr/>
        </p:nvSpPr>
        <p:spPr>
          <a:xfrm>
            <a:off x="6143760" y="614376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MisericordiaRecord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"/>
          <p:cNvSpPr/>
          <p:nvPr/>
        </p:nvSpPr>
        <p:spPr>
          <a:xfrm>
            <a:off x="468360" y="620640"/>
            <a:ext cx="8280360" cy="6126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oscureció, el dueño de la viña dijo al capataz: "Llama a los jornaleros y págales el jornal, empezando por los últimos y acabando por los primeros." Vinieron los del atardecer y recibieron un denario cada un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1 Imagen" descr=""/>
          <p:cNvPicPr/>
          <p:nvPr/>
        </p:nvPicPr>
        <p:blipFill>
          <a:blip r:embed="rId1"/>
          <a:stretch/>
        </p:blipFill>
        <p:spPr>
          <a:xfrm>
            <a:off x="-9360" y="93348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108000" y="115920"/>
            <a:ext cx="770400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trabajéis por el sueldo, el mismo trabajo os dignif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0" y="4827600"/>
            <a:ext cx="44067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jornal entero es vivir el gozo de serv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357120" y="476280"/>
            <a:ext cx="8391600" cy="618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llegaron los primeros, pensaban que recibirían más, pero ellos también recibieron un denario cada uno. Entonces se pusieron a protestar contra el amo: "Estos últimos han trabajado sólo una hora, y los has tratado igual que a nosotros, que hemos aguantado el peso del día y el bochorno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142920" y="160200"/>
            <a:ext cx="329400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 amor, el peso del día es lig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56000" y="5373720"/>
            <a:ext cx="6400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¿No somos llamados a servir  con alegría? </a:t>
            </a: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(Sal 99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20 Imagen" descr=""/>
          <p:cNvPicPr/>
          <p:nvPr/>
        </p:nvPicPr>
        <p:blipFill>
          <a:blip r:embed="rId2"/>
          <a:stretch/>
        </p:blipFill>
        <p:spPr>
          <a:xfrm>
            <a:off x="4950000" y="3029040"/>
            <a:ext cx="347400" cy="415800"/>
          </a:xfrm>
          <a:prstGeom prst="rect">
            <a:avLst/>
          </a:prstGeom>
          <a:ln w="0">
            <a:noFill/>
          </a:ln>
        </p:spPr>
      </p:pic>
      <p:pic>
        <p:nvPicPr>
          <p:cNvPr id="90" name="22 Imagen" descr=""/>
          <p:cNvPicPr/>
          <p:nvPr/>
        </p:nvPicPr>
        <p:blipFill>
          <a:blip r:embed="rId3"/>
          <a:stretch/>
        </p:blipFill>
        <p:spPr>
          <a:xfrm>
            <a:off x="5121360" y="4017960"/>
            <a:ext cx="395280" cy="345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357120" y="404640"/>
            <a:ext cx="8391600" cy="618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replicó a uno de ellos: "Amigo, no te hago ninguna injusticia. ¿No nos ajustamos en un denario? Toma lo tuyo y vete. Quiero darle a este último igual que a ti. ¿Es que no tengo libertad para hacer lo que quiera en mis asuntos? ¿O vas a tener tú envidia por que yo soy bueno?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Rectángulo"/>
          <p:cNvSpPr/>
          <p:nvPr/>
        </p:nvSpPr>
        <p:spPr>
          <a:xfrm>
            <a:off x="0" y="-3024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95280" y="2419200"/>
            <a:ext cx="4248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Él quiere darnos a TODOS un fruto mucho mejor de lo que merec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63520" y="189000"/>
            <a:ext cx="446400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Entendemos la GRATUIDAD de un Dios BUEN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 Imagen" descr=""/>
          <p:cNvPicPr/>
          <p:nvPr/>
        </p:nvPicPr>
        <p:blipFill>
          <a:blip r:embed="rId1"/>
          <a:stretch/>
        </p:blipFill>
        <p:spPr>
          <a:xfrm>
            <a:off x="4932360" y="0"/>
            <a:ext cx="3527280" cy="6916680"/>
          </a:xfrm>
          <a:prstGeom prst="rect">
            <a:avLst/>
          </a:prstGeom>
          <a:ln w="0">
            <a:noFill/>
          </a:ln>
        </p:spPr>
      </p:pic>
      <p:sp>
        <p:nvSpPr>
          <p:cNvPr id="96" name="1 CuadroTexto"/>
          <p:cNvSpPr/>
          <p:nvPr/>
        </p:nvSpPr>
        <p:spPr>
          <a:xfrm>
            <a:off x="263520" y="6237360"/>
            <a:ext cx="182412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No cl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4 Grupo"/>
          <p:cNvGrpSpPr/>
          <p:nvPr/>
        </p:nvGrpSpPr>
        <p:grpSpPr>
          <a:xfrm>
            <a:off x="4933800" y="-30240"/>
            <a:ext cx="3527640" cy="6918480"/>
            <a:chOff x="4933800" y="-30240"/>
            <a:chExt cx="3527640" cy="6918480"/>
          </a:xfrm>
        </p:grpSpPr>
        <p:pic>
          <p:nvPicPr>
            <p:cNvPr id="98" name="1 Imagen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4933800" y="-30240"/>
              <a:ext cx="352764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3 Rectángulo"/>
            <p:cNvSpPr/>
            <p:nvPr/>
          </p:nvSpPr>
          <p:spPr>
            <a:xfrm>
              <a:off x="6696720" y="-30240"/>
              <a:ext cx="288000" cy="1269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9 Rectángulo"/>
            <p:cNvSpPr/>
            <p:nvPr/>
          </p:nvSpPr>
          <p:spPr>
            <a:xfrm>
              <a:off x="6740640" y="5589720"/>
              <a:ext cx="288000" cy="1269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10 Rectángulo"/>
            <p:cNvSpPr/>
            <p:nvPr/>
          </p:nvSpPr>
          <p:spPr>
            <a:xfrm>
              <a:off x="4933800" y="2847600"/>
              <a:ext cx="862920" cy="25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11 Rectángulo"/>
            <p:cNvSpPr/>
            <p:nvPr/>
          </p:nvSpPr>
          <p:spPr>
            <a:xfrm>
              <a:off x="8282160" y="2825640"/>
              <a:ext cx="179280" cy="273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6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6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"/>
          <p:cNvSpPr/>
          <p:nvPr/>
        </p:nvSpPr>
        <p:spPr>
          <a:xfrm>
            <a:off x="1052640" y="620640"/>
            <a:ext cx="662436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sí, los últimos serán los primeros y los primeros los últimos."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481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356000" y="3933720"/>
            <a:ext cx="46227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a Él, los últimos, con el Hijo, son también prime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356000" y="333360"/>
            <a:ext cx="4645080" cy="3569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Dios es el DUEÑO de la Viña. ¿Quién le puede pedir cuentas, si su propia viña no la ha guardado?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(Ct 1,6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39640" y="333360"/>
            <a:ext cx="8136000" cy="612000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262160" y="958680"/>
            <a:ext cx="6769080" cy="48945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Señor, concédenos la alegría de vivir sumergidos en la GENEROSIDAD del Padre, conscientes que será inmensa la recompens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4 Grupo"/>
          <p:cNvGrpSpPr/>
          <p:nvPr/>
        </p:nvGrpSpPr>
        <p:grpSpPr>
          <a:xfrm>
            <a:off x="357120" y="189000"/>
            <a:ext cx="8286840" cy="1800000"/>
            <a:chOff x="357120" y="189000"/>
            <a:chExt cx="8286840" cy="1800000"/>
          </a:xfrm>
        </p:grpSpPr>
        <p:sp>
          <p:nvSpPr>
            <p:cNvPr id="112" name="Rectangle 5"/>
            <p:cNvSpPr/>
            <p:nvPr/>
          </p:nvSpPr>
          <p:spPr>
            <a:xfrm>
              <a:off x="357120" y="189000"/>
              <a:ext cx="8286840" cy="18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"/>
            <p:cNvSpPr/>
            <p:nvPr/>
          </p:nvSpPr>
          <p:spPr>
            <a:xfrm>
              <a:off x="571320" y="44820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714240" y="790200"/>
              <a:ext cx="827280" cy="66528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274680" y="244440"/>
            <a:ext cx="8609040" cy="7575480"/>
          </a:xfrm>
          <a:prstGeom prst="rect">
            <a:avLst/>
          </a:prstGeom>
          <a:solidFill>
            <a:srgbClr val="333333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e2af64"/>
                </a:solidFill>
                <a:latin typeface="Arial Unicode MS"/>
              </a:rPr>
              <a:t> </a:t>
            </a:r>
            <a:r>
              <a:rPr b="1" lang="es-ES" sz="4500" spc="-1" strike="noStrike">
                <a:solidFill>
                  <a:srgbClr val="e2af64"/>
                </a:solidFill>
                <a:latin typeface="Arial Unicode MS"/>
              </a:rPr>
              <a:t>4a Parte del evangelio de Mt:</a:t>
            </a:r>
            <a:br>
              <a:rPr sz="4500"/>
            </a:br>
            <a:r>
              <a:rPr b="1" i="1" lang="es-ES" sz="4500" spc="-1" strike="noStrike">
                <a:solidFill>
                  <a:srgbClr val="eed09a"/>
                </a:solidFill>
                <a:latin typeface="Arial Unicode MS"/>
              </a:rPr>
              <a:t>“Tener el corazón cerca de Dios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000"/>
                </a:solidFill>
                <a:latin typeface="Arial Unicode MS"/>
              </a:rPr>
              <a:t>Sermón sobre la iglesia: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-En Cafarnaún: nuevos valores eclesiales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-En Transjordánia: cada uno según el propio estado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(matrimonios o célib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f642d"/>
                </a:solidFill>
                <a:latin typeface="Arial Unicode MS"/>
              </a:rPr>
              <a:t>(Hoy)  </a:t>
            </a:r>
            <a:r>
              <a:rPr b="1" lang="es-ES" sz="3400" spc="-1" strike="noStrike">
                <a:solidFill>
                  <a:srgbClr val="ffce33"/>
                </a:solidFill>
                <a:latin typeface="Arial Unicode MS"/>
              </a:rPr>
              <a:t>Al final del Sermón, Jesús dice que ser servidores del Reino (la iglesia), no es un negocio, sino un esperarlo todo de la gratuidad de D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356000" y="5661000"/>
            <a:ext cx="4527720" cy="106884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f642d"/>
                </a:solidFill>
                <a:latin typeface="Arial Unicode MS"/>
              </a:rPr>
              <a:t>Transjordania donde Jesús acaba el Serm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6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6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-3998880" y="0"/>
            <a:ext cx="17143560" cy="6864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95280" y="5661000"/>
            <a:ext cx="5545080" cy="10076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000"/>
                </a:solidFill>
                <a:latin typeface="Arial Unicode MS"/>
              </a:rPr>
              <a:t>La iglesia es llamada a vivir la GENEROSIDAD de D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403280" y="73080"/>
            <a:ext cx="7345440" cy="1007640"/>
          </a:xfrm>
          <a:prstGeom prst="rect">
            <a:avLst/>
          </a:prstGeom>
          <a:solidFill>
            <a:srgbClr val="33333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Transjordania, de camino hacia Jerusa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677 -0.00046 L 0.57483 -0.00046 E">
                                      <p:cBhvr>
                                        <p:cTn id="47" dur="1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2200" y="260280"/>
            <a:ext cx="8497800" cy="69519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0,1-16 En aquel tiempo, dijo Jesús a sus discípulos esta parábola: "El reino de los cielos se parece a un propietario que al amanecer salió a contratar jornaleros para su viña. Después de ajustarse con ellos en un denario por jornada, los mandó a la viña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9" descr="0Autum1"/>
          <p:cNvPicPr/>
          <p:nvPr/>
        </p:nvPicPr>
        <p:blipFill>
          <a:blip r:embed="rId1"/>
          <a:stretch/>
        </p:blipFill>
        <p:spPr>
          <a:xfrm>
            <a:off x="1187280" y="739800"/>
            <a:ext cx="7956720" cy="5967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2700360" y="173160"/>
            <a:ext cx="6227640" cy="1252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Todos sois llamados a la tarea de mejorar el mun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66680" y="147600"/>
            <a:ext cx="253368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o veis que la viña está muy desorde-nad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84280" y="260280"/>
            <a:ext cx="7993080" cy="69519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alió otra vez a media mañana, vio a otros que estaban en la plaza sin trabajo, y les dijo: "Id también vosotros a mi viña, y os pagaré lo debido." Ellos fueron. Salió de nuevo hacia mediodía y a media tarde e hizo lo mismo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youtu.be/YEbs9o3Ft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08000" y="115920"/>
            <a:ext cx="777708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perdáis el tiempo en la plaza,  falta mano de obra generosa. También a ti te lla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3" descr="el_vinedo5g"/>
          <p:cNvPicPr/>
          <p:nvPr/>
        </p:nvPicPr>
        <p:blipFill>
          <a:blip r:embed="rId1"/>
          <a:stretch/>
        </p:blipFill>
        <p:spPr>
          <a:xfrm>
            <a:off x="3390840" y="2193840"/>
            <a:ext cx="5672160" cy="4359240"/>
          </a:xfrm>
          <a:prstGeom prst="rect">
            <a:avLst/>
          </a:prstGeom>
          <a:ln w="0">
            <a:noFill/>
          </a:ln>
        </p:spPr>
      </p:pic>
      <p:sp>
        <p:nvSpPr>
          <p:cNvPr id="71" name="2 Rectángulo"/>
          <p:cNvSpPr/>
          <p:nvPr/>
        </p:nvSpPr>
        <p:spPr>
          <a:xfrm>
            <a:off x="34920" y="6165720"/>
            <a:ext cx="5149800" cy="62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youtu.be/YEbs9o3FtC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" sz="3000" spc="-1" strike="noStrike">
                <a:solidFill>
                  <a:srgbClr val="ffffff"/>
                </a:solidFill>
                <a:latin typeface="Arial Rounded MT Bold"/>
              </a:rPr>
              <a:t>cl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8000" y="2133720"/>
            <a:ext cx="3456000" cy="32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Según el Banco  Mundial, para combatir la crisis, se necesitan ayudas públicas y priva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Y tu, qué hac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684360" y="333360"/>
            <a:ext cx="7848360" cy="7405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alió al caer la tarde y encontró a otros, parados, y les dijo: "¿Cómo es que estáis aquí el día entero sin trabajar?" Le respondieron: "Nadie nos ha contratado." Él les dijo: "Id también vosotros a mi viña."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0" descr="resized_raimvespretw"/>
          <p:cNvPicPr/>
          <p:nvPr/>
        </p:nvPicPr>
        <p:blipFill>
          <a:blip r:embed="rId2"/>
          <a:stretch/>
        </p:blipFill>
        <p:spPr>
          <a:xfrm>
            <a:off x="1512720" y="765000"/>
            <a:ext cx="7452000" cy="5975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2484360" y="160200"/>
            <a:ext cx="655164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importa que sea tarde, o te falten fuerza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1240" y="206280"/>
            <a:ext cx="23079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¡Mójate! La viña es de to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0" descr="resized_raimvespretw"/>
          <p:cNvPicPr/>
          <p:nvPr/>
        </p:nvPicPr>
        <p:blipFill>
          <a:blip r:embed="rId3"/>
          <a:stretch/>
        </p:blipFill>
        <p:spPr>
          <a:xfrm>
            <a:off x="0" y="0"/>
            <a:ext cx="911844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Paco</cp:lastModifiedBy>
  <dcterms:modified xsi:type="dcterms:W3CDTF">2011-09-08T22:25:20Z</dcterms:modified>
  <cp:revision>644</cp:revision>
  <dc:subject/>
  <dc:title>evangeli</dc:title>
</cp:coreProperties>
</file>