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OHANNSTRAUSS-CUENTOSDELOSBOSQUESDEVIENA+++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304-65B3-4ED0-AF88-749168EE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E1A-ED0F-4299-A16E-6229183B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3F0-CC68-4A87-A2B0-D6BFAB21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832-D656-43E9-8B38-F5A1656B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805-C450-4037-AA8B-E3E3F4EE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7A7-A799-4F6B-869F-78D67E6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7B6-CB5B-487D-BBAB-0EA15E08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534-66BA-4175-9BF7-166B50EE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A79-FF55-4940-9645-1649C029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1FC-9F9F-4F3D-B659-C40CC0F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7DB-9023-499B-B14A-E67F92B2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011-8724-4C33-8413-3FE48D4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741F-E33B-422C-9A5E-31CF2E5F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JOHANNSTRAUSS-CUENTOSDELOSBOSQUESDEVIENA+++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81320" y="0"/>
            <a:ext cx="5062680" cy="8253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06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3500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onde escondieron la felic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17080" cy="6929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476280"/>
            <a:ext cx="424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Un poco antes de que la humanidad existiera, se reunieron varios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duendes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ara hacer una travesura. Uno de ellos dijo: "Debemos quitarles algo,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ero, ¿Qué les quitamos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781360"/>
            <a:ext cx="288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espués de mucho pensar uno dijo: "¡Ya sé!, vamos a quitarles la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felicidad, pero el problema va a ser dónde esconderla para que no la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uedan encontr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403360"/>
            <a:ext cx="9137520" cy="1077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0"/>
            <a:ext cx="230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ropuso el primero: "Vamos a esconderla en la cima del monte más alto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del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mundo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421000"/>
            <a:ext cx="244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A lo que inmediatamente repuso otro: "No recuerda que tienen fuerza,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algun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vez alguien puede subir y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ncontrarla, y si la encuentra uno, ya todos sabrán donde está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864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765000"/>
            <a:ext cx="403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Luego propuso otro: "Entonces vamos a esconderla en el fondo del mar".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Y otro contestó: "No, recuerda que tienen curiosidad, alguna vez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alguien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construirá algún aparato para poder bajar y entonces la encontrará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645000"/>
            <a:ext cx="424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Uno más dijo: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scondámosla en un planeta lejano a la tierra".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Y le dijeron: "No recuerda que tienen inteligencia, y un día alguien v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construir una nave en la que pueda viajar a otros planetas y la va 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descubrir, y entonces todos tendrán felic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133720"/>
            <a:ext cx="388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l último de ellos era un duende que había permanecido en silencio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scuchando atentamente cada una de las propuestas de los demás duendes.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Analizó cada una de ellas y entonces dijo: "Creo saber dónde ponerl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par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que realmente nunca la encuentren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2565360"/>
            <a:ext cx="575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Todos voltearon asombrados y preguntaron al unísono: "¿Dónde?"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l duende respondió: "La esconderemos dentro de ellos mismos, así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starán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tan ocupados buscándola fuera, que nunca la encontrar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96360" cy="936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8920" y="836640"/>
            <a:ext cx="662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odos estuvieron de acuerdo y desde entonces ha sido así: el hombre se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asa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la vida buscando la felicidad sin saber que la trae consi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1:36:04Z</dcterms:created>
  <dc:creator>luna</dc:creator>
  <dc:description/>
  <dc:language>en-US</dc:language>
  <cp:lastModifiedBy>RJR</cp:lastModifiedBy>
  <dcterms:modified xsi:type="dcterms:W3CDTF">2010-05-11T00:37:50Z</dcterms:modified>
  <cp:revision>6</cp:revision>
  <dc:subject/>
  <dc:title>Presentación de PowerPoint</dc:title>
</cp:coreProperties>
</file>