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JOHANNSTRAUSS-CUENTOSDELOSBOSQUESDEVIENA+++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BFD3-37F2-418B-8263-94346DEF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DCDB-8718-4C76-804C-F0188CCD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F2B9-C099-471C-AA2F-F917C8ED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325B-8A30-4167-A889-A8842D16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E6E-7BC8-4EC0-88D2-E426D10F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06FE-9820-46FB-AE87-CB0C28F9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0B03-67FD-46A1-9B20-D39FD4D2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3BDB-8695-48BD-9967-AEEA8E38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F99B-A68B-437A-80E4-EF3A3E0E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6B7-8ACE-4320-915A-12E541E6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7CE-ADF9-4B3B-B789-4C60181C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9410-81FE-4407-88FE-C1D98218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F5EF-F301-4A23-A560-258BCF957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JOHANNSTRAUSS-CUENTOSDELOSBOSQUESDEVIENA+++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81320" y="0"/>
            <a:ext cx="5062680" cy="8253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069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350028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Donde escondieron la felic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17080" cy="6929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4000" y="476280"/>
            <a:ext cx="4248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Un poco antes de que la humanidad existiera, se reunieron varios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 duendes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para hacer una travesura. Uno de ellos dijo: "Debemos quitarles algo,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pero, ¿Qué les quitamos?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2781360"/>
            <a:ext cx="288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Después de mucho pensar uno dijo: "¡Ya sé!, vamos a quitarles la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felicidad, pero el problema va a ser dónde esconderla para que no la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puedan encontr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2403360"/>
            <a:ext cx="9137520" cy="10774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0"/>
            <a:ext cx="2303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Propuso el primero: "Vamos a esconderla en la cima del monte más alto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 del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mundo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2421000"/>
            <a:ext cx="2448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A lo que inmediatamente repuso otro: "No recuerda que tienen fuerza,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 alguna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vez alguien puede subir y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encontrarla, y si la encuentra uno, ya todos sabrán donde está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indefinite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72720" cy="6864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765000"/>
            <a:ext cx="4032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Luego propuso otro: "Entonces vamos a esconderla en el fondo del mar".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Y otro contestó: "No, recuerda que tienen curiosidad, alguna vez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 alguien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construirá algún aparato para poder bajar y entonces la encontrará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3645000"/>
            <a:ext cx="4248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Uno más dijo: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Escondámosla en un planeta lejano a la tierra".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Y le dijeron: "No recuerda que tienen inteligencia, y un día alguien va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 a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construir una nave en la que pueda viajar a otros planetas y la va a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descubrir, y entonces todos tendrán felic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0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2133720"/>
            <a:ext cx="3887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El último de ellos era un duende que había permanecido en silencio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escuchando atentamente cada una de las propuestas de los demás duendes.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Analizó cada una de ellas y entonces dijo: "Creo saber dónde ponerla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 para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que realmente nunca la encuentren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92360" y="2565360"/>
            <a:ext cx="5759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Todos voltearon asombrados y preguntaron al unísono: "¿Dónde?"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El duende respondió: "La esconderemos dentro de ellos mismos, así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estarán</a:t>
            </a:r>
            <a:br>
              <a:rPr sz="2000"/>
            </a:br>
            <a:r>
              <a:rPr b="1" i="1" lang="es-ES" sz="2000" spc="-1" strike="noStrike">
                <a:solidFill>
                  <a:srgbClr val="ffff00"/>
                </a:solidFill>
                <a:latin typeface="Times New Roman"/>
              </a:rPr>
              <a:t>tan ocupados buscándola fuera, que nunca la encontrará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96360" cy="9363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58920" y="836640"/>
            <a:ext cx="662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odos estuvieron de acuerdo y desde entonces ha sido así: el hombre se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pasa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la vida buscando la felicidad sin saber que la trae consig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indefinite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1:36:04Z</dcterms:created>
  <dc:creator>luna</dc:creator>
  <dc:description/>
  <dc:language>en-US</dc:language>
  <cp:lastModifiedBy>RJR</cp:lastModifiedBy>
  <dcterms:modified xsi:type="dcterms:W3CDTF">2010-05-11T00:37:50Z</dcterms:modified>
  <cp:revision>6</cp:revision>
  <dc:subject/>
  <dc:title>Presentación de PowerPoint</dc:title>
</cp:coreProperties>
</file>