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75E2-6C61-4AD5-9DE2-F08658622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8140-261D-4D84-87A8-79E1DD87C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5CAA-8328-432C-8193-033777315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CE3D-D074-4115-B329-59AE105FE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80CE-D605-48B2-A012-25011F172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D129-4156-4199-AE19-30248DC5F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E959-38DB-4CB9-8F01-7B8931AF4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3736-1829-469A-B15C-8CFEDA4C9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F844-49AF-4D83-9796-A1D414E8A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016D-53B2-41CC-B0D3-678F95156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8089-BB00-4115-A42A-32C565BA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E1CE-647B-46E8-AE46-3639C622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B5274-B2EB-44AF-A5EC-288F1EA96140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3 Imagen" descr="piano 0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enrique chia-piano cd2 - la musica de e lecuona - muñeca de383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3 Marcador de contenido" descr="piano 0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3 Marcador de contenido" descr="piano 0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3 Marcador de contenido" descr="piano 004.jpg"/>
          <p:cNvPicPr/>
          <p:nvPr/>
        </p:nvPicPr>
        <p:blipFill>
          <a:blip r:embed="rId1"/>
          <a:stretch/>
        </p:blipFill>
        <p:spPr>
          <a:xfrm>
            <a:off x="1785960" y="0"/>
            <a:ext cx="54291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8T20:50:46Z</dcterms:created>
  <dc:creator>MARIPILI</dc:creator>
  <dc:description/>
  <dc:language>en-US</dc:language>
  <cp:lastModifiedBy>MARIPILI</cp:lastModifiedBy>
  <dcterms:modified xsi:type="dcterms:W3CDTF">2010-04-08T20:55:33Z</dcterms:modified>
  <cp:revision>1</cp:revision>
  <dc:subject/>
  <dc:title>Diapositiva 1</dc:title>
</cp:coreProperties>
</file>