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AB6-F813-46F5-9C7E-EF5EE1EF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A8C-5711-4ADC-8427-664DCDBA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B43-FD2F-44F6-B3F0-1D94F5DA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41C-045B-438C-9EB3-220DFE2F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EFE-95E8-426C-B4FE-805CE048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BBB-F8B0-4A81-B9E1-2295DB22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1F1-6BD5-4668-BC22-F84AAF40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ADC-0E3C-4D99-9128-A5C93AC6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F24-7F9E-4B1B-A843-13A4B7CA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939-633A-49FA-A6CE-DC7FD5EC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E0D-76F0-45F8-9F32-84D0EDAC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F19-B239-406E-A44D-C8D3F982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C546-58EC-40D3-9324-786FB3BF1D7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piano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enrique chia-piano cd2 - la musica de e lecuona - muñeca de38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piano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piano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piano 004.jpg"/>
          <p:cNvPicPr/>
          <p:nvPr/>
        </p:nvPicPr>
        <p:blipFill>
          <a:blip r:embed="rId1"/>
          <a:stretch/>
        </p:blipFill>
        <p:spPr>
          <a:xfrm>
            <a:off x="17859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0:50:46Z</dcterms:created>
  <dc:creator>MARIPILI</dc:creator>
  <dc:description/>
  <dc:language>en-US</dc:language>
  <cp:lastModifiedBy>MARIPILI</cp:lastModifiedBy>
  <dcterms:modified xsi:type="dcterms:W3CDTF">2010-04-08T20:55:33Z</dcterms:modified>
  <cp:revision>1</cp:revision>
  <dc:subject/>
  <dc:title>Diapositiva 1</dc:title>
</cp:coreProperties>
</file>