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sound%20jejeje.wav" ContentType="audio/x-wav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CA4A-33A2-4741-A8B3-0856EE68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58FD-BBB8-4193-9B80-25AB1959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AA19-E827-4878-AEB2-4F3436C1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3106-5DFD-4FD0-9C7D-67C32D82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D58-7526-4A37-AF14-209D2908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773-9617-4BD7-9AA1-290564BD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C4B9-F420-40F9-81A1-7B40F1BC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C46-E449-488A-88A8-2856C24F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0D7-9417-41FA-8F25-4F1B3557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2B0-EC63-4013-890F-0ED59842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62FA-3498-4883-9E23-2FACD3FD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3E6-E5AF-404B-90B9-8316A75F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F0AE-CB8A-40F5-BA3E-90EA1C728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sound%20jejej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5440" y="1773360"/>
            <a:ext cx="2465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DÍA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ONI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 PREGUN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SU MAM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A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¿POR QU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N FE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92720" y="2852640"/>
            <a:ext cx="6867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A MADRE LE SONRI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Y LE DIJO: DEBER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 ESTAR AGRADEC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 “DIOS”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QUE SEAMOS AS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Ú DEBERÍAS DE 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 LA PERSONA QUE EST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EYENDO ÉSTE CORR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 rot="21300000">
            <a:off x="1763280" y="1125360"/>
            <a:ext cx="489744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a risa es u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ónico para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a salud mental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1228680" cy="1324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92360" y="5373720"/>
            <a:ext cx="31240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a61e"/>
                </a:solidFill>
                <a:latin typeface="Comic Sans MS"/>
                <a:ea typeface="Arial"/>
              </a:rPr>
              <a:t>Un abra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8B18-931F-4763-83DE-05BF5130865F}" type="datetime3">
              <a:rPr b="1" lang="es-ES" sz="1600" spc="-1" strike="noStrike">
                <a:solidFill>
                  <a:srgbClr val="d6a61e"/>
                </a:solidFill>
                <a:latin typeface="Comic Sans MS"/>
                <a:ea typeface="Arial"/>
              </a:rPr>
              <a:t>29 de julio de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a61e"/>
                </a:solidFill>
                <a:latin typeface="Comic Sans MS"/>
                <a:ea typeface="Arial"/>
              </a:rPr>
              <a:t>Y son las </a:t>
            </a:r>
            <a:fld id="{E08AC981-BBB6-49D5-BA18-C3B6DC6F89E1}" type="datetime10">
              <a:rPr b="1" lang="es-ES" sz="1600" spc="-1" strike="noStrike">
                <a:solidFill>
                  <a:srgbClr val="d6a61e"/>
                </a:solidFill>
                <a:latin typeface="Comic Sans MS"/>
                <a:ea typeface="Arial"/>
              </a:rPr>
              <a:t>07:22</a:t>
            </a:fld>
            <a:r>
              <a:rPr b="1" lang="es-ES" sz="1600" spc="-1" strike="noStrike">
                <a:solidFill>
                  <a:srgbClr val="d6a61e"/>
                </a:solidFill>
                <a:latin typeface="Comic Sans MS"/>
                <a:ea typeface="Arial"/>
              </a:rPr>
              <a:t> hrs.</a:t>
            </a:r>
            <a:r>
              <a:rPr b="1" lang="es-ES" sz="1600" spc="-1" strike="noStrike">
                <a:solidFill>
                  <a:srgbClr val="ff9999"/>
                </a:solidFill>
                <a:latin typeface="Comic Sans MS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58:13Z</dcterms:created>
  <dc:creator/>
  <dc:description/>
  <dc:language>en-US</dc:language>
  <cp:lastModifiedBy>Sylvia</cp:lastModifiedBy>
  <dcterms:modified xsi:type="dcterms:W3CDTF">2008-07-28T13:03:41Z</dcterms:modified>
  <cp:revision>8</cp:revision>
  <dc:subject/>
  <dc:title>JAJAJAJA</dc:title>
</cp:coreProperties>
</file>