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sound%20jejeje.wav" ContentType="audio/x-wav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7DE-2E99-4442-896D-72CA47EA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D9A-1A00-47F2-BE53-519A80C5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513-2D9E-499B-B610-68F0B4A5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ABF-BFC5-49BA-AE13-C9858F92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DC5-8B30-4170-924C-6BE729F8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C72-4140-42F4-A5F0-B0275F6A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581-4D48-4868-87BF-62FA1378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82E-2F48-47AA-9019-518C133D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572-1ABF-4741-A9E7-E80984AC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5C8-2B59-4F6C-99B6-71514DBA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F4C-01D5-4E53-AEA3-8031F6A7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745-01C9-4ACB-9113-0B801045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D13D-9627-4FEA-AEA8-94E3BCA6F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ound%20jejej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5440" y="1773360"/>
            <a:ext cx="2465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DÍA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ONI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 PREGUN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SU MAM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¿POR 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N FE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92720" y="2852640"/>
            <a:ext cx="6867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MADRE LE SONRI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Y LE DIJO: DEBE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 ESTAR AGRADE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 “DIOS”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QUE SEAMOS AS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Ú DEBERÍAS DE 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 LA PERSONA QUE EST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EYENDO ÉSTE CORR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 rot="21300000">
            <a:off x="1763280" y="1125360"/>
            <a:ext cx="489744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risa es u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ónico para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salud mental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1228680" cy="132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5373720"/>
            <a:ext cx="3124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Un abr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6562-72DF-461A-94FB-960C16B9B682}" type="datetime3"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31 de julio de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Y son las </a:t>
            </a:r>
            <a:fld id="{69681096-1502-47AB-B03B-7302E4C4D0F6}" type="datetime10"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16:48</a:t>
            </a:fld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 hrs.</a:t>
            </a:r>
            <a:r>
              <a:rPr b="1" lang="es-ES" sz="1600" spc="-1" strike="noStrike">
                <a:solidFill>
                  <a:srgbClr val="ff9999"/>
                </a:solidFill>
                <a:latin typeface="Comic Sans MS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58:13Z</dcterms:created>
  <dc:creator/>
  <dc:description/>
  <dc:language>en-US</dc:language>
  <cp:lastModifiedBy>Sylvia</cp:lastModifiedBy>
  <dcterms:modified xsi:type="dcterms:W3CDTF">2008-07-28T13:03:41Z</dcterms:modified>
  <cp:revision>8</cp:revision>
  <dc:subject/>
  <dc:title>JAJAJAJA</dc:title>
</cp:coreProperties>
</file>