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mazing%20gr%C3%A2c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CAA-3475-4B04-91C3-E89834AA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DF1-72FB-4638-9D5E-0B7D25C8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737-5FF4-46D4-87FB-2508CB93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8D9-10C4-4B55-AC40-7142E140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BF7-8606-47A5-82D1-494EBCC0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F3D-7DFB-4EF1-8BA9-28B4A776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38F-07CA-4A7B-BE21-482CB7B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F2D-C7C3-4936-857C-9D3EEF37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6FD-6F24-4D1C-B014-80C98F06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760-40B1-435A-B3A5-0DE81B7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310-16F8-4501-AD18-9163EF9A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991-C504-4670-B01E-7217D3B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64D-76CE-46D1-9426-DB97DF6D7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%20gr&#226;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9999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1052640"/>
            <a:ext cx="55245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 MUERTE UNA GRAN REAL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76720" y="2565360"/>
            <a:ext cx="8478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  &amp;  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Amazing%20gr%C3%A2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56000" y="0"/>
            <a:ext cx="47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¿Entonc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traes mi al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-Lo siento amigo p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la nunca te perteneció… era del Unive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4724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ntonces el hombre lleno de mi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arrebató  a la muerte  la maleta y al abri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se dio cuenta que estaba vací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480" y="1076400"/>
            <a:ext cx="3845880" cy="4483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n una lágr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desamparo bro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sus ojos, el h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e dijo a la m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Nunca tuve n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í… amigo mí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ada u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los mo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que vivi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fueron sólo tuy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4869000"/>
            <a:ext cx="835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a vida es sólo un momento… Un momento todo t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sfrútalo en su totalida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Que nada de lo que crees que te pertenece te deteng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9984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1125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Vive el AHORA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Vive TU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42900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Y no te olvid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 </a:t>
            </a: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SER FEL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57340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R  &amp;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50"/>
                            </p:stCondLst>
                            <p:childTnLst>
                              <p:par>
                                <p:cTn id="1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552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1484280"/>
            <a:ext cx="5616720" cy="4359960"/>
          </a:xfrm>
          <a:prstGeom prst="rect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Un hombre mur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intempestivament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Al darse cuenta v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que se acercaba un Ser mu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especial que no se parecía a ningún Ser Hu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Quien lleva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una maleta consig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Y le dijo: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644400"/>
            <a:ext cx="4572000" cy="5946120"/>
          </a:xfrm>
          <a:prstGeom prst="rect">
            <a:avLst/>
          </a:prstGeom>
          <a:solidFill>
            <a:srgbClr val="00cc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Bien amig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ío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s hora de irnos, soy la muer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l hombre asomb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e preguntó a la muer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Ya… tan 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tenía muchos pla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o siento amig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ero es el mo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e tu par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¿Qué traes en esa mal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Y la muerte le contest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-Tus pertenenci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397"/>
          <a:stretch/>
        </p:blipFill>
        <p:spPr>
          <a:xfrm>
            <a:off x="0" y="-533520"/>
            <a:ext cx="9677520" cy="7391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907920"/>
            <a:ext cx="54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Mis pertene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Son mis cos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mis ropas, mi diner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-Lo siento am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s cosas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que tenías, nu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te pertenecier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923"/>
          <a:stretch/>
        </p:blipFill>
        <p:spPr>
          <a:xfrm>
            <a:off x="0" y="0"/>
            <a:ext cx="9696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1989000"/>
            <a:ext cx="47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Tra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mis recuer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-Lo siento amigo,  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ya no vienen cont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Nunca te pertenecier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l tiemp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64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2760" y="3349800"/>
            <a:ext cx="408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Traes mis tal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o siento amigo p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sos nunca 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pertenecier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s circunst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424"/>
          <a:stretch/>
        </p:blipFill>
        <p:spPr>
          <a:xfrm>
            <a:off x="0" y="-19044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65040" y="4005360"/>
            <a:ext cx="4921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Traes a mi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A mis familia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o siento amigo pero el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Nunca te perteneci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l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5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35640" y="2060640"/>
            <a:ext cx="3071880" cy="338580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.¿Traes a mi muj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y a mis hij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 siento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llos nunca 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ertenecie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ran de tu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51640" y="1989000"/>
            <a:ext cx="29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Traes mi cuer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 siento amigo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s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te perteneci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s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2:16:20Z</dcterms:created>
  <dc:creator>R  &amp;  D</dc:creator>
  <dc:description>Creado 20 Marzo 2008</dc:description>
  <dc:language>en-US</dc:language>
  <cp:lastModifiedBy>DC</cp:lastModifiedBy>
  <dcterms:modified xsi:type="dcterms:W3CDTF">2008-06-02T19:14:37Z</dcterms:modified>
  <cp:revision>40</cp:revision>
  <dc:subject>Creando la Realidad 38</dc:subject>
  <dc:title>LA MUERTE UNA GRAN REALIDAD</dc:title>
</cp:coreProperties>
</file>