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azing%20gr%C3%A2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70C-7753-4DFF-9473-161640F2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FB5-B551-424D-8FAA-B26DCE81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FFB-BC2E-4EFD-B6D1-155A3710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D29-C2B0-4C91-8806-9A414D14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350-99AA-4064-820E-0734879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B8D-1F77-4798-AAFC-0A5594B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4B1-404F-47F0-9683-4A07D2C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BC-AA61-46BF-AC1F-15B04562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7C4-B627-4F12-935B-7F91C75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66B-CBCA-426E-AFBA-E8B268E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32E-6FB5-4FE8-BB94-4DA2C1C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A43-AE26-4822-B004-9CC540F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9C65-269E-40BA-BFDA-96A684EA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%20gr&#226;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1052640"/>
            <a:ext cx="5524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 MUERTE UNA GRAN RE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76720" y="2565360"/>
            <a:ext cx="847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  &amp;  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Amazing%20gr%C3%A2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0"/>
            <a:ext cx="47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¿Entonc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traes mi al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-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la nunca te perteneció… era del Uni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4724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ntonces el hombre lleno de mi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rrebató  a la muerte  la maleta y al abr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se dio cuenta que estaba vací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480" y="1076400"/>
            <a:ext cx="3845880" cy="448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n una lág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desamparo bro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sus ojos, el h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e dijo a la m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Nunca tuve 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í… amigo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ada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os mo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viv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fueron sólo tuy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869000"/>
            <a:ext cx="835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a vida es sólo un momento… Un momento todo t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sfrútalo en su totalida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nada de lo que crees que te pertenece te deteng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9984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1125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el AHORA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TU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42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Y no te olvid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 </a:t>
            </a: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SER FEL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57340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R  &amp;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5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55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484280"/>
            <a:ext cx="5616720" cy="435996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 hombre mur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intempestivame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Al darse cuenta v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e se acercaba un Ser m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especial que no se parecía a ningún Ser H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ien lleva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a maleta cons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Y le dijo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44400"/>
            <a:ext cx="4572000" cy="5946120"/>
          </a:xfrm>
          <a:prstGeom prst="rect">
            <a:avLst/>
          </a:prstGeom>
          <a:solidFill>
            <a:srgbClr val="00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ien amig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ío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 hora de irnos, soy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l hombre asom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e preguntó a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a…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enía muchos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o siento amig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ero es el mo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tu 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¿Qué traes en esa mal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 la muerte le contes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us pertenenci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97"/>
          <a:stretch/>
        </p:blipFill>
        <p:spPr>
          <a:xfrm>
            <a:off x="0" y="-533520"/>
            <a:ext cx="9677520" cy="739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90792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Mis pertene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Son mis c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opas, mi diner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osas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que tenías, nu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e 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923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989000"/>
            <a:ext cx="47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ecuer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,  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ya no vienen cont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tiemp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64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2760" y="3349800"/>
            <a:ext cx="408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mis tal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sos nunca 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ircun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424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65040" y="4005360"/>
            <a:ext cx="492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raes a mi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 mis famili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 el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2060640"/>
            <a:ext cx="3071880" cy="33858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.¿Traes a mi mu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y a mis hij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llos nunca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ertenecie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ran de tu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51640" y="198900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Traes mi cuer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te perteneci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R  &amp;  D</dc:creator>
  <dc:description>Creado 20 Marzo 2008</dc:description>
  <dc:language>en-US</dc:language>
  <cp:lastModifiedBy>DC</cp:lastModifiedBy>
  <dcterms:modified xsi:type="dcterms:W3CDTF">2008-06-02T19:14:37Z</dcterms:modified>
  <cp:revision>40</cp:revision>
  <dc:subject>Creando la Realidad 38</dc:subject>
  <dc:title>LA MUERTE UNA GRAN REALIDAD</dc:title>
</cp:coreProperties>
</file>