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Roberto%20Carlos%20-%20Parei%20Na%20Contra%20Mao.wav" ContentType="audio/x-wav"/>
  <Override PartName="/ppt/media/image2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79B-3B16-491A-91E2-1A3069D3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75A-333B-4B83-9B40-2F50EBB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9B1-12DB-4403-9D0B-384C5695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034-4891-47A3-A6C3-A3C5F731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062-EC61-465E-9484-3D12B914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3358-0C5E-423A-8216-248FF0F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7EC-E329-4516-97E7-9A6820B9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6BAC-68A3-47E0-B49E-0A18A66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2ED7-E3D8-4ECB-8C33-7F39C53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7EA-BB5C-4FFA-B3AB-CA78754B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694-7CE6-4B06-933F-6EE4F91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2E8-D205-464B-961D-FFEDCE8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4B1-6AA3-4C35-A78C-602C9DF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F9C3-BAC5-434F-AC8C-0BF895D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C7D-306B-4FF0-BC6C-9AB95BCA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766-D05E-4810-BC30-A6F6AF6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6BAD-EB7A-410D-A9D0-C94C262D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C45-DFBC-47E6-89D7-AD0F1C91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12D-DE00-47F3-90D8-74E715AA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55F-F2D3-44EE-87A1-FF16921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8AD-0EB7-45B8-882E-3C3A4019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9E9-E82E-4742-9A7F-1253C1A2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B0F-99FD-48B9-A473-9E27C5D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EDC-ECAC-4330-89FF-2E0BCC0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846-C3A8-48FC-B0F7-E96A9DED401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58F-4345-4CF2-AB4C-FC548DBA098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oberto%20Carlos%20-%20Parei%20Na%20Contra%20Ma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7440" cy="48974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Times New Roman"/>
              </a:rPr>
              <a:t>ESCOLHA </a:t>
            </a:r>
            <a:br>
              <a:rPr sz="11800"/>
            </a:br>
            <a:r>
              <a:rPr b="1" lang="en-US" sz="11800" spc="-1" strike="noStrike">
                <a:solidFill>
                  <a:srgbClr val="ffffff"/>
                </a:solidFill>
                <a:latin typeface="Times New Roman"/>
              </a:rPr>
              <a:t>O SEU...</a:t>
            </a:r>
            <a:endParaRPr b="1" lang="en-US" sz="1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10920" y="764640"/>
            <a:ext cx="7777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strips dir="rd"/>
    <p:sndAc>
      <p:stSnd>
        <p:snd r:embed="rId1" name="Roberto%20Carlos%20-%20Parei%20Na%20Contra%20Ma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77080" cy="4489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048360" cy="389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4000" cy="429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337080" cy="422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275440" cy="547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77080" cy="4415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264360" cy="384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697800" cy="443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35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049800" cy="454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481800" cy="430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905440" cy="3963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616360" cy="4218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056360" cy="4751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409080" cy="4200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058160" cy="4543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265800" cy="470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058160" cy="542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5977080" cy="5181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553080" cy="4049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551640" cy="5416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4160" cy="5449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88360" cy="4043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485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Decidiu qual é o mais bonito?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4941720"/>
            <a:ext cx="438120" cy="57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59280" y="4869000"/>
            <a:ext cx="1123920" cy="62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7740720" y="5589720"/>
            <a:ext cx="749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0318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7640" cy="5075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92720" cy="42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543640" cy="5141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0:45Z</dcterms:created>
  <dc:creator>Roberto</dc:creator>
  <dc:description/>
  <dc:language>en-US</dc:language>
  <cp:lastModifiedBy>Roberto</cp:lastModifiedBy>
  <dcterms:modified xsi:type="dcterms:W3CDTF">2008-10-03T15:24:20Z</dcterms:modified>
  <cp:revision>2</cp:revision>
  <dc:subject/>
  <dc:title>ESCOLHA  O SEU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