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gif" ContentType="image/gif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Roberto%20Carlos%20-%20Parei%20Na%20Contra%20Mao.wav" ContentType="audio/x-wav"/>
  <Override PartName="/ppt/media/image27.jpeg" ContentType="image/jpeg"/>
  <Override PartName="/ppt/media/image34.jpeg" ContentType="image/jpeg"/>
  <Override PartName="/ppt/media/image28.jpeg" ContentType="image/jpeg"/>
  <Override PartName="/ppt/media/image29.jpeg" ContentType="image/jpeg"/>
  <Override PartName="/ppt/media/image1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3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8.gif" ContentType="image/gif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A7D2-BF4F-4849-A395-428DE8635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7F98-438E-40E8-B7F1-9568C898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0C88-3305-4758-9853-6E251F740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3CF2-F25E-4156-9B6C-E6936DD45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919B-AF9E-4C1C-8A00-58DD709E6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E39D7-E9B4-4C95-832B-33C80FB4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61BA-0B80-495E-A4AA-5D3EA7BC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22AB-FF7E-4665-B53A-A884A466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4411-CD9E-46C5-863B-26129D37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9217-3741-41F1-BC28-AFE78F47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9989-0F12-406E-8F86-AA5D0767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1F58-DD57-414B-9E1D-76CB977F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A6CA-B925-41DB-A264-9B547D39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1778-0414-45F1-A558-350DEDAA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834B-F077-4F44-9534-2D586BB6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A311-BB58-4139-9D77-81B8FEDCD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3E5C-457B-424B-9A4B-6256D1037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18AD-602F-498E-8626-72F390E4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84FC-8CF1-4024-9777-73DB7304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1A07-7654-4E08-942D-B127C41F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1B15-B000-4374-85AB-731FCDC2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53F4-9BF0-4F4F-B1C8-678D9947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977C-A3E5-4597-8323-985DC244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640D-DACB-4A01-B05D-C2240155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AFF3-7341-422D-BA0C-88B17A44DE8A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35EE-993F-42AC-AB4B-C28191B6DF33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Roberto%20Carlos%20-%20Parei%20Na%20Contra%20Mao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8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7777440" cy="489744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ffffff"/>
                </a:solidFill>
                <a:latin typeface="Times New Roman"/>
              </a:rPr>
              <a:t>ESCOLHA </a:t>
            </a:r>
            <a:br>
              <a:rPr sz="11800"/>
            </a:br>
            <a:r>
              <a:rPr b="1" lang="en-US" sz="11800" spc="-1" strike="noStrike">
                <a:solidFill>
                  <a:srgbClr val="ffffff"/>
                </a:solidFill>
                <a:latin typeface="Times New Roman"/>
              </a:rPr>
              <a:t>O SEU...</a:t>
            </a:r>
            <a:endParaRPr b="1" lang="en-US" sz="1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10920" y="764640"/>
            <a:ext cx="77770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strips dir="rd"/>
    <p:sndAc>
      <p:stSnd>
        <p:snd r:embed="rId1" name="Roberto%20Carlos%20-%20Parei%20Na%20Contra%20Ma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03280" y="1052640"/>
            <a:ext cx="5977080" cy="44892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4483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337440" cy="4753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6048360" cy="38959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5904000" cy="44276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03280" y="907920"/>
            <a:ext cx="5977080" cy="4483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6408720" cy="4807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03280" y="1052640"/>
            <a:ext cx="6480360" cy="4860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5904000" cy="44276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44000" cy="42955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332000" y="1125360"/>
            <a:ext cx="6337080" cy="42246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908000" y="620640"/>
            <a:ext cx="5275440" cy="5472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7777080" cy="44150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403280" y="1341360"/>
            <a:ext cx="6264360" cy="38419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6697800" cy="44352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6551640" cy="4354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76360" y="981000"/>
            <a:ext cx="6049800" cy="4543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6481800" cy="43070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905440" cy="39639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5616360" cy="42181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056360" cy="47516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409080" cy="4200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42920" y="907920"/>
            <a:ext cx="7058160" cy="4543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6913440" cy="5184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332000" y="907920"/>
            <a:ext cx="6265800" cy="4705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058160" cy="52941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6913440" cy="5185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042920" y="620640"/>
            <a:ext cx="7058160" cy="5424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476360" y="836640"/>
            <a:ext cx="5977080" cy="5181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553080" cy="40496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87280" y="692280"/>
            <a:ext cx="6551640" cy="5416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274160" cy="54496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488360" cy="40435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056720" cy="5292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345440" cy="48546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10380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imes New Roman"/>
              </a:rPr>
              <a:t>Decidiu qual é o mais bonito?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219640" y="4941720"/>
            <a:ext cx="438120" cy="571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059280" y="4869000"/>
            <a:ext cx="1123920" cy="628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7740720" y="5589720"/>
            <a:ext cx="7491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031819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200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6767640" cy="50752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6696000" cy="5023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192720" cy="4284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19280" y="836640"/>
            <a:ext cx="5543640" cy="51418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14:20:45Z</dcterms:created>
  <dc:creator>Roberto</dc:creator>
  <dc:description/>
  <dc:language>en-US</dc:language>
  <cp:lastModifiedBy>Roberto</cp:lastModifiedBy>
  <dcterms:modified xsi:type="dcterms:W3CDTF">2008-10-03T15:24:20Z</dcterms:modified>
  <cp:revision>2</cp:revision>
  <dc:subject/>
  <dc:title>ESCOLHA  O SEU..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