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BCF6-3517-4739-9249-B9B56F805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8187-7E96-47F3-BDE5-E20BF51B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BDEA-40DA-4CC9-B053-3CB780BDF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4504-1A79-4E95-96D7-2DB81989E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72C7-3907-4808-9A0F-81936620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C150-41D5-4EDE-A22D-200C3147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DE05-CB05-4B51-B1B8-345F85D7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CBE2-5A41-4D4E-B40E-5F5EE816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ADE2-FB9E-41B4-BF2D-3CC4F169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D0B4-787E-4793-8496-FA87B4DD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1064-A7BF-4966-BCFA-0B04E228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C21B-51B4-48E1-AB1D-ED675932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9B8F-4447-4DE7-A326-EAA1CA782AC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54080" y="0"/>
            <a:ext cx="52358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33640" y="0"/>
            <a:ext cx="50752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60680" y="0"/>
            <a:ext cx="40226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95480" y="0"/>
            <a:ext cx="51516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2760" y="0"/>
            <a:ext cx="45784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54160" y="0"/>
            <a:ext cx="68356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90680" y="0"/>
            <a:ext cx="45608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90680" y="0"/>
            <a:ext cx="45608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066680"/>
            <a:ext cx="9144000" cy="4724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71840" y="0"/>
            <a:ext cx="4000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28920" y="0"/>
            <a:ext cx="42861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82680"/>
            <a:ext cx="9144000" cy="6092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79440" y="0"/>
            <a:ext cx="6583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90680" y="0"/>
            <a:ext cx="45608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46240" y="0"/>
            <a:ext cx="50515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46280" y="0"/>
            <a:ext cx="58514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40" y="0"/>
            <a:ext cx="9139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79400" y="0"/>
            <a:ext cx="5783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46240" y="0"/>
            <a:ext cx="50515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8T13:04:01Z</dcterms:created>
  <dc:creator>Evaldo do Amaral</dc:creator>
  <dc:description/>
  <dc:language>en-US</dc:language>
  <cp:lastModifiedBy>EDSON</cp:lastModifiedBy>
  <dcterms:modified xsi:type="dcterms:W3CDTF">2007-11-21T13:16:57Z</dcterms:modified>
  <cp:revision>1</cp:revision>
  <dc:subject/>
  <dc:title>Slide 1</dc:title>
</cp:coreProperties>
</file>