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682-AFDA-433D-9BE2-EC72F988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353-3CF6-4652-A732-CC522BA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179-6796-4B29-B864-1C3D6FE5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60E-87E9-40A9-8CA8-54F604E6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EB5-95B5-4226-BFAC-3F50619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7CD-7BAA-4594-AA38-84276EDC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AE2-4F7C-4F1C-A1BD-671BA15A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F94-7A7F-44B9-B1FD-FE2EBD4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B31-08DE-457B-B929-7F2E8CDF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26E-D0D3-4EBC-8A3E-E66A050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5AB-34B7-47DA-92C2-24A6B08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12F-A399-4D34-902B-50F4CE22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53DC-EB1E-4CA4-9588-5DF023F9A04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4080" y="0"/>
            <a:ext cx="5235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33640" y="0"/>
            <a:ext cx="5075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60680" y="0"/>
            <a:ext cx="4022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5480" y="0"/>
            <a:ext cx="5151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2760" y="0"/>
            <a:ext cx="457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4160" y="0"/>
            <a:ext cx="6835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66680"/>
            <a:ext cx="9144000" cy="472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71840" y="0"/>
            <a:ext cx="4000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8920" y="0"/>
            <a:ext cx="4286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79440" y="0"/>
            <a:ext cx="658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46240" y="0"/>
            <a:ext cx="5051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6280" y="0"/>
            <a:ext cx="5851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0"/>
            <a:ext cx="9139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9400" y="0"/>
            <a:ext cx="5783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6240" y="0"/>
            <a:ext cx="5051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3:04:01Z</dcterms:created>
  <dc:creator>Evaldo do Amaral</dc:creator>
  <dc:description/>
  <dc:language>en-US</dc:language>
  <cp:lastModifiedBy>EDSON</cp:lastModifiedBy>
  <dcterms:modified xsi:type="dcterms:W3CDTF">2007-11-21T13:16:57Z</dcterms:modified>
  <cp:revision>1</cp:revision>
  <dc:subject/>
  <dc:title>Slide 1</dc:title>
</cp:coreProperties>
</file>