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694-DF7A-4A2E-85AD-E3CA1E57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AE-9D56-4C4C-8791-DA95429A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013-6301-4F7C-B847-7BED2E10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639-A45E-46BF-87F6-F97DB1D6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3E8-9C17-454D-BF4D-954F1ACA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CC2-880D-47DD-910B-CD5D7548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639-72D1-40F5-BCBD-FE1B41B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0DA-BB56-4DB5-A70A-1ED4719F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4B1-D601-442A-A89D-1FFEF50F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6EA-E877-4804-81C7-E286075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C0D-DB3E-410F-99E5-3C8B6FC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5F0-7767-4A22-A62F-7AA465E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680-34D3-4236-9166-17F2177CCB0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0" y="1928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TRANSPORTE ESCOLA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EN LA REPÚBLICA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DEMOCRÁTICA DE JAPÓ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800100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2 CuadroTexto"/>
          <p:cNvSpPr/>
          <p:nvPr/>
        </p:nvSpPr>
        <p:spPr>
          <a:xfrm>
            <a:off x="642960" y="5500800"/>
            <a:ext cx="8001000" cy="369720"/>
          </a:xfrm>
          <a:prstGeom prst="rect">
            <a:avLst/>
          </a:prstGeom>
          <a:solidFill>
            <a:srgbClr val="3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214200" y="5429160"/>
            <a:ext cx="842976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7786800" cy="664380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642960" y="6286680"/>
            <a:ext cx="778680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0" y="235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TRANSPORTE ESCOLAR EN LA REPÚBLIC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BOLIVARIANA DE VENEZ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0" y="1285920"/>
            <a:ext cx="42876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 u="sng">
                <a:solidFill>
                  <a:srgbClr val="ff0000"/>
                </a:solidFill>
                <a:uFillTx/>
                <a:latin typeface="Calibri"/>
              </a:rPr>
              <a:t>¡¡ ..VIVA EL SOCIALISMO DEL SIGLO XXI..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3:26:12Z</dcterms:created>
  <dc:creator>User</dc:creator>
  <dc:description/>
  <dc:language>en-US</dc:language>
  <cp:lastModifiedBy>isuare_mecon</cp:lastModifiedBy>
  <dcterms:modified xsi:type="dcterms:W3CDTF">2009-08-21T14:10:39Z</dcterms:modified>
  <cp:revision>2</cp:revision>
  <dc:subject/>
  <dc:title>Diapositiva 1</dc:title>
</cp:coreProperties>
</file>