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Nada%20te%20turbe%20WAV.wav" ContentType="audio/x-wav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F7D-6A3D-4E97-9169-8220EF68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F96-1265-4571-973D-1BFE85D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DC3-2BD8-4B18-BBC9-17D99AC9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8AB-C7FC-45CF-9AF7-A8CCADAE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DF8A-2A1E-4ADD-BB1A-EA0A996B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FE3E-CDD8-4C9A-B69C-E4DB147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40B1-D7E3-47AE-82AC-F58097DD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4D0E-CC29-495F-9D6E-1C2D689D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19A-76C2-490E-B16F-F05A9E1A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3D15-AF36-4DA9-A5AB-BEF2AAEB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96AB-4768-4B24-A30D-72034B7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ADC-8D89-4A52-9D0A-D067D5B3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AFB1-D148-4E1B-B1E3-6CBB657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D33-49C2-4CD7-9CBC-BBD7A3C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9221-CD8A-4B81-B635-C8C4096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86EA-CD1E-4210-BE65-EFBC3DD8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A5B3-84ED-4D7A-9469-280338B7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10C9-3135-402D-822A-D222DEF5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2E53-7389-4144-B935-6750A72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4B18-5628-4AB9-BF74-238A4F05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7E72-897A-4F3C-84A7-D8DD9BA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3546-B8BE-4690-BAF5-C5C7398F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299-AAEC-4DDE-8D0E-9F2509E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5083-96A1-4851-A27C-D5BF30F1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E44F-D4B9-4EA4-8080-B1498B80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3696-C176-4199-A07D-89EC0084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87CA-4B83-45A6-B29F-2723FB8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387E-71AD-42FF-900C-721A899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3D39-E133-4EEF-AF6A-648CC1DA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5B96-EC9A-4970-9CEF-A6F5E745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6EC2-C4B8-49D1-AB11-1249EFD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18C8-0E6B-41BD-8932-FF3ACDD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9542-E636-487A-8F66-C7D31ACB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D43-7CF6-4C8D-917D-73248DD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EF4D-A5E4-49DE-90BB-73E8D975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6B46-7030-47F3-AC7F-9337D9AA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3479-258E-4D1F-B07C-3B2CA5B2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3BC5-4037-447C-A433-1E8E227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352A-298A-4E08-92A7-3761DA0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1C7A-0E29-42FB-969B-0F0C018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7C85-9EC7-4003-BBF0-97DE24FC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5086-2225-468B-B7F3-F0B48489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779C-A02A-4A5F-9460-309CA4B4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C630-BD79-4733-8E9B-61EB013D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67C-9804-42A5-B64B-4ACEDF95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DCD8-6143-4F27-BA2C-B0B5F405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3864-01C9-4CA5-A5DD-2FF59C2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0D3E-3A28-4ACB-A0AF-EB494EB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9B73-0D16-477F-990B-2893D229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C893-ABC8-45AF-84F2-F8FB259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D7F8-B3E2-4620-934D-46FA074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3B1B-D0E1-4C6A-A9C4-9047DE3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3659-BD22-4038-8971-AFEBA7C7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A305-FB84-40D2-9CE0-070E3B24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F6E6C-62B5-4085-BF92-AEEDA2BB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C7F-4D49-4E0D-BFD7-40584A6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69C1-434F-4EF2-8269-5CFCA339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8A9-D421-4431-A82C-CB02BBE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075-D936-492F-9C09-972B0BBA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CD6-743E-4D2B-9568-46869D2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D33-F888-4473-A59F-41D52ADDC2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CE5D-F62E-4079-89BF-4395524DFC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4596-2B18-4077-A3B4-595ABEA07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3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488-AB84-44C4-B5DA-3D617BB95B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DA61-29E7-4307-BE87-72D8D5248C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ada%20te%20turbe%20WAV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sers.ipfw.edu/jehle/poesia/teresade.htm" TargetMode="External"/><Relationship Id="rId2" Type="http://schemas.openxmlformats.org/officeDocument/2006/relationships/hyperlink" Target="http://users.ipfw.edu/jehle/poesia/teresade.htm" TargetMode="External"/><Relationship Id="rId3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89080" y="272736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0000"/>
                </a:solidFill>
                <a:latin typeface="Sylfaen"/>
              </a:rPr>
              <a:t>Quédate en silencio 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5589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lfae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lfaen"/>
              </a:rPr>
              <a:t>dale tu rit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Nada%20te%20turbe%20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555920" y="35956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Sylfaen"/>
              </a:rPr>
              <a:t>Quédate en silencio delante del Señor ..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2362320"/>
            <a:ext cx="66596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Olvida tus ideas, tus palabra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olvida tus recuerdos, tus deseos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tus peticiones, tus proyecto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sólo entiéndele y escúcha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sin que el ruido de tus voces interiores te distraiga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0"/>
            <a:ext cx="74674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Quédate en paz ante É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abandona en É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toda angustia, toda turbación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todo temor, toda preocupació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…</a:t>
            </a: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..olvídalo to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23640" y="4220640"/>
            <a:ext cx="8210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Quédate sin atadur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libre de tus dese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pobre como la madera muerta en invier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vací@ de todo cuanto no sea Él.</a:t>
            </a:r>
            <a:r>
              <a:rPr b="1" i="1" lang="es-ES_tradnl" sz="3600" spc="-1" strike="noStrike">
                <a:solidFill>
                  <a:srgbClr val="99ccff"/>
                </a:solidFill>
                <a:latin typeface="Sylfa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300"/>
                            </p:stCondLst>
                            <p:childTnLst>
                              <p:par>
                                <p:cTn id="11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0" r="0" b="3756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0"/>
            <a:ext cx="914400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Quédate sol@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sin nadie más en tu corazón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ni nada en tu pensamiento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que ninguna criatur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se interponga entre Dios y Tú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28440" y="-38160"/>
            <a:ext cx="9200880" cy="6934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626920" y="115920"/>
            <a:ext cx="637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Quédate sin queja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in estorbos, sin apegos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in “hu</a:t>
            </a:r>
            <a:r>
              <a:rPr b="1" i="1" lang="es-ES_tradnl" sz="4000" spc="-1" strike="noStrike">
                <a:solidFill>
                  <a:srgbClr val="ffff21"/>
                </a:solidFill>
                <a:latin typeface="Sylfaen"/>
                <a:ea typeface="Arial"/>
              </a:rPr>
              <a:t>é</a:t>
            </a: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pedes” extraño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in nada que no sea É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3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3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600"/>
                            </p:stCondLst>
                            <p:childTnLst>
                              <p:par>
                                <p:cTn id="14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" dur="3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3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-360" y="2209320"/>
            <a:ext cx="937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Quédate enter@, sin más recuerdo que Di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sin buscar consuelos human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“</a:t>
            </a: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sepultad@” con Él y en </a:t>
            </a:r>
            <a:r>
              <a:rPr b="1" i="1" lang="es-ES_tradnl" sz="3600" spc="-1" strike="noStrike">
                <a:solidFill>
                  <a:srgbClr val="ff0000"/>
                </a:solidFill>
                <a:latin typeface="Sylfaen"/>
                <a:ea typeface="Arial"/>
              </a:rPr>
              <a:t>É</a:t>
            </a: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desapareciendo t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para hacerte don en su Espírit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3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7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3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2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3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3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3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91520" cy="68961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58920" y="736200"/>
            <a:ext cx="83167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Quédate sin tristez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sin resentimient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sin orgull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sin falsas imágenes de ti mism@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Sylfaen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2514600"/>
            <a:ext cx="8686800" cy="414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Sylfaen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6699"/>
                </a:solidFill>
                <a:latin typeface="Sylfaen"/>
                <a:ea typeface="Arial"/>
              </a:rPr>
              <a:t>Quédate a la escucha de su Palabra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99"/>
                </a:solidFill>
                <a:latin typeface="Sylfaen"/>
                <a:ea typeface="Arial"/>
              </a:rPr>
              <a:t>hazte Palabra y Voluntad suy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05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2400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Sylfaen"/>
                <a:ea typeface="Arial"/>
              </a:rPr>
              <a:t>Quédate sin poderes, sin privilegio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Sylfaen"/>
                <a:ea typeface="Arial"/>
              </a:rPr>
              <a:t>sin honores, sin prejuicios, sin ídolo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y solo deja a Dios ser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14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20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4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2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360" y="260280"/>
            <a:ext cx="8820360" cy="66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Sylfaen"/>
              </a:rPr>
              <a:t>Nada te tur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Nada te turb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nada te esp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todo se pas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Dios no se mud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la pa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todo lo alcan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Quien a Dios tie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nada le fal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Solo Dios bas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Sylfaen"/>
                <a:hlinkClick r:id="rId1"/>
              </a:rPr>
              <a:t>Santa Teresa de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Sylfaen"/>
                <a:hlinkClick r:id="rId2"/>
              </a:rPr>
              <a:t>Avila</a:t>
            </a:r>
            <a:r>
              <a:rPr b="1" lang="es-ES" sz="2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Sylfaen"/>
              </a:rPr>
              <a:t>(1515-1582)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2920" y="3284640"/>
            <a:ext cx="88930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édate en adoración tan profu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e nada altere esa atenció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e ni penas ni go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ebranten ese total abandono en Él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3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8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44360" y="404640"/>
            <a:ext cx="882036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Arial"/>
              </a:rPr>
              <a:t>Quédate en silencio delante de Dios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Arial"/>
              </a:rPr>
              <a:t>desaparece t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Arial"/>
              </a:rPr>
              <a:t>y que sólo Él sea en ti.</a:t>
            </a: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1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63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7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6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3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ffff"/>
                </a:solidFill>
                <a:latin typeface="Sylfaen"/>
              </a:rPr>
              <a:t>“</a:t>
            </a:r>
            <a:r>
              <a:rPr b="1" i="1" lang="es-ES" sz="4400" spc="-1" strike="noStrike">
                <a:solidFill>
                  <a:srgbClr val="ccffff"/>
                </a:solidFill>
                <a:latin typeface="Sylfaen"/>
              </a:rPr>
              <a:t>Quédate en silen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ffff"/>
                </a:solidFill>
                <a:latin typeface="Sylfaen"/>
              </a:rPr>
              <a:t>delante del Señor ...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7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8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960280" y="5334120"/>
            <a:ext cx="5932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Sylfaen"/>
              </a:rPr>
              <a:t>“</a:t>
            </a:r>
            <a:r>
              <a:rPr b="1" i="1" lang="es-ES" sz="3600" spc="-1" strike="noStrike">
                <a:solidFill>
                  <a:srgbClr val="ccffff"/>
                </a:solidFill>
                <a:latin typeface="Sylfaen"/>
              </a:rPr>
              <a:t>Quédate en silencio ..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91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3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952880" y="5334120"/>
            <a:ext cx="38102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Sylfaen"/>
                <a:ea typeface="Times New Roman"/>
              </a:rPr>
              <a:t>“</a:t>
            </a:r>
            <a:r>
              <a:rPr b="1" i="1" lang="es-ES" sz="3600" spc="-1" strike="noStrike">
                <a:solidFill>
                  <a:srgbClr val="ccffff"/>
                </a:solidFill>
                <a:latin typeface="Sylfaen"/>
                <a:ea typeface="Times New Roman"/>
              </a:rPr>
              <a:t>Quédate..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9072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258920" y="2565000"/>
            <a:ext cx="7278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3300"/>
                </a:solidFill>
                <a:latin typeface="Sylfaen"/>
              </a:rPr>
              <a:t>“</a:t>
            </a:r>
            <a:r>
              <a:rPr b="1" i="1" lang="es-ES" sz="4800" spc="-1" strike="noStrike">
                <a:solidFill>
                  <a:srgbClr val="cc3300"/>
                </a:solidFill>
                <a:latin typeface="Sylfaen"/>
              </a:rPr>
              <a:t>Quédate en silencio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3300"/>
                </a:solidFill>
                <a:latin typeface="Sylfaen"/>
              </a:rPr>
              <a:t>delante del Señor ..."</a:t>
            </a:r>
            <a:r>
              <a:rPr b="1" i="1" lang="es-ES" sz="48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cc3300"/>
                </a:solidFill>
                <a:latin typeface="Sylfaen"/>
              </a:rPr>
              <a:t>(Salmo 37, 7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lfaen"/>
              </a:rPr>
              <a:t>Música: “Nada te turbe”  Tai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lfaen"/>
              </a:rPr>
              <a:t>Let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Nada te turbe, nada te esp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Quien a Dios tiene nada le f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Nada te turbe, nada te esp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Sólo Dios basta. (Se rep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2ª 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Todo se pasa, Dios no se mu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La paciencia todo lo alc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6858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Sylfaen"/>
                <a:ea typeface="Times New Roman"/>
              </a:rPr>
              <a:t>Hay demasiados “ruidos” en ti ...</a:t>
            </a:r>
            <a:r>
              <a:rPr b="0" lang="es-ES_tradnl" sz="44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7640" y="3141720"/>
            <a:ext cx="77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e200"/>
                </a:solidFill>
                <a:latin typeface="Sylfaen"/>
                <a:ea typeface="Times New Roman"/>
              </a:rPr>
              <a:t>... “escucha” en lo profundo de tu ser 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7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</p:pic>
      <p:sp>
        <p:nvSpPr>
          <p:cNvPr id="259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3300"/>
                </a:solidFill>
                <a:latin typeface="Sylfaen"/>
                <a:ea typeface="Times New Roman"/>
              </a:rPr>
              <a:t>Hay demasiadas “preocupaciones”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3300"/>
                </a:solidFill>
                <a:latin typeface="Sylfaen"/>
                <a:ea typeface="Times New Roman"/>
              </a:rPr>
              <a:t>en tu mente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2860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0000"/>
                </a:solidFill>
                <a:latin typeface="Sylfaen"/>
                <a:ea typeface="Times New Roman"/>
              </a:rPr>
              <a:t>... y demasiado “peso” en tu corazón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800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5"/>
                </a:solidFill>
                <a:latin typeface="Sylfaen"/>
                <a:ea typeface="Times New Roman"/>
              </a:rPr>
              <a:t>... “escucha” en lo profundo de tu ser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916360" y="2895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Sylfaen"/>
                <a:ea typeface="Times New Roman"/>
              </a:rPr>
              <a:t>... quédate  a solas ..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49626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Sylfaen"/>
                <a:ea typeface="Times New Roman"/>
              </a:rPr>
              <a:t>... y “escucha” en lo profundo de t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5400" y="1219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Sylfaen"/>
                <a:ea typeface="Times New Roman"/>
              </a:rPr>
              <a:t>... entra en tu “aposento” 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4648320"/>
            <a:ext cx="7859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ff66"/>
                </a:solidFill>
                <a:latin typeface="Sylfaen"/>
                <a:ea typeface="Times New Roman"/>
              </a:rPr>
              <a:t>... solo “escucha” en lo profundo de t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“</a:t>
            </a: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El Señor está en tí y aqu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 </a:t>
            </a: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y te llama ..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Sylfaen"/>
                <a:ea typeface="Times New Roman"/>
              </a:rPr>
              <a:t>... te ama y te espera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572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ff66"/>
                </a:solidFill>
                <a:latin typeface="Sylfaen"/>
                <a:ea typeface="Times New Roman"/>
              </a:rPr>
              <a:t>... “escúchale” en lo más profundo de t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6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6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30:25Z</dcterms:created>
  <dc:creator>a</dc:creator>
  <dc:description/>
  <dc:language>en-US</dc:language>
  <cp:lastModifiedBy>WinuE</cp:lastModifiedBy>
  <dcterms:modified xsi:type="dcterms:W3CDTF">2008-08-22T16:12:48Z</dcterms:modified>
  <cp:revision>6</cp:revision>
  <dc:subject/>
  <dc:title>Diapositiva 1</dc:title>
</cp:coreProperties>
</file>