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Nada%20te%20turbe%20WAV.wav" ContentType="audio/x-wav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AF5-E226-4F7B-9D7A-5889B5FD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F79-FFE5-4964-B3B8-26EF1A20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399-0957-4665-9513-5B34450A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B15-D27E-4DF1-B14F-ACED22E4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5FD7-EFE5-466D-999B-5E386A42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F84-C51B-44A4-B88F-1DD95BBD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BDB3-F3EF-40F5-A6DE-FC3D29D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5EC8-7AFB-4686-9FBA-CE3AE15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E621-7CA5-4D27-ADCB-64230117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2E7-3DDA-454A-A892-2E2B09A9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F166-CF0C-41C6-B0C9-51016BDD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D90-84C7-41E8-978F-B917C6DB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02F2-30FA-48FB-9559-FB7B51A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9DD4-C9FB-439B-9E35-837822F5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DCD-A2A2-4434-B14D-197B054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174A-B7B9-42C3-98B8-9BD331EF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528A-907D-49D1-9C9C-487B4B84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C96D-C850-4FAE-91A6-8913A77B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5175-EC3B-41C5-97DF-526BF9C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7794-0F92-4344-A65D-01277F79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5A65-3201-4EED-8DAB-A02E2588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EA95-86A7-4C35-846B-27903E7B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12E-E54D-4C74-A7F1-09A57BA7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499B-7C47-45C1-BB33-9CF3892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5B18-A285-4579-986A-D607AB9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EA55-1F31-4330-ADD0-DE9A8DA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261F-9B64-4FE8-A49F-FC56BFA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647E-1B02-4A8F-B196-734A112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7223-0ED8-4F8B-BA42-85AC81D2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4A9A-A89E-4A8E-B90F-E6239A0F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47E2-B61E-4234-B456-8DDD08CB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6CAC-EAFA-4573-961B-A192A19D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0D5D-1982-439B-868E-7C00A51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411-737D-4DE2-868B-06BF5A47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6A54-89B5-4E4C-B3E2-AAED5FC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09F6-C710-4826-944B-A89A2A29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8758-C5F1-4FB4-AF3C-59DC5989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2985-B67B-4696-B141-3373E1A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7418-F1E3-4697-8BF3-DEE3047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D13AD-37EE-4240-8ECD-E715E42D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6E48-D542-4394-8F54-A6B7DF94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6570-5DCA-42E8-A25A-F6238270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9A94-F09E-469C-992B-3C910DB6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FAB3-9A02-42DF-B549-B1FD1A86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2B2-7A88-42B8-96F3-7875E57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FC33-6787-4777-BCE9-83044E7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90C9A-8C00-4389-847D-855D74B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BE09-BF4A-4CD0-97F4-88DD2AF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DF20D-44D9-488F-9F47-0C5122C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D8A7-1E7C-422F-ADAB-C4FABCBB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7FD5-8333-4D50-91BC-16F139E4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75A4-E33E-4D16-82B4-EB6C4BA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F296-9150-47FC-AFE8-45BB264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39BB-AC27-41B8-9D45-3980A22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72C3-65F6-4B26-BA86-1B004C8E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C84-1AAF-4265-BB0F-9008A695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C9DE-F44A-4E8C-9897-C8EE2AC6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829-8828-4FCB-AC76-31D4027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274-D8A2-4D6F-A629-C7A2865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6C0-6456-4446-888C-EEBF95D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464-9449-46EF-90A3-779A3CA112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A50-B2C1-47DA-AD28-4320F6F9A5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6689-BEC2-4EFD-B549-E0A15E73C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3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62F-28D8-4CEB-9242-49841A0051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A90-9E3D-4DEF-B5E7-1846A3A657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Nada%20te%20turbe%20WAV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sers.ipfw.edu/jehle/poesia/teresade.htm" TargetMode="External"/><Relationship Id="rId2" Type="http://schemas.openxmlformats.org/officeDocument/2006/relationships/hyperlink" Target="http://users.ipfw.edu/jehle/poesia/teresade.htm" TargetMode="External"/><Relationship Id="rId3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89080" y="272736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ff0000"/>
                </a:solidFill>
                <a:latin typeface="Sylfaen"/>
              </a:rPr>
              <a:t>Quédate en silencio 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87640" y="5589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lfae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lfaen"/>
              </a:rPr>
              <a:t>dale tu rit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Nada%20te%20turbe%20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555920" y="35956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Sylfaen"/>
              </a:rPr>
              <a:t>Quédate en silencio delante del Señor ..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2362320"/>
            <a:ext cx="66596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Olvida tus ideas, tus palabra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olvida tus recuerdos, tus deseos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tus peticiones, tus proyectos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sólo entiéndele y escúcha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Sylfaen"/>
                <a:ea typeface="Times New Roman"/>
              </a:rPr>
              <a:t>sin que el ruido de tus voces interiores te distraiga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0"/>
            <a:ext cx="74674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Quédate en paz ante Él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abandona en É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toda angustia, toda turbación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todo temor, toda preocupació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…</a:t>
            </a: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..olvídalo to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323640" y="4220640"/>
            <a:ext cx="8210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Quédate sin atadura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libre de tus dese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pobre como la madera muerta en invier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99ccff"/>
                </a:solidFill>
                <a:latin typeface="Sylfaen"/>
              </a:rPr>
              <a:t>vací@ de todo cuanto no sea Él.</a:t>
            </a:r>
            <a:r>
              <a:rPr b="1" i="1" lang="es-ES_tradnl" sz="3600" spc="-1" strike="noStrike">
                <a:solidFill>
                  <a:srgbClr val="99ccff"/>
                </a:solidFill>
                <a:latin typeface="Sylfa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300"/>
                            </p:stCondLst>
                            <p:childTnLst>
                              <p:par>
                                <p:cTn id="11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0" r="0" b="3756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0"/>
            <a:ext cx="914400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Quédate sol@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sin nadie más en tu corazón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ni nada en tu pensamiento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que ninguna criatura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00"/>
                </a:solidFill>
                <a:latin typeface="Sylfaen"/>
                <a:ea typeface="Arial"/>
              </a:rPr>
              <a:t>se interponga entre Dios y Tú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28440" y="-38160"/>
            <a:ext cx="9200880" cy="6934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626920" y="115920"/>
            <a:ext cx="6372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Quédate sin queja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in estorbos, sin apegos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in “hu</a:t>
            </a:r>
            <a:r>
              <a:rPr b="1" i="1" lang="es-ES_tradnl" sz="4000" spc="-1" strike="noStrike">
                <a:solidFill>
                  <a:srgbClr val="ffff21"/>
                </a:solidFill>
                <a:latin typeface="Sylfaen"/>
                <a:ea typeface="Arial"/>
              </a:rPr>
              <a:t>é</a:t>
            </a: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pedes” extraño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21"/>
                </a:solidFill>
                <a:latin typeface="Sylfaen"/>
                <a:ea typeface="Arial"/>
              </a:rPr>
              <a:t>sin nada que no sea É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3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3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600"/>
                            </p:stCondLst>
                            <p:childTnLst>
                              <p:par>
                                <p:cTn id="14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" dur="3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3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-360" y="2209320"/>
            <a:ext cx="937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Quédate enter@, sin más recuerdo que Di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sin buscar consuelos humano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“</a:t>
            </a: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sepultad@” con Él y en </a:t>
            </a:r>
            <a:r>
              <a:rPr b="1" i="1" lang="es-ES_tradnl" sz="3600" spc="-1" strike="noStrike">
                <a:solidFill>
                  <a:srgbClr val="ff0000"/>
                </a:solidFill>
                <a:latin typeface="Sylfaen"/>
                <a:ea typeface="Arial"/>
              </a:rPr>
              <a:t>É</a:t>
            </a: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l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desapareciendo t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00"/>
                </a:solidFill>
                <a:latin typeface="Sylfaen"/>
                <a:ea typeface="Arial"/>
              </a:rPr>
              <a:t>para hacerte don en su Espírit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3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7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3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2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3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3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3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91520" cy="68961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58920" y="736200"/>
            <a:ext cx="83167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Quédate sin tristez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sin resentimient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sin orgull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ccff"/>
                </a:solidFill>
                <a:latin typeface="Sylfaen"/>
                <a:ea typeface="Arial"/>
              </a:rPr>
              <a:t>sin falsas imágenes de ti mism@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Sylfaen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2514600"/>
            <a:ext cx="8686800" cy="414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Sylfaen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6699"/>
                </a:solidFill>
                <a:latin typeface="Sylfaen"/>
                <a:ea typeface="Arial"/>
              </a:rPr>
              <a:t>Quédate a la escucha de su Palabra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99"/>
                </a:solidFill>
                <a:latin typeface="Sylfaen"/>
                <a:ea typeface="Arial"/>
              </a:rPr>
              <a:t>hazte Palabra y Voluntad suy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05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2400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Sylfaen"/>
                <a:ea typeface="Arial"/>
              </a:rPr>
              <a:t>Quédate sin poderes, sin privilegio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Sylfaen"/>
                <a:ea typeface="Arial"/>
              </a:rPr>
              <a:t>sin honores, sin prejuicios, sin ídolo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Sylfaen"/>
                <a:ea typeface="Times New Roman"/>
              </a:rPr>
              <a:t>y solo deja a Dios ser Di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14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20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4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2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360" y="260280"/>
            <a:ext cx="8820360" cy="66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Sylfaen"/>
              </a:rPr>
              <a:t>Nada te tur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Nada te turb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nada te esp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todo se pas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Dios no se mud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la pa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todo lo alcan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Quien a Dios tie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nada le fal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Solo Dios bas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Sylfaen"/>
                <a:hlinkClick r:id="rId1"/>
              </a:rPr>
              <a:t>Santa Teresa de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Sylfaen"/>
                <a:hlinkClick r:id="rId2"/>
              </a:rPr>
              <a:t>Avila</a:t>
            </a:r>
            <a:r>
              <a:rPr b="1" lang="es-ES" sz="24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Sylfaen"/>
              </a:rPr>
              <a:t>(1515-1582)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Sylfae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2920" y="3284640"/>
            <a:ext cx="88930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édate en adoración tan profu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e nada altere esa atenció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e ni penas ni go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Sylfaen"/>
                <a:ea typeface="Arial"/>
              </a:rPr>
              <a:t>quebranten ese total abandono en Él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3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8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44360" y="404640"/>
            <a:ext cx="882036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Arial"/>
              </a:rPr>
              <a:t>Quédate en silencio delante de Dios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Arial"/>
              </a:rPr>
              <a:t>desaparece t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Arial"/>
              </a:rPr>
              <a:t>y que sólo Él sea en ti.</a:t>
            </a:r>
            <a:r>
              <a:rPr b="1" lang="en-US" sz="4400" spc="-1" strike="noStrike">
                <a:solidFill>
                  <a:srgbClr val="3333cc"/>
                </a:solidFill>
                <a:latin typeface="Sylfae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1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63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7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6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3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ffff"/>
                </a:solidFill>
                <a:latin typeface="Sylfaen"/>
              </a:rPr>
              <a:t>“</a:t>
            </a:r>
            <a:r>
              <a:rPr b="1" i="1" lang="es-ES" sz="4400" spc="-1" strike="noStrike">
                <a:solidFill>
                  <a:srgbClr val="ccffff"/>
                </a:solidFill>
                <a:latin typeface="Sylfaen"/>
              </a:rPr>
              <a:t>Quédate en silenc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ffff"/>
                </a:solidFill>
                <a:latin typeface="Sylfaen"/>
              </a:rPr>
              <a:t>delante del Señor ...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76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cmd type="call" cmd="">
                                      <p:cBhvr>
                                        <p:cTn id="28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960280" y="5334120"/>
            <a:ext cx="5932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Sylfaen"/>
              </a:rPr>
              <a:t>“</a:t>
            </a:r>
            <a:r>
              <a:rPr b="1" i="1" lang="es-ES" sz="3600" spc="-1" strike="noStrike">
                <a:solidFill>
                  <a:srgbClr val="ccffff"/>
                </a:solidFill>
                <a:latin typeface="Sylfaen"/>
              </a:rPr>
              <a:t>Quédate en silencio ..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91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3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952880" y="5334120"/>
            <a:ext cx="38102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ffff"/>
                </a:solidFill>
                <a:latin typeface="Sylfaen"/>
                <a:ea typeface="Times New Roman"/>
              </a:rPr>
              <a:t>“</a:t>
            </a:r>
            <a:r>
              <a:rPr b="1" i="1" lang="es-ES" sz="3600" spc="-1" strike="noStrike">
                <a:solidFill>
                  <a:srgbClr val="ccffff"/>
                </a:solidFill>
                <a:latin typeface="Sylfaen"/>
                <a:ea typeface="Times New Roman"/>
              </a:rPr>
              <a:t>Quédate..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9072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258920" y="2565000"/>
            <a:ext cx="7278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3300"/>
                </a:solidFill>
                <a:latin typeface="Sylfaen"/>
              </a:rPr>
              <a:t>“</a:t>
            </a:r>
            <a:r>
              <a:rPr b="1" i="1" lang="es-ES" sz="4800" spc="-1" strike="noStrike">
                <a:solidFill>
                  <a:srgbClr val="cc3300"/>
                </a:solidFill>
                <a:latin typeface="Sylfaen"/>
              </a:rPr>
              <a:t>Quédate en silencio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cc3300"/>
                </a:solidFill>
                <a:latin typeface="Sylfaen"/>
              </a:rPr>
              <a:t>delante del Señor ..."</a:t>
            </a:r>
            <a:r>
              <a:rPr b="1" i="1" lang="es-ES" sz="48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cc3300"/>
                </a:solidFill>
                <a:latin typeface="Sylfaen"/>
              </a:rPr>
              <a:t>(Salmo 37, 7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lfaen"/>
              </a:rPr>
              <a:t>Música: “Nada te turbe”  Tai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lfaen"/>
              </a:rPr>
              <a:t>Let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Nada te turbe, nada te esp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Quien a Dios tiene nada le f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Nada te turbe, nada te esp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Sólo Dios basta. (Se rep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2ª 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Todo se pasa, Dios no se mu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lfaen"/>
              </a:rPr>
              <a:t>La paciencia todo lo alca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Sylfae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Sylfae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6858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Sylfaen"/>
                <a:ea typeface="Times New Roman"/>
              </a:rPr>
              <a:t>Hay demasiados “ruidos” en ti ...</a:t>
            </a:r>
            <a:r>
              <a:rPr b="0" lang="es-ES_tradnl" sz="44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7640" y="3141720"/>
            <a:ext cx="77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e200"/>
                </a:solidFill>
                <a:latin typeface="Sylfaen"/>
                <a:ea typeface="Times New Roman"/>
              </a:rPr>
              <a:t>... “escucha” en lo profundo de tu ser 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7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</p:pic>
      <p:sp>
        <p:nvSpPr>
          <p:cNvPr id="259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3300"/>
                </a:solidFill>
                <a:latin typeface="Sylfaen"/>
                <a:ea typeface="Times New Roman"/>
              </a:rPr>
              <a:t>Hay demasiadas “preocupaciones”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3300"/>
                </a:solidFill>
                <a:latin typeface="Sylfaen"/>
                <a:ea typeface="Times New Roman"/>
              </a:rPr>
              <a:t>en tu mente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2860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0000"/>
                </a:solidFill>
                <a:latin typeface="Sylfaen"/>
                <a:ea typeface="Times New Roman"/>
              </a:rPr>
              <a:t>... y demasiado “peso” en tu corazón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800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05"/>
                </a:solidFill>
                <a:latin typeface="Sylfaen"/>
                <a:ea typeface="Times New Roman"/>
              </a:rPr>
              <a:t>... “escucha” en lo profundo de tu ser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916360" y="2895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Sylfaen"/>
                <a:ea typeface="Times New Roman"/>
              </a:rPr>
              <a:t>... quédate  a solas ..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49626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Sylfaen"/>
                <a:ea typeface="Times New Roman"/>
              </a:rPr>
              <a:t>... y “escucha” en lo profundo de t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5400" y="1219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Sylfaen"/>
                <a:ea typeface="Times New Roman"/>
              </a:rPr>
              <a:t>... entra en tu “aposento” 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4648320"/>
            <a:ext cx="7859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ff66"/>
                </a:solidFill>
                <a:latin typeface="Sylfaen"/>
                <a:ea typeface="Times New Roman"/>
              </a:rPr>
              <a:t>... solo “escucha” en lo profundo de t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4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“</a:t>
            </a: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El Señor está en tí y aqu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 </a:t>
            </a:r>
            <a:r>
              <a:rPr b="0" lang="es-ES_tradnl" sz="4800" spc="-1" strike="noStrike">
                <a:solidFill>
                  <a:srgbClr val="ff9933"/>
                </a:solidFill>
                <a:latin typeface="Sylfaen"/>
                <a:ea typeface="Times New Roman"/>
              </a:rPr>
              <a:t>y te llama ..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417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Sylfaen"/>
                <a:ea typeface="Times New Roman"/>
              </a:rPr>
              <a:t>... te ama y te espera 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572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ff66"/>
                </a:solidFill>
                <a:latin typeface="Sylfaen"/>
                <a:ea typeface="Times New Roman"/>
              </a:rPr>
              <a:t>... “escúchale” en lo más profundo de tu ser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600"/>
                            </p:stCondLst>
                            <p:childTnLst>
                              <p:par>
                                <p:cTn id="68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6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3:30:25Z</dcterms:created>
  <dc:creator>a</dc:creator>
  <dc:description/>
  <dc:language>en-US</dc:language>
  <cp:lastModifiedBy>WinuE</cp:lastModifiedBy>
  <dcterms:modified xsi:type="dcterms:W3CDTF">2008-08-22T16:12:48Z</dcterms:modified>
  <cp:revision>6</cp:revision>
  <dc:subject/>
  <dc:title>Diapositiva 1</dc:title>
</cp:coreProperties>
</file>