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6F9-16EC-4F95-94F2-333C05C2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DC0-B179-4F2A-A6D2-CE6403DA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1AA-6C68-4E27-A8EB-CF57C99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0B9-E2AE-46EB-8702-E8A16011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95E-EF8D-4088-8ADB-AF6BF88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A23-2CF5-4D94-BBB3-902BF376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257-DB32-4B8D-B28F-7ED190D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BA9-7FC2-4056-8F7C-39DF96B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B94-D473-4830-B981-956870B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6A8-01A6-43E7-9F31-81A7541E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926-92B7-4AE7-9273-C0A8A43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964-7B71-41B4-8926-2F9CD72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6E4C-338B-4E03-9D6C-4CC81A074D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c01_2241349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j021409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c05_2241313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c08_22412603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c13_2241420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c17_2241413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c18_22414205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c20_2241470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Marcador de contenido" descr="c22_2241505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03:15Z</dcterms:created>
  <dc:creator>MARIPILI</dc:creator>
  <dc:description/>
  <dc:language>en-US</dc:language>
  <cp:lastModifiedBy>MARIPILI</cp:lastModifiedBy>
  <dcterms:modified xsi:type="dcterms:W3CDTF">2010-03-01T21:08:41Z</dcterms:modified>
  <cp:revision>1</cp:revision>
  <dc:subject/>
  <dc:title>Diapositiva 1</dc:title>
</cp:coreProperties>
</file>