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4A8-A342-4189-8073-E9A9233C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559-9A8C-4375-A5B9-AA89DE5A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9F6-A832-4C13-9A59-19E05D68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779-E68B-4780-A68C-A91B694C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D7D-3193-47BA-BA2E-14E8BE01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AD9-2208-4737-A474-B84D97CD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E4C-61FD-4A90-9613-0D296A19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904-88EF-45CC-8C56-901DAD0C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7EC-D0E5-4449-A0BE-0E584E40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6FD-0ED7-424C-A31A-ACBCE3A7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B85-7713-4DF7-85AF-50F1C65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CD0-3819-4ED8-91EA-E0A9C33F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A636-D3AD-4304-800C-C1E322DF285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c01_2241349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c05_2241313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c08_22412603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c13_2241420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c17_2241413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c18_2241420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Marcador de contenido" descr="c20_2241470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Marcador de contenido" descr="c22_2241505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1:03:15Z</dcterms:created>
  <dc:creator>MARIPILI</dc:creator>
  <dc:description/>
  <dc:language>en-US</dc:language>
  <cp:lastModifiedBy>MARIPILI</cp:lastModifiedBy>
  <dcterms:modified xsi:type="dcterms:W3CDTF">2010-03-01T21:08:41Z</dcterms:modified>
  <cp:revision>1</cp:revision>
  <dc:subject/>
  <dc:title>Diapositiva 1</dc:title>
</cp:coreProperties>
</file>