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gif" ContentType="image/gif"/>
  <Override PartName="/ppt/media/image2.jpeg" ContentType="image/jpeg"/>
  <Override PartName="/ppt/media/-%20Alfredo%20Kraus%20-%20La%20dolorosa%20-%20(lorente%20-%20serrano)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F7A-9B8C-4A34-B6B0-B789C87D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8D49-1D84-4398-BCD4-96D32FA4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94E8-7A1E-4F8D-880F-36AB5B66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6B8-4E6E-44B7-A09C-AFBEF5EC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7C7-9579-4A34-AF88-9FE8565A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396-D301-44AA-8592-07701429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3842-8729-42AA-8FE2-16750457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1BB-BEE2-4997-92F2-1CB3ECDB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13B-0837-4D3A-980E-AD6192A6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1B40-F07C-4C6E-A222-95E4F9A5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624-7B98-4026-BA72-2C77F662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1FD4-F2C3-4465-B794-98A1732D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D011-8D11-46A5-B83E-CBD2B6755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-%20Alfredo%20Kraus%20-%20La%20dolorosa%20-%20(lorente%20-%20serrano)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826920" y="3141720"/>
            <a:ext cx="7561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5724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(Relato de Rafael)</a:t>
            </a:r>
            <a:endParaRPr b="0" lang="en-US" sz="2800" spc="1" strike="noStrike">
              <a:ln w="5724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403280" y="5734080"/>
            <a:ext cx="6480360" cy="44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5724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 </a:t>
            </a:r>
            <a:endParaRPr b="0" lang="en-US" sz="1400" spc="1" strike="noStrike">
              <a:ln w="5724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3" name="Picture 6" descr="speakers_e0"/>
          <p:cNvPicPr/>
          <p:nvPr/>
        </p:nvPicPr>
        <p:blipFill>
          <a:blip r:embed="rId1"/>
          <a:stretch/>
        </p:blipFill>
        <p:spPr>
          <a:xfrm>
            <a:off x="3924360" y="6308640"/>
            <a:ext cx="1353960" cy="406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59280" y="6237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(Presentación automática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5640" y="189000"/>
            <a:ext cx="7777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7575"/>
                    </a:gs>
                    <a:gs pos="50000">
                      <a:srgbClr val="ccffff"/>
                    </a:gs>
                    <a:gs pos="100000">
                      <a:srgbClr val="5e7575"/>
                    </a:gs>
                  </a:gsLst>
                  <a:lin ang="10800000"/>
                </a:gradFill>
                <a:latin typeface="Arial Black"/>
              </a:rPr>
              <a:t>La Doloros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7575"/>
                  </a:gs>
                  <a:gs pos="50000">
                    <a:srgbClr val="ccffff"/>
                  </a:gs>
                  <a:gs pos="100000">
                    <a:srgbClr val="5e7575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1258920" y="4221000"/>
            <a:ext cx="66978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Canta : Alfredo Kra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987640" y="5013360"/>
            <a:ext cx="56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ombra peregr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mblema del dolor hecho lu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87280" y="5516640"/>
            <a:ext cx="777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mina, camina, lig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el Hijo la espera muerto en la Cru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59280" y="5484960"/>
            <a:ext cx="33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ivina estrella sobre la huella del humano d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100400" cy="6440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19640" y="3141720"/>
            <a:ext cx="5724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riste camina, camina, llor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 Madre Dolorosa del Reden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630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Marzo d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4537080" cy="4154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76720" y="2997360"/>
            <a:ext cx="496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roca fría del Calv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 oculta en negra nub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170920" cy="6127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1557360"/>
            <a:ext cx="431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 un sendero soli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Virgen-Madre s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906 0.13575 L 0.42535 0.4505 E">
                                      <p:cBhvr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6229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mina y en su cara moren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r de azu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ha perdido el 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8360" y="314172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su pecho lac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6440" y="85680"/>
            <a:ext cx="5002200" cy="666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3280" y="263700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 han clav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espinas del d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4240" y="136440"/>
            <a:ext cx="5992560" cy="6415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580000" y="321300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 cuerpo vacil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752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84720" y="2924280"/>
            <a:ext cx="4859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 dobla al peso de la p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o sigue adel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94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19640" cy="4753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771640" y="1773360"/>
            <a:ext cx="637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amina y sus labios de hi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besan al suelo donde brota una fl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n cada gota de sangre derram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or Jesús el Reden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7:28:34Z</dcterms:created>
  <dc:creator>José Rubí Carrera</dc:creator>
  <dc:description/>
  <dc:language>en-US</dc:language>
  <cp:lastModifiedBy>Fundaccion</cp:lastModifiedBy>
  <dcterms:modified xsi:type="dcterms:W3CDTF">2010-03-24T13:16:15Z</dcterms:modified>
  <cp:revision>31</cp:revision>
  <dc:subject/>
  <dc:title>Diapositiva 1</dc:title>
</cp:coreProperties>
</file>