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2.jpeg" ContentType="image/jpeg"/>
  <Override PartName="/ppt/media/-%20Alfredo%20Kraus%20-%20La%20dolorosa%20-%20(lorente%20-%20serrano)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4D8-DABC-4F55-87C7-CB3FE2F2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EC9-9976-423A-A238-F5348675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9EA-5B5F-45B2-8B40-928009F6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23B-D81B-48EB-828B-02C1EABB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2D8-6D27-4EDE-B50C-ECAE887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B03-733D-4CF7-BEA0-2C5E6BFF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7EC-8719-4389-805B-1E4E07C3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BD3-8375-40B8-A7B8-F4506D35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55D-24D3-416A-AFA9-109DB86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411-1DBD-4D1D-BD22-15E4B7D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BDD-86FB-46AE-8B15-17B9BB7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2E-861A-4C38-A8E6-5FBD7CE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002F-1DDF-48BE-A9E7-C1EC9E2FC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-%20Alfredo%20Kraus%20-%20La%20dolorosa%20-%20(lorente%20-%20serrano)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3141720"/>
            <a:ext cx="7561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572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(Relato de Rafael)</a:t>
            </a:r>
            <a:endParaRPr b="0" lang="en-US" sz="2800" spc="1" strike="noStrike">
              <a:ln w="572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5734080"/>
            <a:ext cx="648036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572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400" spc="1" strike="noStrike">
              <a:ln w="572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3" name="Picture 6" descr="speakers_e0"/>
          <p:cNvPicPr/>
          <p:nvPr/>
        </p:nvPicPr>
        <p:blipFill>
          <a:blip r:embed="rId1"/>
          <a:stretch/>
        </p:blipFill>
        <p:spPr>
          <a:xfrm>
            <a:off x="3924360" y="6308640"/>
            <a:ext cx="1353960" cy="40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59280" y="623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(Presentación automática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89000"/>
            <a:ext cx="7777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7575"/>
                    </a:gs>
                    <a:gs pos="50000">
                      <a:srgbClr val="ccffff"/>
                    </a:gs>
                    <a:gs pos="100000">
                      <a:srgbClr val="5e7575"/>
                    </a:gs>
                  </a:gsLst>
                  <a:lin ang="10800000"/>
                </a:gradFill>
                <a:latin typeface="Arial Black"/>
              </a:rPr>
              <a:t>La Doloros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7575"/>
                  </a:gs>
                  <a:gs pos="50000">
                    <a:srgbClr val="ccffff"/>
                  </a:gs>
                  <a:gs pos="100000">
                    <a:srgbClr val="5e7575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258920" y="4221000"/>
            <a:ext cx="66978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anta : Alfredo Kra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87640" y="5013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ombra pereg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mblema del dolor hecho l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87280" y="5516640"/>
            <a:ext cx="777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ina, camina, lig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el Hijo la espera muerto en la Cr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59280" y="5484960"/>
            <a:ext cx="33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ivina estrella sobre la huella del humano d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0400" cy="644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19640" y="3141720"/>
            <a:ext cx="572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riste camina, camina, llo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Madre Dolorosa del Reden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63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rzo d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537080" cy="415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76720" y="2997360"/>
            <a:ext cx="49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oca fría del Calv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oculta en negra nu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70920" cy="612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557360"/>
            <a:ext cx="43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 un sendero sol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Virgen-Madre s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06 0.13575 L 0.42535 0.4505 E">
                                      <p:cBhvr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622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ina y en su cara more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r de azu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ha perdido el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8360" y="314172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su pecho lac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6440" y="85680"/>
            <a:ext cx="5002200" cy="666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3280" y="263700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han clav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espinas del d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240" y="136440"/>
            <a:ext cx="5992560" cy="64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80000" y="32130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 cuerpo vaci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2924280"/>
            <a:ext cx="485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dobla al peso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o sigue adel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3333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9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475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71640" y="1773360"/>
            <a:ext cx="63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amina y sus labios de hi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besan al suelo donde brota una fl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 cada gota de sangre derra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r Jesús el Reden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7:28:34Z</dcterms:created>
  <dc:creator>José Rubí Carrera</dc:creator>
  <dc:description/>
  <dc:language>en-US</dc:language>
  <cp:lastModifiedBy>Fundaccion</cp:lastModifiedBy>
  <dcterms:modified xsi:type="dcterms:W3CDTF">2010-03-24T13:16:15Z</dcterms:modified>
  <cp:revision>31</cp:revision>
  <dc:subject/>
  <dc:title>Diapositiva 1</dc:title>
</cp:coreProperties>
</file>