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1C8-D5BB-48B8-B4B3-8357DBD8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2F8-2F7E-4B74-B6CD-3BB8D94B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CAE-454C-48E7-984C-BB260FE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325-E823-45F7-B44C-79DEB7F4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EB9-E42E-4F6B-A49C-2DD9CAF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C37-701C-4C0D-A83D-471E3770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138-8774-4791-A26C-65CE05F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1C4-D50E-466E-88CB-2731A01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A0D-7AF2-4FC5-BFE1-2E6E92B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CF1-19A1-4D90-A15E-1E4DD192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F68-E60A-40FE-AB9E-1AE3EA7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553-6364-42D9-87C8-97CF445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C12-70B0-4D71-A16D-38687ADB38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se un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bía una vez una isla, en la que vivian todos los sentimientos y valores del homb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Buen Humor, la Tristeza, la Sabiduría...  Como también todos los demás, incluso el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4DE-B7A3-4812-9B27-108293687C18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32148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ién envialo a cualquiera que tú consideres un AMIGO, también si puedes  regresamelo. Si este mensaje regresa a mi, puedo estar seguro que mi “círculo” de amistades está formado por verdade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a este mensaje a tus amigos para que sepan cuán importantes son para tí !, y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engas ganas de olvi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354-02CC-4D34-9D9F-DC8C2362F94E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i no lo envías a nadie querrá dec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ienes tiempo y que has olvidado a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Al menos por el Mome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7C3-AFC4-4116-ACF2-DF8FA0846C2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n día se anunció a los sentimientos que la isla estaba por hundi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todos prepararon sus barcos y partieron. Unicamente el Amor quedó esperando solo, hasta el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a isla estuvo a punto de hundirse, el Amor decidió pedir ay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029-F336-445B-942D-DBC54AC1FAD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a Riqueza pasó cerca del Amor en una barca lujosísima y el Amor le dij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¿me puedes llevar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porque tengo mucho oro y plata dentro de mi barca y no hay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1A2-4B2A-4C42-8E4B-6A5C37D09D5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ecidió pedirle al Orgullo que estaba pasando en un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lo te ruego, ¿puedes llevar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llevarte, Amor..." respondió  el Orgullo: “aqui  todo es perfecto, podrías aruinar mi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D55-C695-4F19-9F22-B038845077F8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ijo a la Tristeza que se estaba acerc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lo pido, déja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ió la Tristeza, “estoy tan triste que necesito estar sol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03A-CD35-4F30-BC21-8CE8EDF64B2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uego el Buen Humor pasó frente al Amor; pero estaba tan contento que no sintió que lo estaban ll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F12-96BA-43D3-9ACD-839997621AAB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na voz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n Amor, te llevo con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n viejo el que lo había ll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sintió tan contento y lleno de gozo que se olvidó de preguntar el nombre al vie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legó a tierra firme, el viejo se f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6E6-A728-4367-B06D-018EB59FE92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dió cuenta de cuanto le debía y le preguntó al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¿puedes decirme quién me ayudó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 sido el Tiempo” respondió el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A47E-14C5-4C30-A8D1-E3884E407C2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El Tiempo?" se preguntó el Am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Por qué será que el Tiempo me ha ayudado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Saber lleno de sabiduría respondió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Porque solo el Tiempo es capaz de comprender cuan importante es el Amor en la vida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D60-3BE8-4622-A017-04BA78CD9917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User</cp:lastModifiedBy>
  <dcterms:modified xsi:type="dcterms:W3CDTF">2007-08-07T16:39:42Z</dcterms:modified>
  <cp:revision>25</cp:revision>
  <dc:subject/>
  <dc:title>Presentazione di PowerPoint</dc:title>
</cp:coreProperties>
</file>