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AC8-E97E-4258-B959-A03A1855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A75-AA25-4BB9-97F6-7FDE6EA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2F0-A369-4FC6-8C94-CE52BD6B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2D7-1D7D-41A1-B8AB-3F3EA3F4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308-B674-445A-AC7F-1B49E76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DA5-5842-429C-AE4A-77EAFAF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3D8-1C74-4916-A4FE-E6917B6C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58F-7C2F-4FD9-B057-1BF49331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4F7-5725-4E80-9077-130878D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08F-AB44-4A9A-831A-F350986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099-FC7B-43B4-83BE-718B55F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2B9-2E45-4FDD-9EB1-967F8378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12A-8A65-4B4F-A9C6-BA278A4076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se un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51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bía una vez una isla, en la que vivian todos los sentimientos y valores del homb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Buen Humor, la Tristeza, la Sabiduría...  Como también todos los demás, incluso el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35C-7E38-4461-97D3-CBD227396C9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321480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ién envialo a cualquiera que tú consideres un AMIGO, también si puedes  regresamelo. Si este mensaje regresa a mi, puedo estar seguro que mi “círculo” de amistades está formado por verdade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a este mensaje a tus amigos para que sepan cuán importantes son para tí !, y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engas ganas de olvid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709-8F08-4B67-BBC0-8A65C1E77D8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i no lo envías a nadie querrá dec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que no tienes tiempo y que has olvidado a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Al menos por el Mome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8203-67CA-46C4-8D70-7BDE86E5278E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n día se anunció a los sentimientos que la isla estaba por hundi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todos prepararon sus barcos y partieron. Unicamente el Amor quedó esperando solo, hasta el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a isla estuvo a punto de hundirse, el Amor decidió pedir ay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18C-2780-4E48-8066-58B5CD7D2519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a Riqueza pasó cerca del Amor en una barca lujosísima y el Amor le dij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¿me puedes llevar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porque tengo mucho oro y plata dentro de mi barca y no hay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F474-AEC9-4A11-95EE-9F2A84432D1E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ecidió pedirle al Orgullo que estaba pasando en un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lo te ruego, ¿puedes llevar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o puedo llevarte, Amor..." respondió  el Orgullo: “aqui  todo es perfecto, podrías aruinar mi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581-ED1B-4C9D-8D82-9F423E82A324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onces el Amor dijo a la Tristeza que se estaba acerc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lo pido, déja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ió la Tristeza, “estoy tan triste que necesito estar sol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27AE-BAF4-45D8-8A33-ACED06DF72F0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Luego el Buen Humor pasó frente al Amor; pero estaba tan contento que no sintió que lo estaban ll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D8C-EAF0-4CD3-AA32-0F7A728DBE3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na voz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n Amor, te llevo con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n viejo el que lo había ll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sintió tan contento y lleno de gozo que se olvidó de preguntar el nombre al vie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Cuando llegó a tierra firme, el viejo se f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AE88-7FFB-4BF5-B806-C94F270627FB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Amor se dió cuenta de cuanto le debía y le preguntó al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¿puedes decirme quién me ayudó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 sido el Tiempo” respondió el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BAD-DC0E-4DCB-BA4D-634A8B18E218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El Tiempo?" se preguntó el Am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¿Por qué será que el Tiempo me ha ayudado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l Saber lleno de sabiduría respondió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Porque solo el Tiempo es capaz de comprender cuan importante es el Amor en la vida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4382-38A3-4271-B641-087BB965BB76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User</cp:lastModifiedBy>
  <dcterms:modified xsi:type="dcterms:W3CDTF">2007-08-07T16:39:42Z</dcterms:modified>
  <cp:revision>25</cp:revision>
  <dc:subject/>
  <dc:title>Presentazione di PowerPoint</dc:title>
</cp:coreProperties>
</file>