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nfantil%202%20-%20Jingle%20bell.wav" ContentType="audio/x-wav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492360" y="1125360"/>
            <a:ext cx="2583000" cy="3873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572000" y="4695840"/>
            <a:ext cx="936720" cy="754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>
            <a:lum contrast="20000"/>
          </a:blip>
          <a:stretch/>
        </p:blipFill>
        <p:spPr>
          <a:xfrm rot="3423000">
            <a:off x="4934160" y="5181480"/>
            <a:ext cx="647640" cy="5745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3851280" y="4581360"/>
            <a:ext cx="1295280" cy="10130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>
            <a:lum contrast="20000"/>
          </a:blip>
          <a:stretch/>
        </p:blipFill>
        <p:spPr>
          <a:xfrm rot="3423000">
            <a:off x="5186880" y="4829760"/>
            <a:ext cx="574920" cy="509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>
            <a:lum contrast="10000"/>
          </a:blip>
          <a:stretch/>
        </p:blipFill>
        <p:spPr>
          <a:xfrm>
            <a:off x="4788000" y="522936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Infantil%202%20-%20Jingle%20be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png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png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hyperlink" Target="http://flori_jane.sites.uol.com.br/index.htm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692280"/>
            <a:ext cx="52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amos preparar nossa Árvore de Na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249228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amos fazê-la muito lind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3844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33336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amos pendurar todos os abraços que recebemo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83664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Arial"/>
              </a:rPr>
              <a:t>Bolinhas vermelhas do amor que recebemos de nossos amigo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70828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98900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xit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384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404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olinhas verdes representando a nossa esperança para o próximo an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836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olinhas amarelas... Encher delas... Pela grana que precisa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198900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70828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2720" y="4221000"/>
            <a:ext cx="287280" cy="289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23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4365720"/>
            <a:ext cx="287640" cy="28872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23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172080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51640" y="299736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306864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3844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172080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51640" y="299736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306864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198900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270828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532720" y="4221000"/>
            <a:ext cx="287280" cy="289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23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33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Arial"/>
              </a:rPr>
              <a:t>Bolinhas azuis e rosas... Representando nossos amigos e amiga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83664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ilhares de estrelas para iluminar os nossos dias e nossas noit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40000" y="2349360"/>
            <a:ext cx="2158920" cy="4145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95640" y="234936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5b36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797360"/>
            <a:ext cx="287640" cy="2890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29272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774072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84328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651640" y="177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8172360" y="227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7164360" y="1557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24000" y="1628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1187280" y="119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xit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38440" cy="3657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17208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51640" y="299736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06864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198900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270828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32720" y="4221000"/>
            <a:ext cx="287280" cy="289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23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340000" y="2349360"/>
            <a:ext cx="2158920" cy="4145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95640" y="234936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5b36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4797360"/>
            <a:ext cx="287640" cy="2890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29272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74072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84328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5651640" y="177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8172360" y="227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7164360" y="1557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62064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 bem no alto...um pedi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4716360" y="3135240"/>
            <a:ext cx="1530360" cy="3722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0247400">
            <a:off x="4714560" y="2275920"/>
            <a:ext cx="1511280" cy="9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66ff"/>
              </a:gs>
              <a:gs pos="100000">
                <a:srgbClr val="38388e"/>
              </a:gs>
            </a:gsLst>
            <a:lin ang="194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997000">
            <a:off x="4716000" y="234936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Que nossa amizade dure para semp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324000" y="1628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1187280" y="119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19560" cy="4178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119400" cy="433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38440" cy="3657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172080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51640" y="2997360"/>
            <a:ext cx="287280" cy="288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306864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5b5b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1989000"/>
            <a:ext cx="28764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270828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2720" y="4221000"/>
            <a:ext cx="287280" cy="2890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2362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340000" y="2349360"/>
            <a:ext cx="2158920" cy="414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95640" y="234936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5b36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97360"/>
            <a:ext cx="287640" cy="2890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0049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29272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74072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284328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5651640" y="177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8172360" y="227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7164360" y="1557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4716360" y="3135240"/>
            <a:ext cx="1530360" cy="372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0247400">
            <a:off x="4716000" y="2275920"/>
            <a:ext cx="1511280" cy="936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66ff"/>
              </a:gs>
              <a:gs pos="100000">
                <a:srgbClr val="38388e"/>
              </a:gs>
            </a:gsLst>
            <a:lin ang="194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997000">
            <a:off x="4716000" y="234936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Que nossa amizade dure para semp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324000" y="1628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1187280" y="119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5"/>
          <a:stretch/>
        </p:blipFill>
        <p:spPr>
          <a:xfrm>
            <a:off x="395280" y="404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21241800">
            <a:off x="1692360" y="620640"/>
            <a:ext cx="3024000" cy="520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Feliz Nat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32200">
            <a:off x="4642920" y="980640"/>
            <a:ext cx="3383280" cy="520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Feliz Ano Nov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65167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flori_jane.sites.uol.com.b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20:56:20Z</dcterms:created>
  <dc:creator>Ria Ellwanger      riaellw@globo.com</dc:creator>
  <dc:description>Desconheço o autor do texto, recebido em e-mail</dc:description>
  <dc:language>en-US</dc:language>
  <cp:lastModifiedBy>Ria</cp:lastModifiedBy>
  <dcterms:modified xsi:type="dcterms:W3CDTF">2004-12-07T13:35:11Z</dcterms:modified>
  <cp:revision>10</cp:revision>
  <dc:subject>Categoria: Datas Especiais</dc:subject>
  <dc:title>Preparando a Árvore de Natal</dc:title>
</cp:coreProperties>
</file>