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F9C-4F63-43E4-B036-3430F945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300-A45B-47F5-A257-CE036747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1348-144E-4C83-B1C5-F96DF0E7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D22C-A380-48C1-A602-84B4C697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0CB-92A5-480E-885C-EEC00DC9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12F-5BED-44C7-8797-2A1B3E41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1E2-314A-4E47-B86F-5A9DCC18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F82-0268-4231-B7A9-29A5F4F4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D543-21CD-479A-8ECA-3AEFDAE8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EA0-578D-4FA4-B8F3-7A4708B7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BED-5DCD-449E-B0DE-8519DF13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83D-6BA8-47FB-85A8-0EB1D8D9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6AF3-3F65-4E9B-AFFB-E87FA6D3B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Elephant"/>
              </a:rPr>
              <a:t>SECUESTRO CH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exigencias del secuestrador y l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guientes negoc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negociaciones duran una se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todo este tiempo no se habla de otra cosa en el Parlamento, en las televisiones y en las emisoras de radio. Los tertulianos se forran discutiendo el tema y concediendo entrevi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 final, el secuestrador se entrega por aburrimiento y es detenido y recluido en Alcalá Me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 los 5 años: se celebra el juicio y el secuestrador es condenado a 15 años y un día. Apela a la Audiencia Provin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ño 8º: la Audiencia destima el recurso. El Secuestrador apela al Supre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ño 10º: el Supremo desestima el recurso. El Secuestrador apela al Constitu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ño 14º: el Constitucional declara nulo el juicio por defecto de forma. El Secuestrador sale de la cárcel y presenta una demanda contra el Estado por daños y perjui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Secuestrador gana la demanda y el Estado es condenado a resarcirlo con 120.000 Euros por cada año de cárcel, total 1.680.000 Eu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Secuestrador se convierte en la estrella de la televisión y concede más entrevistas que Belén Esteb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145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Arial Black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uración de la oper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4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ste a cargo del contribuy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peración rescate: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.230.000 E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 juici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842.000 E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4 años de cárce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530.000 E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demnizació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.680.000 E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282.000 E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3520" y="1828800"/>
          <a:ext cx="8153280" cy="2286000"/>
        </p:xfrm>
        <a:graphic>
          <a:graphicData uri="http://schemas.openxmlformats.org/drawingml/2006/table">
            <a:tbl>
              <a:tblPr/>
              <a:tblGrid>
                <a:gridCol w="2666880"/>
                <a:gridCol w="2590920"/>
                <a:gridCol w="289548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66ff33"/>
                          </a:solidFill>
                          <a:latin typeface="Arial Black"/>
                        </a:rPr>
                        <a:t>CH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S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URACION 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BL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15 minu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STE PA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NTRIBUY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0,70 Eu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282.000 Eu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1905120" y="4419720"/>
            <a:ext cx="6400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0000ff"/>
                </a:solidFill>
                <a:latin typeface="Brush Script MT"/>
              </a:rPr>
              <a:t>¡Pol algo chinitos vendel tan balato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ngo tres exigencias o el rehén muer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671480"/>
            <a:ext cx="727236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lega un experto medi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63272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mediador aparece en es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omienzan las negoci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434960"/>
            <a:ext cx="774072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yen las negoc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06436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resue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6125760"/>
            <a:ext cx="82296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4655880" cy="5456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98560" y="264960"/>
            <a:ext cx="748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45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ación de la oper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 min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e de la oper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balas de calibre 9, a 0,15 euros cada una, total 0,30 eu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stamos hablando de China, cla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45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En España es algo difere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vienen 30 geos, 50 municipales, 3 UVI móviles, un equipo de negociadores compuesto de piscólogos, sociólogos, especialistas de la policía científica, agentes del CNI, representantes de la Administración Central, Autonómica y Municipal, así como de los Sindicatos y de diversas O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monta un hospital de campañ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despliegan en la zona 30 reporteros de TV, 50 locutores de radio, 80 fotógrafos y 150 periodistas de diferentes me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22:50:32Z</dcterms:created>
  <dc:creator>yo</dc:creator>
  <dc:description/>
  <dc:language>en-US</dc:language>
  <cp:lastModifiedBy>JORGE</cp:lastModifiedBy>
  <dcterms:modified xsi:type="dcterms:W3CDTF">2009-12-17T08:27:18Z</dcterms:modified>
  <cp:revision>17</cp:revision>
  <dc:subject/>
  <dc:title>Secuestro chino</dc:title>
</cp:coreProperties>
</file>