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50BB-A58E-4413-8B14-8F45FCA63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7230-23B0-4C69-8D4E-C11DB483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6658-7704-4D54-97EE-E41F6C789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4F1D-2797-450D-AC89-3D475D33A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BAA8-B6D2-4E55-8409-24922C1A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CDBE-4231-41C1-9859-5738DA06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D941-FEE1-49E1-A81B-45356404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0739-2E8D-4192-98BD-C54B23A8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A9EC-1332-45B9-873E-8950D5D7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2990-0961-423A-B107-513761E5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010D-5E0A-437B-B400-698E31FE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2DD5-C2F8-4001-9658-E0EA0DD0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96FA-BD29-41FE-9255-8CD39934D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ff"/>
                </a:solidFill>
                <a:latin typeface="Elephant"/>
              </a:rPr>
              <a:t>SECUESTRO CH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exigencias del secuestrador y l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guientes negoci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547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s negociaciones duran una sem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todo este tiempo no se habla de otra cosa en el Parlamento, en las televisiones y en las emisoras de radio. Los tertulianos se forran discutiendo el tema y concediendo entrevis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l final, el secuestrador se entrega por aburrimiento y es detenido y recluido en Alcalá Me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547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 los 5 años: se celebra el juicio y el secuestrador es condenado a 15 años y un día. Apela a la Audiencia Provin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ño 8º: la Audiencia destima el recurso. El Secuestrador apela al Supre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ño 10º: el Supremo desestima el recurso. El Secuestrador apela al Constitu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ño 14º: el Constitucional declara nulo el juicio por defecto de forma. El Secuestrador sale de la cárcel y presenta una demanda contra el Estado por daños y perjuic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547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Secuestrador gana la demanda y el Estado es condenado a resarcirlo con 120.000 Euros por cada año de cárcel, total 1.680.000 Eu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Secuestrador se convierte en la estrella de la televisión y concede más entrevistas que Belén Esteb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145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 u="sng">
                <a:solidFill>
                  <a:srgbClr val="000000"/>
                </a:solidFill>
                <a:uFillTx/>
                <a:latin typeface="Arial Black"/>
              </a:rPr>
              <a:t>RES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uración de la oper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4 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ste a cargo del contribuy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peración rescate: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.230.000 E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 juicio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842.000 E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4 años de cárcel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530.000 E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ndemnización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.680.000 E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282.000 E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547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 u="sng">
                <a:solidFill>
                  <a:srgbClr val="000000"/>
                </a:solidFill>
                <a:uFillTx/>
                <a:latin typeface="Arial Black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33520" y="1828800"/>
          <a:ext cx="8153280" cy="2286000"/>
        </p:xfrm>
        <a:graphic>
          <a:graphicData uri="http://schemas.openxmlformats.org/drawingml/2006/table">
            <a:tbl>
              <a:tblPr/>
              <a:tblGrid>
                <a:gridCol w="2666880"/>
                <a:gridCol w="2590920"/>
                <a:gridCol w="2895480"/>
              </a:tblGrid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66ff33"/>
                          </a:solidFill>
                          <a:latin typeface="Arial Black"/>
                        </a:rPr>
                        <a:t>CH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SP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URACION D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BL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15 minu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añ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OSTE PA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ONTRIBUY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0,70 Eu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.282.000 Eu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1905120" y="4419720"/>
            <a:ext cx="6400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0000ff"/>
                </a:solidFill>
                <a:latin typeface="Brush Script MT"/>
              </a:rPr>
              <a:t>¡Pol algo chinitos vendel tan balato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ngo tres exigencias o el rehén muer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55640" y="1671480"/>
            <a:ext cx="727236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lega un experto medi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632720" cy="50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 mediador aparece en esc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698508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Comienzan las negoci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1434960"/>
            <a:ext cx="774072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yen las negoci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064360" cy="53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resuel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6125760"/>
            <a:ext cx="8229600" cy="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720" bIns="277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4655880" cy="5456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98560" y="264960"/>
            <a:ext cx="7483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45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ración de la opera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 min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e de la opera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balas de calibre 9, a 0,15 euros cada una, total 0,30 eu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stamos hablando de China, clar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145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Arial"/>
              </a:rPr>
              <a:t>En España es algo diferen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tervienen 30 geos, 50 municipales, 3 UVI móviles, un equipo de negociadores compuesto de piscólogos, sociólogos, especialistas de la policía científica, agentes del CNI, representantes de la Administración Central, Autonómica y Municipal, así como de los Sindicatos y de diversas O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monta un hospital de campañ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despliegan en la zona 30 reporteros de TV, 50 locutores de radio, 80 fotógrafos y 150 periodistas de diferentes me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22:50:32Z</dcterms:created>
  <dc:creator>yo</dc:creator>
  <dc:description/>
  <dc:language>en-US</dc:language>
  <cp:lastModifiedBy>JORGE</cp:lastModifiedBy>
  <dcterms:modified xsi:type="dcterms:W3CDTF">2009-12-17T08:27:18Z</dcterms:modified>
  <cp:revision>17</cp:revision>
  <dc:subject/>
  <dc:title>Secuestro chino</dc:title>
</cp:coreProperties>
</file>