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jeopardy.wav" ContentType="audio/x-wav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361-B740-4CFD-B2B4-FC7B888F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032-491F-4541-AE99-14F0B402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A9F-63BA-4B8D-BD22-C869F7FA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275-7B1B-4136-8D7B-C69102F4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4B580-2BA5-42D9-B39F-B456EEC3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242EE-7845-4940-BEBB-93C35933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015C5-A661-4A15-8A05-F983F8FC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C1DF4-78A2-473B-86DF-61FCBCEE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EF2C2-FA42-4588-AB39-CB565097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5B827-9693-4D4E-8232-E7E24937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5C91D-0DC4-4D9F-9650-F4A7E303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C2B-FA9E-4528-B6D3-75E7998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DA287-3111-42A6-8A37-625B25D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CEAF1-37C7-47E3-9B73-0016301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04EAE-B712-4973-8113-EB6F056F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3D2A4-133F-4EBD-BB3A-599F7F85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D0025-6C61-4C24-945C-420C3C3A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9A6-DAD8-45AD-BAD4-93C5D4BE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D8F-B763-4140-ADE0-7B9C8696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5B7-23B8-4CBF-9179-64D07E15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4EE-AB58-44B2-AEFB-37BF25CB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70B-06CA-48B2-878F-5207EEFE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ED8-5BBD-4A27-BE60-9A7934C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83A-2F5A-4C03-B1EB-84B81A30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633-242C-4EFA-AC43-038100A65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53D1-453A-4375-BDB7-03A93306E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ception T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498680" y="-27000"/>
            <a:ext cx="11331720" cy="7081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90920" y="1981080"/>
            <a:ext cx="5105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pendants does sh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530520" y="-1655640"/>
            <a:ext cx="16052760" cy="10034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2096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her preferred brand of chi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649520" y="-719280"/>
            <a:ext cx="12943080" cy="8089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38280" y="251460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tattoos can you se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187720" y="-949320"/>
            <a:ext cx="13749480" cy="85914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38280" y="22096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name of the cartoon charac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28640" y="-27000"/>
            <a:ext cx="11371320" cy="7107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14600" y="182880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brand of computer is show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93520"/>
            <a:ext cx="77644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t’s see how sharp you ar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st look at the pictures and answer the simple question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nswers are at the en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650880" y="-542880"/>
            <a:ext cx="10293480" cy="8234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14600" y="21337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the pistol s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756720" cy="78055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38280" y="25909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lor are her ey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84120" y="-244440"/>
            <a:ext cx="9680400" cy="7742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14600" y="19051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she dreaming abo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727200" y="-627120"/>
            <a:ext cx="11022120" cy="88567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14600" y="205740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she married or engag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804960" y="-641520"/>
            <a:ext cx="10792080" cy="8634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38280" y="251460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lor is the bathing suit show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60560" y="1163520"/>
            <a:ext cx="574344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stru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ok at the pi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n’t go ba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Write down the 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40" y="-237960"/>
            <a:ext cx="9336240" cy="7468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4600" y="22096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sport is shown in the newspap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266760" y="-541440"/>
            <a:ext cx="10099800" cy="8080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62320" y="2209680"/>
            <a:ext cx="5105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her favorite color to suck 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90440" y="-449280"/>
            <a:ext cx="9682200" cy="7742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438280" y="23623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stone is her necklace made of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12680" y="-27000"/>
            <a:ext cx="9564480" cy="7666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38280" y="24382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chain is holding the k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0" y="-8424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38280" y="26668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kind of motorcycle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  <p:sndAc>
      <p:stSnd>
        <p:snd r:embed="rId2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6360" y="-1602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438280" y="24382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lor is her nail pol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1457280" y="-1455840"/>
            <a:ext cx="11906280" cy="95252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438280" y="2438280"/>
            <a:ext cx="5105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ake of car is the white 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6360" y="-66600"/>
            <a:ext cx="9180360" cy="7343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8280" y="25909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birthstone on the r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0480" y="2133720"/>
            <a:ext cx="6629400" cy="2628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90600" y="1739880"/>
            <a:ext cx="6629400" cy="4158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ubway"/>
              </a:rPr>
              <a:t>Who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ubway"/>
              </a:rPr>
              <a:t>Fuck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ubway"/>
              </a:rPr>
              <a:t>Care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7760" y="1219320"/>
            <a:ext cx="2890800" cy="5011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46000" y="1028880"/>
            <a:ext cx="74120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f you got 1 or more right you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LOS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ou looked at the wrong thing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endshow"/>
          </p:cNvPr>
          <p:cNvSpPr/>
          <p:nvPr/>
        </p:nvSpPr>
        <p:spPr>
          <a:xfrm>
            <a:off x="5916600" y="5388120"/>
            <a:ext cx="3227400" cy="1469880"/>
          </a:xfrm>
          <a:custGeom>
            <a:avLst/>
            <a:gdLst>
              <a:gd name="textAreaLeft" fmla="*/ 95040 w 3227400"/>
              <a:gd name="textAreaRight" fmla="*/ 3132360 w 3227400"/>
              <a:gd name="textAreaTop" fmla="*/ 95040 h 1469880"/>
              <a:gd name="textAreaBottom" fmla="*/ 1374840 h 1469880"/>
            </a:gdLst>
            <a:ahLst/>
            <a:rect l="textAreaLeft" t="textAreaTop" r="textAreaRight" b="textAreaBottom"/>
            <a:pathLst>
              <a:path w="47421" h="21600">
                <a:moveTo>
                  <a:pt x="0" y="0"/>
                </a:moveTo>
                <a:lnTo>
                  <a:pt x="47421" y="0"/>
                </a:lnTo>
                <a:lnTo>
                  <a:pt x="47421" y="21600"/>
                </a:lnTo>
                <a:lnTo>
                  <a:pt x="0" y="21600"/>
                </a:lnTo>
                <a:close/>
              </a:path>
              <a:path fill="lightenLess" w="47421" h="21600">
                <a:moveTo>
                  <a:pt x="0" y="0"/>
                </a:moveTo>
                <a:lnTo>
                  <a:pt x="47421" y="0"/>
                </a:lnTo>
                <a:lnTo>
                  <a:pt x="46021" y="1400"/>
                </a:lnTo>
                <a:lnTo>
                  <a:pt x="1400" y="1400"/>
                </a:lnTo>
                <a:close/>
              </a:path>
              <a:path fill="darken" w="47421" h="21600">
                <a:moveTo>
                  <a:pt x="47421" y="0"/>
                </a:moveTo>
                <a:lnTo>
                  <a:pt x="47421" y="21600"/>
                </a:lnTo>
                <a:lnTo>
                  <a:pt x="46021" y="20200"/>
                </a:lnTo>
                <a:lnTo>
                  <a:pt x="46021" y="1400"/>
                </a:lnTo>
                <a:close/>
              </a:path>
              <a:path fill="darkenLess" w="47421" h="21600">
                <a:moveTo>
                  <a:pt x="47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21" y="20200"/>
                </a:lnTo>
                <a:close/>
              </a:path>
              <a:path fill="lighten" w="47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438280" y="2209680"/>
            <a:ext cx="510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hat beach was the picture tak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27468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0920" y="2057400"/>
            <a:ext cx="51051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diamonds are in the Cr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14600" y="1905120"/>
            <a:ext cx="5105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lor are her sho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6:42:32Z</dcterms:created>
  <dc:creator/>
  <dc:description/>
  <dc:language>en-US</dc:language>
  <cp:lastModifiedBy/>
  <dcterms:modified xsi:type="dcterms:W3CDTF">2006-11-21T22:45:20Z</dcterms:modified>
  <cp:revision>20</cp:revision>
  <dc:subject/>
  <dc:title>Test</dc:title>
</cp:coreProperties>
</file>