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jeopardy.wav" ContentType="audio/x-wav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809-2254-47B9-BDB8-90A4C87A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705-D901-43E0-B4AE-DFBE2D21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362-1EFF-465C-995C-BF45F81F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729-9927-47D5-AA26-174339D1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342D3-C097-4B26-8600-882FB292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B8393-275E-4301-A0D7-49F322AA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70D2D-6322-44B6-B939-F2D3A09D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9A543-E97E-472B-8605-0E93EE03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FE62B-3ABB-409D-8DCB-BBD8ED3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3D204-72EF-476D-9164-21F3809B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D9C25-B845-421A-9264-6FA60F9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99A-9E7C-44C0-854C-D6E5057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6EF2E-6BBD-4DD6-A697-4487361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528A4-F84B-4EE8-AAA5-C2DBD8A5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E997F-49A0-4E1D-92DB-48AFF36F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ACC0-48C0-4F51-A0B4-89FE5684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36126-7448-45A3-96CC-8DACC891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162-C2EA-4CD7-BB2B-09CB201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AD2-DE8F-4037-962F-450159B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DBB-9121-49FC-8813-A0D990B0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09E-7AEB-49F7-AA13-C1F25A5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AA1-60DE-4C7F-9EC9-9672E07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2AC-A61B-42CA-8507-24D3FF1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D35-718E-4FA8-8F17-E5D7E7A1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E168-394D-49F0-9BF1-2D1F15077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9EE-EFD2-4C85-A955-534EE4563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ception T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498680" y="-27000"/>
            <a:ext cx="11331720" cy="7081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1981080"/>
            <a:ext cx="5105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pendants does sh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530520" y="-1655640"/>
            <a:ext cx="16052760" cy="10034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2096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her preferred brand of chi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649520" y="-719280"/>
            <a:ext cx="12943080" cy="8089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38280" y="25146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tattoos can you s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187720" y="-949320"/>
            <a:ext cx="13749480" cy="8591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38280" y="22096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name of the cartoon charac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28640" y="-27000"/>
            <a:ext cx="11371320" cy="7107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18288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brand of computer is sh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93520"/>
            <a:ext cx="77644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t’s see how sharp you ar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st look at the pictures and answer the simple question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nswers are at the en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650880" y="-542880"/>
            <a:ext cx="10293480" cy="8234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14600" y="21337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e pistol s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756720" cy="7805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38280" y="25909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are her ey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84120" y="-244440"/>
            <a:ext cx="9680400" cy="7742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19051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she dreaming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727200" y="-627120"/>
            <a:ext cx="11022120" cy="8856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14600" y="20574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she married or enga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804960" y="-641520"/>
            <a:ext cx="10792080" cy="8634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38280" y="25146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is the bathing suit sh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60560" y="1163520"/>
            <a:ext cx="574344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stru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ok at the pi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’t go ba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Write down the 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0" y="-237960"/>
            <a:ext cx="9336240" cy="7468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4600" y="22096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port is shown in the newspap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266760" y="-541440"/>
            <a:ext cx="10099800" cy="8080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62320" y="2209680"/>
            <a:ext cx="5105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her favorite color to suck 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90440" y="-449280"/>
            <a:ext cx="9682200" cy="7742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38280" y="23623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one is her necklace made of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12680" y="-27000"/>
            <a:ext cx="9564480" cy="7666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38280" y="24382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chain is holding the k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0" y="-8424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38280" y="26668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motorcycle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  <p:sndAc>
      <p:stSnd>
        <p:snd r:embed="rId2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6360" y="-1602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38280" y="24382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is her nail pol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457280" y="-1455840"/>
            <a:ext cx="11906280" cy="95252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38280" y="24382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ake of car is the white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6360" y="-66600"/>
            <a:ext cx="9180360" cy="7343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8280" y="25909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birthstone on the r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0480" y="2133720"/>
            <a:ext cx="6629400" cy="262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90600" y="1739880"/>
            <a:ext cx="6629400" cy="415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ubway"/>
              </a:rPr>
              <a:t>Who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ubway"/>
              </a:rPr>
              <a:t>Fuck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ubway"/>
              </a:rPr>
              <a:t>Care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7760" y="1219320"/>
            <a:ext cx="2890800" cy="5011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46000" y="1028880"/>
            <a:ext cx="74120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f you got 1 or more right you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LOS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ou looked at the wrong thing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endshow"/>
          </p:cNvPr>
          <p:cNvSpPr/>
          <p:nvPr/>
        </p:nvSpPr>
        <p:spPr>
          <a:xfrm>
            <a:off x="5916600" y="5388120"/>
            <a:ext cx="3227400" cy="1469880"/>
          </a:xfrm>
          <a:custGeom>
            <a:avLst/>
            <a:gdLst>
              <a:gd name="textAreaLeft" fmla="*/ 95040 w 3227400"/>
              <a:gd name="textAreaRight" fmla="*/ 3132360 w 3227400"/>
              <a:gd name="textAreaTop" fmla="*/ 95040 h 1469880"/>
              <a:gd name="textAreaBottom" fmla="*/ 1374840 h 1469880"/>
            </a:gdLst>
            <a:ahLst/>
            <a:rect l="textAreaLeft" t="textAreaTop" r="textAreaRight" b="textAreaBottom"/>
            <a:pathLst>
              <a:path w="47421" h="21600">
                <a:moveTo>
                  <a:pt x="0" y="0"/>
                </a:moveTo>
                <a:lnTo>
                  <a:pt x="47421" y="0"/>
                </a:lnTo>
                <a:lnTo>
                  <a:pt x="47421" y="21600"/>
                </a:lnTo>
                <a:lnTo>
                  <a:pt x="0" y="21600"/>
                </a:lnTo>
                <a:close/>
              </a:path>
              <a:path fill="lightenLess" w="47421" h="21600">
                <a:moveTo>
                  <a:pt x="0" y="0"/>
                </a:moveTo>
                <a:lnTo>
                  <a:pt x="47421" y="0"/>
                </a:lnTo>
                <a:lnTo>
                  <a:pt x="46021" y="1400"/>
                </a:lnTo>
                <a:lnTo>
                  <a:pt x="1400" y="1400"/>
                </a:lnTo>
                <a:close/>
              </a:path>
              <a:path fill="darken" w="47421" h="21600">
                <a:moveTo>
                  <a:pt x="47421" y="0"/>
                </a:moveTo>
                <a:lnTo>
                  <a:pt x="47421" y="21600"/>
                </a:lnTo>
                <a:lnTo>
                  <a:pt x="46021" y="20200"/>
                </a:lnTo>
                <a:lnTo>
                  <a:pt x="46021" y="1400"/>
                </a:lnTo>
                <a:close/>
              </a:path>
              <a:path fill="darkenLess" w="47421" h="21600">
                <a:moveTo>
                  <a:pt x="47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21" y="20200"/>
                </a:lnTo>
                <a:close/>
              </a:path>
              <a:path fill="lighten" w="47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38280" y="220968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beach was the picture ta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0920" y="2057400"/>
            <a:ext cx="5105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diamonds are in the 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14600" y="19051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are her sho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6:42:32Z</dcterms:created>
  <dc:creator/>
  <dc:description/>
  <dc:language>en-US</dc:language>
  <cp:lastModifiedBy/>
  <dcterms:modified xsi:type="dcterms:W3CDTF">2006-11-21T22:45:20Z</dcterms:modified>
  <cp:revision>20</cp:revision>
  <dc:subject/>
  <dc:title>Test</dc:title>
</cp:coreProperties>
</file>