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84C-CF3B-4209-830C-96A987CA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EE5-7D3F-4CDC-8C93-499F6BCB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D52-8BD0-4665-8D2D-DECA21AC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E86-E559-4C81-9C0B-A2D623FB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21F-D28C-4AFC-ACF6-E10A5D68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5BF-0F4C-45E9-AEF9-6CA02FC7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6CE-00E5-4524-93BD-C1D905BE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6CB-CDA4-4DC4-9E24-8A9AFFF6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0D9-A7E2-49C9-B7BB-8786C1B3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C20-1E7E-48C6-AAA0-0372734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137-59D5-4FCB-A38B-1E591A2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B71-AD42-432A-8AED-0713B866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D52E-9644-4B96-8710-32FFBE19A5E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7.sphotos.ak.fbcdn.net/hphotos-ak-ash3/s320x320/544883_180882948697538_145485292237304_283145_108871003_n.jpg"/>
          <p:cNvPicPr/>
          <p:nvPr/>
        </p:nvPicPr>
        <p:blipFill>
          <a:blip r:embed="rId1"/>
          <a:stretch/>
        </p:blipFill>
        <p:spPr>
          <a:xfrm>
            <a:off x="425520" y="928800"/>
            <a:ext cx="7926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a4.sphotos.ak.fbcdn.net/hphotos-ak-ash4/425661_353640548001459_224620194236829_1113019_2120185502_n.jpg"/>
          <p:cNvPicPr/>
          <p:nvPr/>
        </p:nvPicPr>
        <p:blipFill>
          <a:blip r:embed="rId1"/>
          <a:stretch/>
        </p:blipFill>
        <p:spPr>
          <a:xfrm>
            <a:off x="1042920" y="320760"/>
            <a:ext cx="72471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a3.sphotos.ak.fbcdn.net/hphotos-ak-ash3/536810_368023266563187_224620194236829_1153591_686265224_n.jpg"/>
          <p:cNvPicPr/>
          <p:nvPr/>
        </p:nvPicPr>
        <p:blipFill>
          <a:blip r:embed="rId1"/>
          <a:stretch/>
        </p:blipFill>
        <p:spPr>
          <a:xfrm>
            <a:off x="1500120" y="585720"/>
            <a:ext cx="6921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a2.sphotos.ak.fbcdn.net/hphotos-ak-prn1/553118_367787736586740_224620194236829_1152973_81460216_n.jpg"/>
          <p:cNvPicPr/>
          <p:nvPr/>
        </p:nvPicPr>
        <p:blipFill>
          <a:blip r:embed="rId1"/>
          <a:stretch/>
        </p:blipFill>
        <p:spPr>
          <a:xfrm>
            <a:off x="785880" y="627120"/>
            <a:ext cx="67388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a5.sphotos.ak.fbcdn.net/hphotos-ak-ash3/555934_366530103379170_224620194236829_1149984_743925391_n.jpg"/>
          <p:cNvPicPr/>
          <p:nvPr/>
        </p:nvPicPr>
        <p:blipFill>
          <a:blip r:embed="rId1"/>
          <a:stretch/>
        </p:blipFill>
        <p:spPr>
          <a:xfrm>
            <a:off x="928800" y="465120"/>
            <a:ext cx="59468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a1.sphotos.ak.fbcdn.net/hphotos-ak-ash4/424439_362915250407322_224620194236829_1138360_1689290198_n.jpg"/>
          <p:cNvPicPr/>
          <p:nvPr/>
        </p:nvPicPr>
        <p:blipFill>
          <a:blip r:embed="rId1"/>
          <a:stretch/>
        </p:blipFill>
        <p:spPr>
          <a:xfrm>
            <a:off x="2050920" y="582480"/>
            <a:ext cx="54738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a8.sphotos.ak.fbcdn.net/hphotos-ak-ash4/409609_365589833473197_224620194236829_1146760_879483648_n.jpg"/>
          <p:cNvPicPr/>
          <p:nvPr/>
        </p:nvPicPr>
        <p:blipFill>
          <a:blip r:embed="rId1"/>
          <a:stretch/>
        </p:blipFill>
        <p:spPr>
          <a:xfrm>
            <a:off x="857160" y="880920"/>
            <a:ext cx="67392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a3.sphotos.ak.fbcdn.net/hphotos-ak-snc7/419367_364154703616710_224620194236829_1142148_467122394_n.jpg"/>
          <p:cNvPicPr/>
          <p:nvPr/>
        </p:nvPicPr>
        <p:blipFill>
          <a:blip r:embed="rId1"/>
          <a:stretch/>
        </p:blipFill>
        <p:spPr>
          <a:xfrm>
            <a:off x="826920" y="590400"/>
            <a:ext cx="79297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a7.sphotos.ak.fbcdn.net/hphotos-ak-ash3/528171_380026842019374_139713576050703_1246082_630117426_n.jpg"/>
          <p:cNvPicPr/>
          <p:nvPr/>
        </p:nvPicPr>
        <p:blipFill>
          <a:blip r:embed="rId1"/>
          <a:stretch/>
        </p:blipFill>
        <p:spPr>
          <a:xfrm>
            <a:off x="500040" y="201600"/>
            <a:ext cx="78883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a5.sphotos.ak.fbcdn.net/hphotos-ak-ash3/530928_321160274609677_100001471209687_871144_455978540_n.jpg"/>
          <p:cNvPicPr/>
          <p:nvPr/>
        </p:nvPicPr>
        <p:blipFill>
          <a:blip r:embed="rId1"/>
          <a:stretch/>
        </p:blipFill>
        <p:spPr>
          <a:xfrm>
            <a:off x="593640" y="511200"/>
            <a:ext cx="7939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a3.sphotos.ak.fbcdn.net/hphotos-ak-prn1/557781_372079962824184_224620194236829_1166990_1761541534_n.jpg"/>
          <p:cNvPicPr/>
          <p:nvPr/>
        </p:nvPicPr>
        <p:blipFill>
          <a:blip r:embed="rId1"/>
          <a:stretch/>
        </p:blipFill>
        <p:spPr>
          <a:xfrm>
            <a:off x="928800" y="351000"/>
            <a:ext cx="73152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a7.sphotos.ak.fbcdn.net/hphotos-ak-ash4/480891_372214449477402_224620194236829_1167227_2131261260_n.jpg"/>
          <p:cNvPicPr/>
          <p:nvPr/>
        </p:nvPicPr>
        <p:blipFill>
          <a:blip r:embed="rId1"/>
          <a:stretch/>
        </p:blipFill>
        <p:spPr>
          <a:xfrm>
            <a:off x="1042920" y="426960"/>
            <a:ext cx="66247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a5.sphotos.ak.fbcdn.net/hphotos-ak-snc7/292247_370847596280754_224620194236829_1163504_2044149481_n.jpg"/>
          <p:cNvPicPr/>
          <p:nvPr/>
        </p:nvPicPr>
        <p:blipFill>
          <a:blip r:embed="rId1"/>
          <a:stretch/>
        </p:blipFill>
        <p:spPr>
          <a:xfrm>
            <a:off x="1332000" y="558720"/>
            <a:ext cx="6912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a1.sphotos.ak.fbcdn.net/hphotos-ak-prn1/548885_370388662993314_224620194236829_1162458_1557675328_n.jpg"/>
          <p:cNvPicPr/>
          <p:nvPr/>
        </p:nvPicPr>
        <p:blipFill>
          <a:blip r:embed="rId1"/>
          <a:stretch/>
        </p:blipFill>
        <p:spPr>
          <a:xfrm>
            <a:off x="1187280" y="895320"/>
            <a:ext cx="73216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a3.sphotos.ak.fbcdn.net/hphotos-ak-ash4/383557_370124236353090_224620194236829_1162027_621500016_n.jpg"/>
          <p:cNvPicPr/>
          <p:nvPr/>
        </p:nvPicPr>
        <p:blipFill>
          <a:blip r:embed="rId1"/>
          <a:stretch/>
        </p:blipFill>
        <p:spPr>
          <a:xfrm>
            <a:off x="857160" y="907920"/>
            <a:ext cx="74772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a3.sphotos.ak.fbcdn.net/hphotos-ak-snc7/419404_359172867448227_224620194236829_1128251_212618646_n.jpg"/>
          <p:cNvPicPr/>
          <p:nvPr/>
        </p:nvPicPr>
        <p:blipFill>
          <a:blip r:embed="rId1"/>
          <a:stretch/>
        </p:blipFill>
        <p:spPr>
          <a:xfrm>
            <a:off x="755640" y="112680"/>
            <a:ext cx="727236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3:47:09Z</dcterms:created>
  <dc:creator>WINDOWS XP</dc:creator>
  <dc:description/>
  <dc:language>en-US</dc:language>
  <cp:lastModifiedBy>German</cp:lastModifiedBy>
  <dcterms:modified xsi:type="dcterms:W3CDTF">2012-04-21T03:08:59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546065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