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02A-0A1C-42D5-AFE8-87421E02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74A-D04D-4DBE-AFF7-DFDC7D7D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06E-3B82-477B-9C95-0DCBC54F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2C5-2201-4BDE-8D41-84D66F01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057-9B2B-4F7C-BE4D-69E2631C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830-6612-4AF5-8742-BF905254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321-7528-4D02-B601-FF873499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A35-804D-4390-99B7-5010D2E3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01D-AD9C-4EDA-A8C3-D495C010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859-A076-485C-A7B0-AE58AA6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87C-41D5-47FA-BC0F-AF1019E9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D3B-CA8C-4A69-AA04-F4CF881E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1FB9-EB3B-4A7B-9E29-503582DCDF1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7.sphotos.ak.fbcdn.net/hphotos-ak-ash3/s320x320/544883_180882948697538_145485292237304_283145_108871003_n.jpg"/>
          <p:cNvPicPr/>
          <p:nvPr/>
        </p:nvPicPr>
        <p:blipFill>
          <a:blip r:embed="rId1"/>
          <a:stretch/>
        </p:blipFill>
        <p:spPr>
          <a:xfrm>
            <a:off x="425520" y="928800"/>
            <a:ext cx="7926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a4.sphotos.ak.fbcdn.net/hphotos-ak-ash4/425661_353640548001459_224620194236829_1113019_2120185502_n.jpg"/>
          <p:cNvPicPr/>
          <p:nvPr/>
        </p:nvPicPr>
        <p:blipFill>
          <a:blip r:embed="rId1"/>
          <a:stretch/>
        </p:blipFill>
        <p:spPr>
          <a:xfrm>
            <a:off x="1042920" y="320760"/>
            <a:ext cx="72471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a3.sphotos.ak.fbcdn.net/hphotos-ak-ash3/536810_368023266563187_224620194236829_1153591_686265224_n.jpg"/>
          <p:cNvPicPr/>
          <p:nvPr/>
        </p:nvPicPr>
        <p:blipFill>
          <a:blip r:embed="rId1"/>
          <a:stretch/>
        </p:blipFill>
        <p:spPr>
          <a:xfrm>
            <a:off x="1500120" y="585720"/>
            <a:ext cx="6921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a2.sphotos.ak.fbcdn.net/hphotos-ak-prn1/553118_367787736586740_224620194236829_1152973_81460216_n.jpg"/>
          <p:cNvPicPr/>
          <p:nvPr/>
        </p:nvPicPr>
        <p:blipFill>
          <a:blip r:embed="rId1"/>
          <a:stretch/>
        </p:blipFill>
        <p:spPr>
          <a:xfrm>
            <a:off x="785880" y="627120"/>
            <a:ext cx="67388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a5.sphotos.ak.fbcdn.net/hphotos-ak-ash3/555934_366530103379170_224620194236829_1149984_743925391_n.jpg"/>
          <p:cNvPicPr/>
          <p:nvPr/>
        </p:nvPicPr>
        <p:blipFill>
          <a:blip r:embed="rId1"/>
          <a:stretch/>
        </p:blipFill>
        <p:spPr>
          <a:xfrm>
            <a:off x="928800" y="465120"/>
            <a:ext cx="59468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a1.sphotos.ak.fbcdn.net/hphotos-ak-ash4/424439_362915250407322_224620194236829_1138360_1689290198_n.jpg"/>
          <p:cNvPicPr/>
          <p:nvPr/>
        </p:nvPicPr>
        <p:blipFill>
          <a:blip r:embed="rId1"/>
          <a:stretch/>
        </p:blipFill>
        <p:spPr>
          <a:xfrm>
            <a:off x="2050920" y="582480"/>
            <a:ext cx="54738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a8.sphotos.ak.fbcdn.net/hphotos-ak-ash4/409609_365589833473197_224620194236829_1146760_879483648_n.jpg"/>
          <p:cNvPicPr/>
          <p:nvPr/>
        </p:nvPicPr>
        <p:blipFill>
          <a:blip r:embed="rId1"/>
          <a:stretch/>
        </p:blipFill>
        <p:spPr>
          <a:xfrm>
            <a:off x="857160" y="880920"/>
            <a:ext cx="67392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a3.sphotos.ak.fbcdn.net/hphotos-ak-snc7/419367_364154703616710_224620194236829_1142148_467122394_n.jpg"/>
          <p:cNvPicPr/>
          <p:nvPr/>
        </p:nvPicPr>
        <p:blipFill>
          <a:blip r:embed="rId1"/>
          <a:stretch/>
        </p:blipFill>
        <p:spPr>
          <a:xfrm>
            <a:off x="826920" y="590400"/>
            <a:ext cx="79297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a7.sphotos.ak.fbcdn.net/hphotos-ak-ash3/528171_380026842019374_139713576050703_1246082_630117426_n.jpg"/>
          <p:cNvPicPr/>
          <p:nvPr/>
        </p:nvPicPr>
        <p:blipFill>
          <a:blip r:embed="rId1"/>
          <a:stretch/>
        </p:blipFill>
        <p:spPr>
          <a:xfrm>
            <a:off x="500040" y="201600"/>
            <a:ext cx="78883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a5.sphotos.ak.fbcdn.net/hphotos-ak-ash3/530928_321160274609677_100001471209687_871144_455978540_n.jpg"/>
          <p:cNvPicPr/>
          <p:nvPr/>
        </p:nvPicPr>
        <p:blipFill>
          <a:blip r:embed="rId1"/>
          <a:stretch/>
        </p:blipFill>
        <p:spPr>
          <a:xfrm>
            <a:off x="593640" y="511200"/>
            <a:ext cx="7939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a3.sphotos.ak.fbcdn.net/hphotos-ak-prn1/557781_372079962824184_224620194236829_1166990_1761541534_n.jpg"/>
          <p:cNvPicPr/>
          <p:nvPr/>
        </p:nvPicPr>
        <p:blipFill>
          <a:blip r:embed="rId1"/>
          <a:stretch/>
        </p:blipFill>
        <p:spPr>
          <a:xfrm>
            <a:off x="928800" y="351000"/>
            <a:ext cx="73152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a7.sphotos.ak.fbcdn.net/hphotos-ak-ash4/480891_372214449477402_224620194236829_1167227_2131261260_n.jpg"/>
          <p:cNvPicPr/>
          <p:nvPr/>
        </p:nvPicPr>
        <p:blipFill>
          <a:blip r:embed="rId1"/>
          <a:stretch/>
        </p:blipFill>
        <p:spPr>
          <a:xfrm>
            <a:off x="1042920" y="426960"/>
            <a:ext cx="66247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a5.sphotos.ak.fbcdn.net/hphotos-ak-snc7/292247_370847596280754_224620194236829_1163504_2044149481_n.jpg"/>
          <p:cNvPicPr/>
          <p:nvPr/>
        </p:nvPicPr>
        <p:blipFill>
          <a:blip r:embed="rId1"/>
          <a:stretch/>
        </p:blipFill>
        <p:spPr>
          <a:xfrm>
            <a:off x="1332000" y="558720"/>
            <a:ext cx="6912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a1.sphotos.ak.fbcdn.net/hphotos-ak-prn1/548885_370388662993314_224620194236829_1162458_1557675328_n.jpg"/>
          <p:cNvPicPr/>
          <p:nvPr/>
        </p:nvPicPr>
        <p:blipFill>
          <a:blip r:embed="rId1"/>
          <a:stretch/>
        </p:blipFill>
        <p:spPr>
          <a:xfrm>
            <a:off x="1187280" y="895320"/>
            <a:ext cx="73216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a3.sphotos.ak.fbcdn.net/hphotos-ak-ash4/383557_370124236353090_224620194236829_1162027_621500016_n.jpg"/>
          <p:cNvPicPr/>
          <p:nvPr/>
        </p:nvPicPr>
        <p:blipFill>
          <a:blip r:embed="rId1"/>
          <a:stretch/>
        </p:blipFill>
        <p:spPr>
          <a:xfrm>
            <a:off x="857160" y="907920"/>
            <a:ext cx="74772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a3.sphotos.ak.fbcdn.net/hphotos-ak-snc7/419404_359172867448227_224620194236829_1128251_212618646_n.jpg"/>
          <p:cNvPicPr/>
          <p:nvPr/>
        </p:nvPicPr>
        <p:blipFill>
          <a:blip r:embed="rId1"/>
          <a:stretch/>
        </p:blipFill>
        <p:spPr>
          <a:xfrm>
            <a:off x="755640" y="112680"/>
            <a:ext cx="727236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3:47:09Z</dcterms:created>
  <dc:creator>WINDOWS XP</dc:creator>
  <dc:description/>
  <dc:language>en-US</dc:language>
  <cp:lastModifiedBy>German</cp:lastModifiedBy>
  <dcterms:modified xsi:type="dcterms:W3CDTF">2012-04-21T03:08:59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546065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